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png" ContentType="image/png"/>
  <Override PartName="/ppt/media/image2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24.jpeg" ContentType="image/jpeg"/>
  <Override PartName="/ppt/media/image15.png" ContentType="image/png"/>
  <Override PartName="/ppt/media/image30.png" ContentType="image/png"/>
  <Override PartName="/ppt/media/image3.jpeg" ContentType="image/jpeg"/>
  <Override PartName="/ppt/media/image12.gif" ContentType="image/gif"/>
  <Override PartName="/ppt/media/image31.png" ContentType="image/png"/>
  <Override PartName="/ppt/media/image13.png" ContentType="image/png"/>
  <Override PartName="/ppt/media/image1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19.jpeg" ContentType="image/jpeg"/>
  <Override PartName="/ppt/media/image21.png" ContentType="image/png"/>
  <Override PartName="/ppt/media/image26.gif" ContentType="image/gif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5B321-3A2B-45B3-979C-2D0AE88BD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9F9B1-9AF5-4F78-87AC-73F4C4BEF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C5DE1-593E-4D8A-883D-25350C337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CA6DA-923F-4A91-A6F7-79C07D3AA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0CC74-E615-435D-8410-032E98ADF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B89D3-3CF3-41A3-877A-F9A5FE690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DF7F0-ADBA-49AC-B787-74F1AF99C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4159F-7431-47CE-AA88-75C703A2E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318E7-2B3C-4FA2-BCF9-A4838E63F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53CB0-6701-4FCB-AF0D-F91A94E05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B3EB6-1C4E-4B0A-986C-29539E16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A0A7D-E745-49AB-A0B0-E8CE9B23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4D629-F73E-4764-88FC-A47756C9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E857E-94F1-4580-8125-DDA3EB36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AFFD9-3D70-4F87-8EAE-F4077BB7B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33E0A-7C08-4F74-A11D-57E34E02F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7AE80-D1C6-4530-8A78-1B397341E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3401B-4A02-4055-A7DE-9E6A6B435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59809-0B21-4149-9933-A1CDB5A9A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EDC51-A75E-43DB-AE0A-148EF3BCB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82286-7FAD-4671-9135-E4FCA08F4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33528-1BEB-4EED-80E7-26530102E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14F74-D963-41AB-ADE5-C84A4CA83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E9614-63EF-41F5-9439-3844C16EB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5C8A6-4695-4A00-8BBF-B37FD7FA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2F7FA-3722-401F-94FB-1D08CA8C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764B5-293D-4E1E-B98E-C3FBEEAA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EFA50-1FB9-4524-92FC-5FD99FBA7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611DC-20AE-4822-BD97-2F977BC05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5E69F-B1BA-4F44-AED4-E297579B5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FA81F-4BC2-4D0B-9922-CC9009749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B3E29-FA55-4D37-A70B-16939BEC0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BABA3-EB86-46E8-A6E1-5848135E2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DA088-799B-47EE-A188-F2333852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F869E-59B5-4D3F-A651-7306B5D2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BB5E7-4FD1-4803-8CE7-6004BFAC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F9DF3-C19B-4460-B505-1B0705491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AA237-1481-4C93-9EFB-9EFDA13C2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1302F-7595-46A8-9799-203C5479FDE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2.g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¿CUÁL E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6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8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6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15874-3B41-4C8E-A890-2A0A866B546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-108000" y="476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Pagina 16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C18E1-E40E-4766-A578-47248DA78A9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B57CF-C981-413C-9C52-6D05B0B01B5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8317B-17B3-494B-BCC2-D8021AD9959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7" name="Picture 8" descr=""/>
          <p:cNvPicPr/>
          <p:nvPr/>
        </p:nvPicPr>
        <p:blipFill>
          <a:blip r:embed="rId1"/>
          <a:stretch/>
        </p:blipFill>
        <p:spPr>
          <a:xfrm>
            <a:off x="3124080" y="115920"/>
            <a:ext cx="2951280" cy="6608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6B1A-ECCE-4A04-9042-E4CF77D26C8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8" descr=""/>
          <p:cNvPicPr/>
          <p:nvPr/>
        </p:nvPicPr>
        <p:blipFill>
          <a:blip r:embed="rId1"/>
          <a:stretch/>
        </p:blipFill>
        <p:spPr>
          <a:xfrm>
            <a:off x="539640" y="44280"/>
            <a:ext cx="8209080" cy="6716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A26AD-4B51-4D7E-A416-3CEA22A1CBE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1403280" y="44280"/>
            <a:ext cx="6697800" cy="6697800"/>
            <a:chOff x="1403280" y="44280"/>
            <a:chExt cx="6697800" cy="6697800"/>
          </a:xfrm>
        </p:grpSpPr>
        <p:pic>
          <p:nvPicPr>
            <p:cNvPr id="182" name="Picture 1" descr=""/>
            <p:cNvPicPr/>
            <p:nvPr/>
          </p:nvPicPr>
          <p:blipFill>
            <a:blip r:embed="rId1"/>
            <a:stretch/>
          </p:blipFill>
          <p:spPr>
            <a:xfrm>
              <a:off x="1403280" y="44280"/>
              <a:ext cx="6697800" cy="669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Rectangle 2"/>
            <p:cNvSpPr/>
            <p:nvPr/>
          </p:nvSpPr>
          <p:spPr>
            <a:xfrm>
              <a:off x="4716000" y="3573360"/>
              <a:ext cx="2520720" cy="115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55B89-FC74-4892-8C00-7C611566579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5" name="Picture 1" descr=""/>
          <p:cNvPicPr/>
          <p:nvPr/>
        </p:nvPicPr>
        <p:blipFill>
          <a:blip r:embed="rId1"/>
          <a:stretch/>
        </p:blipFill>
        <p:spPr>
          <a:xfrm>
            <a:off x="1187280" y="85680"/>
            <a:ext cx="6480360" cy="6688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FD080-6DC5-41B0-B359-F4BC2B35CF8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9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http://3.bp.blogspot.com/-OLRKKawkuyQ/Unj_fI0ogqI/AAAAAAAADpo/EuutEgA8PZw/s1600/meeting1.jpg"/>
          <p:cNvPicPr/>
          <p:nvPr/>
        </p:nvPicPr>
        <p:blipFill>
          <a:blip r:embed="rId2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1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DE53D-4AA6-4C10-BACE-13B16956152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F8E87-935A-4ED8-B439-DC240E05F02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0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86BEA-2F97-4122-AFB8-1DADC301A1B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2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1042920" y="3645000"/>
            <a:ext cx="287964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0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187280" y="2060640"/>
            <a:ext cx="748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503280" y="3500280"/>
            <a:ext cx="8172360" cy="31687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"/>
          <p:cNvSpPr/>
          <p:nvPr/>
        </p:nvSpPr>
        <p:spPr>
          <a:xfrm>
            <a:off x="684360" y="189000"/>
            <a:ext cx="7991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  <a:ea typeface="Arial"/>
              </a:rPr>
              <a:t>Proverbs 29:18 dice: “Donde no hay visión, el pueblo se extravía;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E4BBA-19C8-4963-B4F0-D9632D09342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BF8BA-9DFD-4341-81E3-D78F18E91D5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s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1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0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3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1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6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1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6" dur="5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1" dur="5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6" dur="500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61EDC-A873-4DB7-B173-EC2CC8F9604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5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0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3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0A5BD-CAF8-4F61-992F-C5F32158C77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0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0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3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8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78C62-1F00-408F-BF77-18E0B317CCA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1"/>
          <a:stretch/>
        </p:blipFill>
        <p:spPr>
          <a:xfrm>
            <a:off x="520560" y="2946240"/>
            <a:ext cx="2705400" cy="3810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0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0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8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697C3-9B96-4804-A3FD-624EAD0EFD2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0" y="-27000"/>
            <a:ext cx="914400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Respuestas: p. 21, 27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8"/>
          <p:cNvSpPr/>
          <p:nvPr/>
        </p:nvSpPr>
        <p:spPr>
          <a:xfrm>
            <a:off x="0" y="1341360"/>
            <a:ext cx="914400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ON ES UNA CLARA IMAGEN DE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EJOR 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DADO P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O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QUE MUEVE A UNA PERSONA A CREER NO SOLAMENTE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UED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SINO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B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7" descr="http://pinchofgrace.files.wordpress.com/2011/08/silhouette-of-woman-praying.jpg"/>
          <p:cNvPicPr/>
          <p:nvPr/>
        </p:nvPicPr>
        <p:blipFill>
          <a:blip r:embed="rId1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5" descr="http://ec.l.thumbs.canstockphoto.com/canstock2777881.jpg"/>
          <p:cNvPicPr/>
          <p:nvPr/>
        </p:nvPicPr>
        <p:blipFill>
          <a:blip r:embed="rId1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21360" y="1181160"/>
            <a:ext cx="207036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14:14Z</dcterms:modified>
  <cp:revision>89</cp:revision>
  <dc:subject/>
  <dc:title>PowerPoint Presentation</dc:title>
</cp:coreProperties>
</file>