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3B4A7-755A-4725-9B91-DE47B5E08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38FAC-DEA4-4680-99EF-D308F526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118A6-2E19-4656-914D-86C626DA4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96A86-853D-455F-98D0-34368017F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04A4-5D4C-4E03-B7CF-ECA4D3F04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762C-2C4F-4DFE-AF36-BC67D7DF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D235-FBB7-4200-B5B6-5B1842AB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B3E4-7532-48C0-8628-1388FBA1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6238-0C73-417A-AC7F-3041C722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E3D4-F4F0-40B8-9621-2C289B42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88CA-0B9B-487E-BCE2-5A0629B2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BDAB6-3DA5-4938-940B-8DC39C7C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0F8A-AE24-4904-BC5A-D9C721D1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DE78-2A9F-48E5-83D3-104F6525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F90E-80E2-4691-B736-F589CEF5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B72B-192B-4025-9D39-6885598AF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A2EA-E283-4155-B66C-8667568CA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EEA1B-0C95-4B33-A089-7DACA527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4EA5C-9943-4C83-8F48-F72F0C52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BE1EE-3ED3-41C7-9CB2-01FD8CE0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AFC87-D5F8-4640-8D2D-968F8F42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3E099-11EF-47FB-BC5F-B590CCB0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FED9C-A091-4CCE-9FE3-E9F1A66E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F3A7F-48BA-4CDE-A297-10E8DCFE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964D-81CD-40BB-ACF9-777587341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25EB-AE07-42FD-8CE0-027F402E9B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¿CUÁL ES 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1580-96B0-4B12-AE79-EFAE41E04A7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332000" y="83664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85640" y="2708280"/>
            <a:ext cx="817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0" y="1341360"/>
            <a:ext cx="9144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IMAGEN DE UN MEJOR MAÑANA, DADO POR DIOS, QUE MUEVE A UNA PERSONA A CREER NO SOLAMENTE QUÉ PUEDE SER HECHO, SINO QUÉ DEBE SER HECH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7" descr="http://pinchofgrace.files.wordpress.com/2011/08/silhouette-of-woman-praying.jpg"/>
          <p:cNvPicPr/>
          <p:nvPr/>
        </p:nvPicPr>
        <p:blipFill>
          <a:blip r:embed="rId1"/>
          <a:srcRect l="10321" t="5359" r="5848" b="3805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5" descr="http://ec.l.thumbs.canstockphoto.com/canstock2777881.jpg"/>
          <p:cNvPicPr/>
          <p:nvPr/>
        </p:nvPicPr>
        <p:blipFill>
          <a:blip r:embed="rId1"/>
          <a:srcRect l="3420" t="21882" r="0" b="20314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31080" y="1182600"/>
            <a:ext cx="2047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7:13Z</dcterms:modified>
  <cp:revision>77</cp:revision>
  <dc:subject/>
  <dc:title>PowerPoint Presentation</dc:title>
</cp:coreProperties>
</file>