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7.png" ContentType="image/png"/>
  <Override PartName="/ppt/media/image29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8.jpeg" ContentType="image/jpeg"/>
  <Override PartName="/ppt/media/image5.png" ContentType="image/png"/>
  <Override PartName="/ppt/media/image28.png" ContentType="image/png"/>
  <Override PartName="/ppt/media/image24.jpeg" ContentType="image/jpeg"/>
  <Override PartName="/ppt/media/image15.png" ContentType="image/png"/>
  <Override PartName="/ppt/media/image30.png" ContentType="image/png"/>
  <Override PartName="/ppt/media/image3.jpeg" ContentType="image/jpeg"/>
  <Override PartName="/ppt/media/image12.gif" ContentType="image/gif"/>
  <Override PartName="/ppt/media/image31.png" ContentType="image/png"/>
  <Override PartName="/ppt/media/image13.png" ContentType="image/png"/>
  <Override PartName="/ppt/media/image11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0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19.jpeg" ContentType="image/jpeg"/>
  <Override PartName="/ppt/media/image21.png" ContentType="image/png"/>
  <Override PartName="/ppt/media/image26.gif" ContentType="image/gif"/>
  <Override PartName="/ppt/media/image2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EA8A69-A121-412D-8F89-702BDA5A3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C55AFC-659D-49EA-9983-9A98EB150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2D9992-33BD-4401-B72E-28FF3B0F1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34B7C1-D4B2-4AE4-8A86-0CB40D658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B7AD5-3BBA-448B-9E19-8BE966136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4A30D-D026-42A8-9C8B-4B732861F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335F0-B6E6-40F1-A40C-A9586ED7D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B6AD5-70C4-411D-AF47-44EA004D0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355AA-85B8-4B05-A1DD-B6C3A5E41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B80C6-E72E-4C4A-8449-CFEB5A5E6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6622E-2649-4894-B2A3-57DAC38C6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AFE295-7257-4A4A-9004-300B53FA5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0223A-3554-4F2D-9F93-0008FDC25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FD917-73FC-49FB-904B-6F4EF6D10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1CF04-8590-41AD-B91B-54A0B95B0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59C1F-B506-4EF2-9995-E7E551C17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DA9C2-F4D4-4E8E-9003-F9ADF2008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A00E69-5345-463B-B077-8A4517D62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A1CB3A-5654-4960-9DF0-58B7544FD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55D472-447D-4988-BD69-838E7FB69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3E4374-E3CF-4707-A4CB-969945386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BD829B-B8DD-490E-B5D7-DC1881702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6D65F5-11A9-4133-A574-059A361C1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5A3D97-D9D0-460E-8FCB-25BAD4C64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B9C091-3746-4AF4-9910-D6D3BBF8B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44B5F3-F5E1-4A64-A063-BA048C813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DA0A3B-2BD6-4BAC-8332-05AC6FF80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61AF9A-644A-4283-B83D-F97B2F0A9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F612DD-3C77-42E4-9F7F-8133895E6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930E40-5BCA-4F79-B629-FC178AFD4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EED187-8789-4B70-ACDE-03D2B4E99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0E2B6F-3879-4E27-BD1B-8D2B8C4BD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909397-C8D0-4177-8748-E3DCA6733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21561C-8E23-4603-991B-3BD42B25E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75244F-8C62-4DBC-B948-94652D951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3A179C-C59D-4A5D-9919-0EDCF4BE9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FE262-310B-4755-A5C1-5BC2F2CE39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2E8EC-591D-4837-BC1A-4B1E3C08DF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D741C-6373-4D77-AC6C-751C38391B5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iequip.org/ce/index.php?module=ContentExpress&amp;func=display&amp;ceid=2&amp;mid=-1" TargetMode="External"/><Relationship Id="rId2" Type="http://schemas.openxmlformats.org/officeDocument/2006/relationships/image" Target="../media/image12.gi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LABOR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6" name="Picture 6" descr="ttp://content.everydayhealth.com/wte3.0/gcms/surprising-labor-and-delivery-facts-woman-in-labor-full.jpg"/>
          <p:cNvPicPr/>
          <p:nvPr/>
        </p:nvPicPr>
        <p:blipFill>
          <a:blip r:embed="rId1"/>
          <a:stretch/>
        </p:blipFill>
        <p:spPr>
          <a:xfrm>
            <a:off x="592200" y="1773360"/>
            <a:ext cx="3384360" cy="338112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1"/>
          <p:cNvSpPr/>
          <p:nvPr/>
        </p:nvSpPr>
        <p:spPr>
          <a:xfrm>
            <a:off x="4567320" y="2470320"/>
            <a:ext cx="36734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cluya dolor y luch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 una buena señal de que algo está por sucede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5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NACIMIEN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Es un celebración!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0" name="Picture 7" descr="http://sapiengames.com/wp-content/uploads/2014/09/stork.png"/>
          <p:cNvPicPr/>
          <p:nvPr/>
        </p:nvPicPr>
        <p:blipFill>
          <a:blip r:embed="rId1"/>
          <a:stretch/>
        </p:blipFill>
        <p:spPr>
          <a:xfrm>
            <a:off x="5724360" y="1197000"/>
            <a:ext cx="2737080" cy="35082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"/>
          <p:cNvPicPr/>
          <p:nvPr/>
        </p:nvPicPr>
        <p:blipFill>
          <a:blip r:embed="rId2"/>
          <a:stretch/>
        </p:blipFill>
        <p:spPr>
          <a:xfrm>
            <a:off x="1116000" y="3573360"/>
            <a:ext cx="3184560" cy="31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3"/>
          <p:cNvSpPr/>
          <p:nvPr/>
        </p:nvSpPr>
        <p:spPr>
          <a:xfrm>
            <a:off x="250920" y="1452600"/>
            <a:ext cx="8893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58680" y="2602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s-ES" sz="2700" spc="-1" strike="noStrike">
                <a:solidFill>
                  <a:srgbClr val="ffffff"/>
                </a:solidFill>
                <a:latin typeface="Garamond"/>
              </a:rPr>
              <a:t>Recorría Jesús todas las ciudades y aldeas, enseñando en las sinagogas de ellos, y predicando el evangelio del reino, y sanando toda enfermedad y toda dolencia en el pueblo. Y al ver las multitudes, tuvo compasión de ellas; porque estaban desamparadas y dispersas como ovejas que no tienen pastor. Entonces dijo a sus discípulos: A la verdad la mies es mucha, mas los obreros pocos. Rogad, pues, al Señor de la mies, que envíe obreros a su mies. Entonces llamando a sus doce discípulos, les dio autoridad sobre los espíritus inmundos, para que los echasen fuera, y para sanar toda enfermedad y toda dolencia. … A estos doce envió Jesús, y les dio instrucciones, diciendo: …Y yendo, predicad, diciendo: El reino de los cielos se ha acercado. Sanad enfermos, limpiad leprosos, resucitad muertos, echad fuera demonios; de gracia recibisteis, dad de gracia.” (Mateo 9:35-10:8)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0" y="1413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536040" indent="0">
              <a:spcBef>
                <a:spcPts val="9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óngase activo en el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SERVICIO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e inicie con obedienci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lnSpc>
                <a:spcPct val="8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munique l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REVELACIÓN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que ya tien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spcBef>
                <a:spcPts val="9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OBSERV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y entienda la realidad de la condición human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lnSpc>
                <a:spcPct val="8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ermita que Dios le de un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ARG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por una necesidad específic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Text Box 9"/>
          <p:cNvSpPr/>
          <p:nvPr/>
        </p:nvSpPr>
        <p:spPr>
          <a:xfrm>
            <a:off x="0" y="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 (Mateo 9:35-10:8)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0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0" y="1412640"/>
            <a:ext cx="9144000" cy="43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447480" indent="-447480"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usque el diagnóstico divino: ¿CUÁL E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L ASUNTO POR RESOLVER 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480" indent="-447480"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OR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determinar cual acción puede suplir esa necesida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480" indent="-447480">
              <a:lnSpc>
                <a:spcPct val="90000"/>
              </a:lnSpc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lija un equipo y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ÉLES PODE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colabora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480" indent="-447480"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TOME ACCIÓN INMEDIATA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el     cumplimiento de la visió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4"/>
          <p:cNvSpPr/>
          <p:nvPr/>
        </p:nvSpPr>
        <p:spPr>
          <a:xfrm>
            <a:off x="0" y="5605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Qué voz inspira su visión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Text Box 13"/>
          <p:cNvSpPr/>
          <p:nvPr/>
        </p:nvSpPr>
        <p:spPr>
          <a:xfrm>
            <a:off x="0" y="1628640"/>
            <a:ext cx="9144000" cy="34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interna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l enoj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l éxi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 lo al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0" name="Picture 3" descr=""/>
          <p:cNvPicPr/>
          <p:nvPr/>
        </p:nvPicPr>
        <p:blipFill>
          <a:blip r:embed="rId1"/>
          <a:stretch/>
        </p:blipFill>
        <p:spPr>
          <a:xfrm>
            <a:off x="5364000" y="4192560"/>
            <a:ext cx="330228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0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0" y="2097000"/>
            <a:ext cx="914400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omienzo fuer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Un tem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Lenguaje sencillo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Ilustracione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Final emotivo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0" y="64296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lementos para comunicar su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3" name="Picture 5" descr="http://1.bp.blogspot.com/--PA0ynWyff4/UcZZQi2xbII/AAAAAAAANBM/9k8eZQOOxFw/s1600/%E5%B7%A5%E5%85%B7%E7%AE%B1+Cartoons+toolbox+vector+material+%E3%82%A4%E3%83%A9%E3%82%B9%E3%83%88%E7%B4%A0%E6%9D%90.jpg"/>
          <p:cNvPicPr/>
          <p:nvPr/>
        </p:nvPicPr>
        <p:blipFill>
          <a:blip r:embed="rId1"/>
          <a:stretch/>
        </p:blipFill>
        <p:spPr>
          <a:xfrm>
            <a:off x="5435640" y="4235400"/>
            <a:ext cx="370692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0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Cómo debemos manejar la visión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0" y="1915920"/>
            <a:ext cx="914400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Véala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LARA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Muéstrela 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REATIVA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Comuníquela 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ONSTANTE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6" name="Picture 5" descr="http://images.clipartpanda.com/creativity-clipart-62367-design-mascot-woman-painter.jpg"/>
          <p:cNvPicPr/>
          <p:nvPr/>
        </p:nvPicPr>
        <p:blipFill>
          <a:blip r:embed="rId1"/>
          <a:stretch/>
        </p:blipFill>
        <p:spPr>
          <a:xfrm>
            <a:off x="5916600" y="2492280"/>
            <a:ext cx="310680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0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3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8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3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36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2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2D7FA-8383-499E-A048-1D32B0A5C8CC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0" y="26028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ffffff"/>
                </a:solidFill>
                <a:latin typeface="Garamond"/>
              </a:rPr>
              <a:t>Planeación Estratégica</a:t>
            </a: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Fallar en planear es un plan para fallar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9900"/>
                </a:solidFill>
                <a:latin typeface="Garamond"/>
              </a:rPr>
              <a:t>Leccion #4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6000" spc="-1" strike="noStrike">
                <a:solidFill>
                  <a:srgbClr val="ffcc00"/>
                </a:solidFill>
                <a:latin typeface="Garamond"/>
              </a:rPr>
              <a:t>Pagina 22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0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-108000" y="476280"/>
            <a:ext cx="914400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Garamond"/>
              </a:rPr>
              <a:t>¡Tengo un sueño!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Capturando e implementando una visión dada por Dios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Lección #3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Pagina 16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7A73F-4EB6-4E25-AAA7-0E345A89A8ED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Text Box 9"/>
          <p:cNvSpPr/>
          <p:nvPr/>
        </p:nvSpPr>
        <p:spPr>
          <a:xfrm>
            <a:off x="0" y="115920"/>
            <a:ext cx="8104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Ejemplos bíblicos de planeación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Text Box 12"/>
          <p:cNvSpPr/>
          <p:nvPr/>
        </p:nvSpPr>
        <p:spPr>
          <a:xfrm>
            <a:off x="360360" y="1841400"/>
            <a:ext cx="874872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Dios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Noé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Nehemías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David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Jesús nos dió parábolas sobre el tem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2" name="Picture 14" descr="mlmspi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04320" y="33336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9" descr=""/>
          <p:cNvPicPr/>
          <p:nvPr/>
        </p:nvPicPr>
        <p:blipFill>
          <a:blip r:embed="rId3"/>
          <a:stretch/>
        </p:blipFill>
        <p:spPr>
          <a:xfrm>
            <a:off x="6019920" y="1911240"/>
            <a:ext cx="2663640" cy="3281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0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65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42880" y="782280"/>
            <a:ext cx="8315280" cy="437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.</a:t>
            </a:r>
            <a:br>
              <a:rPr sz="6000"/>
            </a:br>
            <a:r>
              <a:rPr b="1" lang="es-ES" sz="6000" spc="-1" strike="noStrike">
                <a:solidFill>
                  <a:srgbClr val="ffffff"/>
                </a:solidFill>
                <a:latin typeface="Garamond"/>
              </a:rPr>
              <a:t>Todo ser humano con grandes logros ha incluido un factor divino y</a:t>
            </a:r>
            <a:br>
              <a:rPr sz="6000"/>
            </a:b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un factor de liderazgo.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8966D-79E2-4FA5-9CBA-FC1DBB3C623A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BFB77-CE38-401C-95FE-C25CF89710E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7" name="Picture 8" descr=""/>
          <p:cNvPicPr/>
          <p:nvPr/>
        </p:nvPicPr>
        <p:blipFill>
          <a:blip r:embed="rId1"/>
          <a:stretch/>
        </p:blipFill>
        <p:spPr>
          <a:xfrm>
            <a:off x="3124080" y="115920"/>
            <a:ext cx="2951280" cy="6608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0D169-FB4D-4CA5-9836-15077A373126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9" name="Picture 8" descr=""/>
          <p:cNvPicPr/>
          <p:nvPr/>
        </p:nvPicPr>
        <p:blipFill>
          <a:blip r:embed="rId1"/>
          <a:stretch/>
        </p:blipFill>
        <p:spPr>
          <a:xfrm>
            <a:off x="539640" y="44280"/>
            <a:ext cx="8209080" cy="6716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89D82-8965-48CD-8057-8586DD699DA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81" name="Group 3"/>
          <p:cNvGrpSpPr/>
          <p:nvPr/>
        </p:nvGrpSpPr>
        <p:grpSpPr>
          <a:xfrm>
            <a:off x="1403280" y="44280"/>
            <a:ext cx="6697800" cy="6697800"/>
            <a:chOff x="1403280" y="44280"/>
            <a:chExt cx="6697800" cy="6697800"/>
          </a:xfrm>
        </p:grpSpPr>
        <p:pic>
          <p:nvPicPr>
            <p:cNvPr id="182" name="Picture 1" descr=""/>
            <p:cNvPicPr/>
            <p:nvPr/>
          </p:nvPicPr>
          <p:blipFill>
            <a:blip r:embed="rId1"/>
            <a:stretch/>
          </p:blipFill>
          <p:spPr>
            <a:xfrm>
              <a:off x="1403280" y="44280"/>
              <a:ext cx="6697800" cy="669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Rectangle 2"/>
            <p:cNvSpPr/>
            <p:nvPr/>
          </p:nvSpPr>
          <p:spPr>
            <a:xfrm>
              <a:off x="4716000" y="3573360"/>
              <a:ext cx="2520720" cy="1152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0D252-C605-4C16-BF0F-D7C34E576897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5" name="Picture 1" descr=""/>
          <p:cNvPicPr/>
          <p:nvPr/>
        </p:nvPicPr>
        <p:blipFill>
          <a:blip r:embed="rId1"/>
          <a:stretch/>
        </p:blipFill>
        <p:spPr>
          <a:xfrm>
            <a:off x="1187280" y="85680"/>
            <a:ext cx="6480360" cy="6688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12FAC-887D-4133-8E38-0A81D1504288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" name="Text Box 10"/>
          <p:cNvSpPr/>
          <p:nvPr/>
        </p:nvSpPr>
        <p:spPr>
          <a:xfrm>
            <a:off x="0" y="692280"/>
            <a:ext cx="9144000" cy="69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¡¡¡ORAR!!!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lane par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LANEA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8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9" name="Picture 9" descr="http://images.onlinelabels.com/images/clip-art/Anonymous/Anonymous_praying_hands.png"/>
          <p:cNvPicPr/>
          <p:nvPr/>
        </p:nvPicPr>
        <p:blipFill>
          <a:blip r:embed="rId1"/>
          <a:stretch/>
        </p:blipFill>
        <p:spPr>
          <a:xfrm>
            <a:off x="4551480" y="907920"/>
            <a:ext cx="1728720" cy="21751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7" descr="http://3.bp.blogspot.com/-OLRKKawkuyQ/Unj_fI0ogqI/AAAAAAAADpo/EuutEgA8PZw/s1600/meeting1.jpg"/>
          <p:cNvPicPr/>
          <p:nvPr/>
        </p:nvPicPr>
        <p:blipFill>
          <a:blip r:embed="rId2"/>
          <a:stretch/>
        </p:blipFill>
        <p:spPr>
          <a:xfrm>
            <a:off x="5148360" y="3936960"/>
            <a:ext cx="3313080" cy="2627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0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01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C888C-8544-4C7B-986B-E7EEDABF3CEC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2" name="Text Box 10"/>
          <p:cNvSpPr/>
          <p:nvPr/>
        </p:nvSpPr>
        <p:spPr>
          <a:xfrm>
            <a:off x="-19080" y="907920"/>
            <a:ext cx="9144000" cy="54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termine su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PROPÓSITO PRIMARI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¿Por qué existimos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¿Qué estamos tratando </a:t>
            </a:r>
            <a:br>
              <a:rPr sz="3600"/>
            </a:b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de lograr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3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4" name="Picture 4" descr=""/>
          <p:cNvPicPr/>
          <p:nvPr/>
        </p:nvPicPr>
        <p:blipFill>
          <a:blip r:embed="rId1"/>
          <a:stretch/>
        </p:blipFill>
        <p:spPr>
          <a:xfrm>
            <a:off x="5580000" y="2349360"/>
            <a:ext cx="3313080" cy="2708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nodeType="clickEffect" fill="hold">
                      <p:stCondLst>
                        <p:cond delay="0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30C5D-CC76-4FCB-91BE-564AB9597B3A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6" name="Text Box 10"/>
          <p:cNvSpPr/>
          <p:nvPr/>
        </p:nvSpPr>
        <p:spPr>
          <a:xfrm>
            <a:off x="0" y="692280"/>
            <a:ext cx="9144000" cy="44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EVALÚ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la situacion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DENTR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FUER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ACTU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FUTUR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8" name="Picture 4" descr=""/>
          <p:cNvPicPr/>
          <p:nvPr/>
        </p:nvPicPr>
        <p:blipFill>
          <a:blip r:embed="rId1"/>
          <a:srcRect l="2745" t="0" r="6290" b="0"/>
          <a:stretch/>
        </p:blipFill>
        <p:spPr>
          <a:xfrm>
            <a:off x="5432400" y="2647800"/>
            <a:ext cx="3254400" cy="3600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nodeType="clickEffect" fill="hold">
                      <p:stCondLst>
                        <p:cond delay="0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5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5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CCC94-851E-4FBA-B90F-6E112BC64004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Text Box 2"/>
          <p:cNvSpPr/>
          <p:nvPr/>
        </p:nvSpPr>
        <p:spPr>
          <a:xfrm>
            <a:off x="0" y="801720"/>
            <a:ext cx="9144000" cy="64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PRIORICE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las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necesidade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. Haga las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PREGUNTAS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correcta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2" name="Picture 7" descr=""/>
          <p:cNvPicPr/>
          <p:nvPr/>
        </p:nvPicPr>
        <p:blipFill>
          <a:blip r:embed="rId1"/>
          <a:stretch/>
        </p:blipFill>
        <p:spPr>
          <a:xfrm>
            <a:off x="4557600" y="907920"/>
            <a:ext cx="4361040" cy="22132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9" descr="http://thumbs.gograph.com/gg56903211.jpg"/>
          <p:cNvPicPr/>
          <p:nvPr/>
        </p:nvPicPr>
        <p:blipFill>
          <a:blip r:embed="rId2"/>
          <a:stretch/>
        </p:blipFill>
        <p:spPr>
          <a:xfrm>
            <a:off x="1042920" y="3645000"/>
            <a:ext cx="2879640" cy="2882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nodeType="clickEffect" fill="hold">
                      <p:stCondLst>
                        <p:cond delay="0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1187280" y="2060640"/>
            <a:ext cx="7488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¿</a:t>
            </a: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Qué es una visión?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5" name="Picture 3" descr=""/>
          <p:cNvPicPr/>
          <p:nvPr/>
        </p:nvPicPr>
        <p:blipFill>
          <a:blip r:embed="rId1"/>
          <a:stretch/>
        </p:blipFill>
        <p:spPr>
          <a:xfrm>
            <a:off x="503280" y="3500280"/>
            <a:ext cx="8172360" cy="316872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1"/>
          <p:cNvSpPr/>
          <p:nvPr/>
        </p:nvSpPr>
        <p:spPr>
          <a:xfrm>
            <a:off x="684360" y="189000"/>
            <a:ext cx="7991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  <a:ea typeface="Arial"/>
              </a:rPr>
              <a:t>Proverbs 29:18 dice: “Donde no hay visión, el pueblo se extravía;”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F4D90-FD8E-4428-A3DF-48269C6C7293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Text Box 2"/>
          <p:cNvSpPr/>
          <p:nvPr/>
        </p:nvSpPr>
        <p:spPr>
          <a:xfrm>
            <a:off x="0" y="860400"/>
            <a:ext cx="914400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6. Establecer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METAS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especificas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Escritas</a:t>
            </a:r>
            <a:r>
              <a:rPr b="0" lang="en-US" sz="3600" spc="-1" strike="noStrike">
                <a:solidFill>
                  <a:srgbClr val="ffc000"/>
                </a:solidFill>
                <a:latin typeface="Garamond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Específic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Realist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Medibl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Person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Convicción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6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7" name="Picture 4" descr=""/>
          <p:cNvPicPr/>
          <p:nvPr/>
        </p:nvPicPr>
        <p:blipFill>
          <a:blip r:embed="rId1"/>
          <a:stretch/>
        </p:blipFill>
        <p:spPr>
          <a:xfrm>
            <a:off x="4572000" y="2392200"/>
            <a:ext cx="4138560" cy="4083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nodeType="clickEffect" fill="hold">
                      <p:stCondLst>
                        <p:cond delay="0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5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50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C092E-9E89-4389-B87E-D2267CD0871F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9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0" y="0"/>
            <a:ext cx="9144000" cy="85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7.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COMUNIQUE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y clarifique con su </a:t>
            </a:r>
            <a:br>
              <a:rPr sz="4200"/>
            </a:b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   equipo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nclusiones escrit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Lista del proyecto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Línea de tiempo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ista de recurso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Pasos siguientes (temas de acción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Responsabilidades (líderes de proyecto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1" name="Picture 4" descr="http://www.catalystdvservices.org/images/cup-phone-clipart.jpg"/>
          <p:cNvPicPr/>
          <p:nvPr/>
        </p:nvPicPr>
        <p:blipFill>
          <a:blip r:embed="rId1"/>
          <a:stretch/>
        </p:blipFill>
        <p:spPr>
          <a:xfrm>
            <a:off x="5219640" y="2425680"/>
            <a:ext cx="3732120" cy="2201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nodeType="clickEffect" fill="hold">
                      <p:stCondLst>
                        <p:cond delay="0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33" dur="5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41" dur="500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46" dur="500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51" dur="500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56" dur="500"/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61" dur="500"/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66" dur="500"/>
                                        <p:tgtEl>
                                          <p:spTgt spid="2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3D832-93DA-47BE-ADE8-BB438D19D5A9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3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0" y="0"/>
            <a:ext cx="9144000" cy="45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8. Identifique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OBSTÁCULOS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posibles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c0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0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5" name="Picture 8" descr="j0254426"/>
          <p:cNvPicPr/>
          <p:nvPr/>
        </p:nvPicPr>
        <p:blipFill>
          <a:blip r:embed="rId1"/>
          <a:stretch/>
        </p:blipFill>
        <p:spPr>
          <a:xfrm>
            <a:off x="5173560" y="3090960"/>
            <a:ext cx="3535560" cy="3157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nodeType="clickEffect" fill="hold">
                      <p:stCondLst>
                        <p:cond delay="0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73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0FF65-5263-409F-B5FA-0F2BE4B4CFBF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7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0" y="0"/>
            <a:ext cx="9144000" cy="46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9. Tenga un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SISTEMA ABIERTO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de planeacion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0.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ADMINISTRE Y DIRIJA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sus recurs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20" name="Picture 6" descr="http://www.pageresource.com/clipart/clipart/money/bills/bills-wrapped-color.png"/>
          <p:cNvPicPr/>
          <p:nvPr/>
        </p:nvPicPr>
        <p:blipFill>
          <a:blip r:embed="rId1"/>
          <a:stretch/>
        </p:blipFill>
        <p:spPr>
          <a:xfrm>
            <a:off x="3570120" y="5373720"/>
            <a:ext cx="3162600" cy="14493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0" descr="http://www.clker.com/cliparts/3/3/6/a/119498454029858016people.svg.med.png"/>
          <p:cNvPicPr/>
          <p:nvPr/>
        </p:nvPicPr>
        <p:blipFill>
          <a:blip r:embed="rId2"/>
          <a:stretch/>
        </p:blipFill>
        <p:spPr>
          <a:xfrm>
            <a:off x="395280" y="4599000"/>
            <a:ext cx="2400480" cy="22147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2" descr="http://sweetclipart.com/multisite/sweetclipart/files/hourglass_silhouette.png"/>
          <p:cNvPicPr/>
          <p:nvPr/>
        </p:nvPicPr>
        <p:blipFill>
          <a:blip r:embed="rId3"/>
          <a:stretch/>
        </p:blipFill>
        <p:spPr>
          <a:xfrm>
            <a:off x="7405560" y="4487760"/>
            <a:ext cx="1198800" cy="2216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nodeType="clickEffect" fill="hold">
                      <p:stCondLst>
                        <p:cond delay="0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83" dur="5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88" dur="50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C02F1-5D01-4D21-9835-7D777EA138E8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4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5" name="Text Box 3"/>
          <p:cNvSpPr/>
          <p:nvPr/>
        </p:nvSpPr>
        <p:spPr>
          <a:xfrm>
            <a:off x="0" y="0"/>
            <a:ext cx="9144000" cy="66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1. </a:t>
            </a:r>
            <a:r>
              <a:rPr b="1" lang="es-GT" sz="4000" spc="-1" strike="noStrike" u="sng">
                <a:solidFill>
                  <a:srgbClr val="ffffff"/>
                </a:solidFill>
                <a:uFillTx/>
                <a:latin typeface="Garamond"/>
              </a:rPr>
              <a:t>MONITORE</a:t>
            </a:r>
            <a:r>
              <a:rPr b="1" lang="es-GT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GT" sz="4000" spc="-1" strike="noStrike">
                <a:solidFill>
                  <a:srgbClr val="ffffff"/>
                </a:solidFill>
                <a:latin typeface="Garamond"/>
              </a:rPr>
              <a:t>y </a:t>
            </a:r>
            <a:br>
              <a:rPr sz="4000"/>
            </a:br>
            <a:r>
              <a:rPr b="0" lang="es-GT" sz="40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s-GT" sz="4000" spc="-1" strike="noStrike" u="sng">
                <a:solidFill>
                  <a:srgbClr val="ffffff"/>
                </a:solidFill>
                <a:uFillTx/>
                <a:latin typeface="Garamond"/>
              </a:rPr>
              <a:t>CORRIJ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2.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ESTUDIE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los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  resultado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27" name="Picture 5" descr=""/>
          <p:cNvPicPr/>
          <p:nvPr/>
        </p:nvPicPr>
        <p:blipFill>
          <a:blip r:embed="rId1"/>
          <a:stretch/>
        </p:blipFill>
        <p:spPr>
          <a:xfrm>
            <a:off x="520560" y="2946240"/>
            <a:ext cx="2705400" cy="38102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6" descr="http://sweetclipart.com/multisite/sweetclipart/files/bike_red.png"/>
          <p:cNvPicPr/>
          <p:nvPr/>
        </p:nvPicPr>
        <p:blipFill>
          <a:blip r:embed="rId2"/>
          <a:stretch/>
        </p:blipFill>
        <p:spPr>
          <a:xfrm>
            <a:off x="5651640" y="1000080"/>
            <a:ext cx="3276360" cy="2116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nodeType="clickEffect" fill="hold">
                      <p:stCondLst>
                        <p:cond delay="0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10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18" dur="500"/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1AE8B-AA76-4BB0-AECB-7580C6DE1D44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0" y="-27000"/>
            <a:ext cx="9144000" cy="58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¿Preguntas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o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ffff"/>
                </a:solidFill>
                <a:latin typeface="Garamond"/>
              </a:rPr>
              <a:t>Comentarios?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aramond"/>
              </a:rPr>
              <a:t>Respuestas: p. 21, 27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¿Qué es una visión?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0" y="1700280"/>
            <a:ext cx="9144000" cy="643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Visión es ver el futuro, en el presente, construido sobre el pasado.”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“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Visión es ver lo invisible y convertirlo en visible.”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Visión es un puente de información del presente a un mejor futuro.”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8"/>
          <p:cNvSpPr/>
          <p:nvPr/>
        </p:nvSpPr>
        <p:spPr>
          <a:xfrm>
            <a:off x="0" y="1341360"/>
            <a:ext cx="9144000" cy="46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VISION ES UNA CLARA IMAGEN DE UN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MEJOR MAÑANA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, DADO POR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DIOS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, QUE MUEVE A UNA PERSONA A CREER NO SOLAMENTE QUÉ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PUEDE SER HECHO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, SINO QUÉ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DEBE SER HECHO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Text Box 16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¿Qué es una visión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9"/>
          <p:cNvSpPr/>
          <p:nvPr/>
        </p:nvSpPr>
        <p:spPr>
          <a:xfrm>
            <a:off x="0" y="0"/>
            <a:ext cx="9144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Note los ingredientes de una visión divina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Text Box 12"/>
          <p:cNvSpPr/>
          <p:nvPr/>
        </p:nvSpPr>
        <p:spPr>
          <a:xfrm>
            <a:off x="0" y="1312920"/>
            <a:ext cx="9144000" cy="46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a clara pintura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cambio positiv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enfoque futur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regalo de Di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.</a:t>
            </a: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Gente y tiempo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scogid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3" name="Picture 3" descr=""/>
          <p:cNvPicPr/>
          <p:nvPr/>
        </p:nvPicPr>
        <p:blipFill>
          <a:blip r:embed="rId1"/>
          <a:stretch/>
        </p:blipFill>
        <p:spPr>
          <a:xfrm>
            <a:off x="4284720" y="4941720"/>
            <a:ext cx="47289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1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INTIMIDAD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8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ienes que pasar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iempo con el Señor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marL="586080" indent="-586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6" name="Picture 7" descr="http://pinchofgrace.files.wordpress.com/2011/08/silhouette-of-woman-praying.jpg"/>
          <p:cNvPicPr/>
          <p:nvPr/>
        </p:nvPicPr>
        <p:blipFill>
          <a:blip r:embed="rId1"/>
          <a:stretch/>
        </p:blipFill>
        <p:spPr>
          <a:xfrm>
            <a:off x="5867280" y="2343240"/>
            <a:ext cx="2881440" cy="4151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0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CONCEPC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marL="586080" indent="-586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9" name="Picture 5" descr="http://ec.l.thumbs.canstockphoto.com/canstock2777881.jpg"/>
          <p:cNvPicPr/>
          <p:nvPr/>
        </p:nvPicPr>
        <p:blipFill>
          <a:blip r:embed="rId1"/>
          <a:stretch/>
        </p:blipFill>
        <p:spPr>
          <a:xfrm>
            <a:off x="2475000" y="3840120"/>
            <a:ext cx="4194000" cy="294336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2"/>
          <p:cNvSpPr/>
          <p:nvPr/>
        </p:nvSpPr>
        <p:spPr>
          <a:xfrm>
            <a:off x="250920" y="2033640"/>
            <a:ext cx="864216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800"/>
              </a:spcBef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mpieza pequeno y crec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spcBef>
                <a:spcPts val="1800"/>
              </a:spcBef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recerá a Dios y tú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6000"/>
          </a:bodyPr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3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GESTAC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0080" indent="-280080">
              <a:spcBef>
                <a:spcPts val="1800"/>
              </a:spcBef>
              <a:spcAft>
                <a:spcPts val="1800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s el período más largo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de todo el proces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-280080">
              <a:spcBef>
                <a:spcPts val="18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La visión de Dios va a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stirarte!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3" name="Picture 5" descr="http://www.clipartbest.com/cliparts/ncE/a96/ncEa96acA.png"/>
          <p:cNvPicPr/>
          <p:nvPr/>
        </p:nvPicPr>
        <p:blipFill>
          <a:blip r:embed="rId1"/>
          <a:stretch/>
        </p:blipFill>
        <p:spPr>
          <a:xfrm>
            <a:off x="6921360" y="1181160"/>
            <a:ext cx="2070360" cy="53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Monte Cyr</cp:lastModifiedBy>
  <dcterms:modified xsi:type="dcterms:W3CDTF">2021-04-23T23:14:14Z</dcterms:modified>
  <cp:revision>89</cp:revision>
  <dc:subject/>
  <dc:title>PowerPoint Presentation</dc:title>
</cp:coreProperties>
</file>