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8.jpeg" ContentType="image/jpeg"/>
  <Override PartName="/ppt/media/image26.jpeg" ContentType="image/jpeg"/>
  <Override PartName="/ppt/media/image23.jpeg" ContentType="image/jpeg"/>
  <Override PartName="/ppt/media/image19.gif" ContentType="image/gif"/>
  <Override PartName="/ppt/media/image21.jpeg" ContentType="image/jpeg"/>
  <Override PartName="/ppt/media/image6.gif" ContentType="image/gif"/>
  <Override PartName="/ppt/media/image17.gif" ContentType="image/gif"/>
  <Override PartName="/ppt/media/image16.jpeg" ContentType="image/jpeg"/>
  <Override PartName="/ppt/media/image15.jpeg" ContentType="image/jpeg"/>
  <Override PartName="/ppt/media/image29.gif" ContentType="image/gif"/>
  <Override PartName="/ppt/media/image10.jpeg" ContentType="image/jpeg"/>
  <Override PartName="/ppt/media/image5.png" ContentType="image/png"/>
  <Override PartName="/ppt/media/image35.jpeg" ContentType="image/jpeg"/>
  <Override PartName="/ppt/media/image25.gif" ContentType="image/gif"/>
  <Override PartName="/ppt/media/image34.jpeg" ContentType="image/jpeg"/>
  <Override PartName="/ppt/media/image20.png" ContentType="image/png"/>
  <Override PartName="/ppt/media/image36.jpeg" ContentType="image/jpeg"/>
  <Override PartName="/ppt/media/image40.png" ContentType="image/pn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39.jpeg" ContentType="image/jpeg"/>
  <Override PartName="/ppt/media/image8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image31.gif" ContentType="image/gif"/>
  <Override PartName="/ppt/media/image1.gif" ContentType="image/gif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11.png" ContentType="image/png"/>
  <Override PartName="/ppt/media/image2.png" ContentType="image/png"/>
  <Override PartName="/ppt/media/image18.jpeg" ContentType="image/jpeg"/>
  <Override PartName="/ppt/media/image22.gif" ContentType="image/gif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1DDB-4767-487A-83EB-9EBEF57AE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E30F-B6D1-49F4-A771-7F411697EB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4AAD-1755-4741-80A4-DF3B3D2367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EF4F-1C38-47BC-80DD-CE95EEF0B5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31EB-9FB3-481E-9F02-037BD6D4C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0BA7-2B09-4327-801B-2A8B1251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E6E1-D5BC-4664-A99F-81FADD997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3D6A-FC77-42A5-9116-45ED8CC4F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6F76-15BB-461A-96E2-83D34FBB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8149-46C3-4ACA-A091-DE7B1834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6939-B481-45DC-B47A-678C66FD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99BF-19C7-487E-BE7A-8D7594B4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5430-C0B3-4E75-BECE-AE973110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D906-A152-480D-8C2C-ACBB646E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01FA-7FF5-48E4-9A10-13D00C55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8320-66F2-4D5A-8E98-60E8FADE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4F99-9886-4B21-8A5D-CE3EE1AB4A0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1.gif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gi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D52C-6F7C-421E-82E2-033BB7E7D9E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D188-B27A-4616-ACF0-5FC719CC0FE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Por tanto, nosotros también, teniendo en derredor nuestro tan grande nube de testigos, despojémonos de todo peso y del pecado que nos asedia, y corramos con paciencia la carrera que tenemos por delante, puestos los ojos en Jesús, el autor y consumador de la fe, el cual por el gozo puesto delante de él sufrió la cruz, menospreciando el oprobio, y se sentó a la diestra del trono de Dios.” 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(Hebreos </a:t>
            </a:r>
            <a:r>
              <a:rPr b="1" i="1" lang="en-US" sz="38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D9BD-C4D2-4120-9CA5-1C280F95D8B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arácter …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munica y construye CREDIBILIDAD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nlleva RESPET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rea CONSISTENCI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gana CONFIANZ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07F9-0668-4756-8FD3-0633E98F264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ISCIPLI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sona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GURIDA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 IDENTIDAD PERSONAL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6012000" y="836640"/>
            <a:ext cx="2966760" cy="197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ttp://images.mylot.com/userImages/images/postphotos/2355283.gif"/>
          <p:cNvPicPr/>
          <p:nvPr/>
        </p:nvPicPr>
        <p:blipFill>
          <a:blip r:embed="rId2"/>
          <a:stretch/>
        </p:blipFill>
        <p:spPr>
          <a:xfrm>
            <a:off x="2916360" y="2816280"/>
            <a:ext cx="257004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://thumbs.dreamstime.com/x/generic-cartoon-person-walking-confidently-vector-clip-art-illustration-forward-34534212.jpg"/>
          <p:cNvPicPr/>
          <p:nvPr/>
        </p:nvPicPr>
        <p:blipFill>
          <a:blip r:embed="rId3"/>
          <a:stretch/>
        </p:blipFill>
        <p:spPr>
          <a:xfrm>
            <a:off x="7329600" y="4118040"/>
            <a:ext cx="1743120" cy="267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704F-5850-405B-A938-6E2C63E42E4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. Desarrollar CONVICCIONES PERSONALES, VALORES y ÉTIC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1"/>
          <a:stretch/>
        </p:blipFill>
        <p:spPr>
          <a:xfrm>
            <a:off x="2344680" y="3143160"/>
            <a:ext cx="4452840" cy="334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E805-E6A5-4177-9745-C759809B28C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1160" y="227664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1" lang="en-US" sz="49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4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16" descr="j0178299"/>
          <p:cNvPicPr/>
          <p:nvPr/>
        </p:nvPicPr>
        <p:blipFill>
          <a:blip r:embed="rId1"/>
          <a:stretch/>
        </p:blipFill>
        <p:spPr>
          <a:xfrm>
            <a:off x="4067280" y="1197000"/>
            <a:ext cx="971280" cy="971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0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2448000" y="4149720"/>
            <a:ext cx="4248000" cy="254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89E9-BE28-4360-95BE-1CECC93A3BC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0" y="9360"/>
            <a:ext cx="9144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Así que, hermanos, os ruego por las misericordias de Dios, que presentéis vuestros cuerpos 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crificio vivo, santo, agradable a Dios, que es vuestro culto racional. No os conforméis a este siglo,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sino transformaos por medio de la renovación de vuestro entendimiento, para que comprobéis cuál sea la buena voluntad de Dios, agradable y perfecta.”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Romano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E606-3D2E-4CA6-9465-804FD64ADC2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8000" y="441000"/>
            <a:ext cx="9144000" cy="32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ra liderar a otros, debem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tres actitudes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tal rendimiento a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COMPROB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PER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ESCON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4" descr="http://www.clipartbest.com/cliparts/7Ta/y6k/7Tay6kETA.jpeg"/>
          <p:cNvPicPr/>
          <p:nvPr/>
        </p:nvPicPr>
        <p:blipFill>
          <a:blip r:embed="rId1"/>
          <a:stretch/>
        </p:blipFill>
        <p:spPr>
          <a:xfrm>
            <a:off x="6357960" y="115920"/>
            <a:ext cx="2714760" cy="23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5949-B9B2-41C5-AE29-AF3F4BFCAEA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320" y="2491920"/>
            <a:ext cx="475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7" descr="j0178300"/>
          <p:cNvPicPr/>
          <p:nvPr/>
        </p:nvPicPr>
        <p:blipFill>
          <a:blip r:embed="rId1"/>
          <a:stretch/>
        </p:blipFill>
        <p:spPr>
          <a:xfrm>
            <a:off x="1547640" y="1160640"/>
            <a:ext cx="1032120" cy="1031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7" descr="http://stickypictures.net/wp-content/uploads/2014/10/prayer-clip-art-2.jpg"/>
          <p:cNvPicPr/>
          <p:nvPr/>
        </p:nvPicPr>
        <p:blipFill>
          <a:blip r:embed="rId2"/>
          <a:stretch/>
        </p:blipFill>
        <p:spPr>
          <a:xfrm>
            <a:off x="5465880" y="2744640"/>
            <a:ext cx="346212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C219-69E0-4F2F-A43A-5779FC853C2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0" y="4203720"/>
            <a:ext cx="914400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3 clases de oració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DIR — Esta es la oración de f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CAR — Esta es la oración de dedic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LAMAR — Esta es la oración de interces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480" y="-54000"/>
            <a:ext cx="91440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¿Está alguno entre vosotros afligido? Haga oración… ¿Está alguno enfermo entre vosotros? Llame a los ancianos de la iglesia, y oren por él… Y la oración de fe salvará al enfermo, y el Señor lo levantará… Confesaos vuestras ofensas unos a otros, y orad unos por otros, para que seáis sanados. La oración eficaz del justo puede mucho.” </a:t>
            </a:r>
            <a:r>
              <a:rPr b="1" lang="es-ES" sz="3400" spc="-1" strike="noStrike">
                <a:solidFill>
                  <a:srgbClr val="ffffff"/>
                </a:solidFill>
                <a:latin typeface="Garamond"/>
              </a:rPr>
              <a:t>(Santiago 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5:13-17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13EE-C710-4852-A700-E2675CEB649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065560" y="3105000"/>
            <a:ext cx="4070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26" descr="j0178301"/>
          <p:cNvPicPr/>
          <p:nvPr/>
        </p:nvPicPr>
        <p:blipFill>
          <a:blip r:embed="rId1"/>
          <a:stretch/>
        </p:blipFill>
        <p:spPr>
          <a:xfrm>
            <a:off x="6335640" y="1197000"/>
            <a:ext cx="1006560" cy="1006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7" descr="http://www.kenandsue.org/images/Bible_clip_art_-colored_open.gif"/>
          <p:cNvPicPr/>
          <p:nvPr/>
        </p:nvPicPr>
        <p:blipFill>
          <a:blip r:embed="rId2"/>
          <a:stretch/>
        </p:blipFill>
        <p:spPr>
          <a:xfrm>
            <a:off x="250920" y="3105000"/>
            <a:ext cx="3889440" cy="352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FA45-7C97-4B3E-925B-C1622ABDA3A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44100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El Corazón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de un líder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esarrollando las cualidades que diferencian a los líderes de otro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cción #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" name="Picture 19" descr="j0236214"/>
          <p:cNvPicPr/>
          <p:nvPr/>
        </p:nvPicPr>
        <p:blipFill>
          <a:blip r:embed="rId1"/>
          <a:stretch/>
        </p:blipFill>
        <p:spPr>
          <a:xfrm>
            <a:off x="7240680" y="907920"/>
            <a:ext cx="2031840" cy="177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F6F5-6D84-498C-AE8C-28FB53B4711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15840" y="388800"/>
            <a:ext cx="9128160" cy="74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Toda la Escritura es inspirada por Dios, y útil para enseñar, para redargüir, para corregir, para instruir en justicia, a fin de que el hombre de Dios sea perfecto, enteramente preparado para toda buena obra.”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3:16-17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Procura con diligencia presentarte a Dios aprobado, como obrero que no tiene de que avergonzarse, que usa bien la palabra de verdad.” 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2:15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4058-F578-4AC8-A51D-1B76939BB86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840" y="297000"/>
            <a:ext cx="91440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estudiosos de la Palab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 Dios examinan la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crituras para entend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 significado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un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todo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este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199200" y="549360"/>
            <a:ext cx="2840040" cy="19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F8C8-BD17-4187-9338-5E8D2C5B21C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5720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967280" y="2884320"/>
            <a:ext cx="4032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15" descr="j0178302"/>
          <p:cNvPicPr/>
          <p:nvPr/>
        </p:nvPicPr>
        <p:blipFill>
          <a:blip r:embed="rId1"/>
          <a:stretch/>
        </p:blipFill>
        <p:spPr>
          <a:xfrm>
            <a:off x="6227640" y="1219320"/>
            <a:ext cx="1044720" cy="1044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2"/>
          <a:stretch/>
        </p:blipFill>
        <p:spPr>
          <a:xfrm>
            <a:off x="142920" y="2205000"/>
            <a:ext cx="4300560" cy="416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03C8-182F-49CE-8F9B-D432595A440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0" y="7920"/>
            <a:ext cx="9144000" cy="72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 griegos y a no griegos, a sabios y a no sabios soy deudor. </a:t>
            </a: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sí que, en cuanto a mí, pronto estoy a anunciaros el evangelio también a vosotros que estáis en Roma. Porque no me avergüenzo del evangelio, porque es poder de Dios para salvación a todo aquel que cree; al judío primeramente, y también al griego.” 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omanos 1:14-16)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D36C-CC14-457B-9301-3A306F4AFB9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-63360"/>
            <a:ext cx="9144000" cy="46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apóstol Pablo expresa tres actitudes concernientes al Evangeli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OBLIG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ANSIOS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estoy AVERGONZ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6" descr="http://kids.christiansunite.com/images/Bible_Stories/219.jpg"/>
          <p:cNvPicPr/>
          <p:nvPr/>
        </p:nvPicPr>
        <p:blipFill>
          <a:blip r:embed="rId1"/>
          <a:stretch/>
        </p:blipFill>
        <p:spPr>
          <a:xfrm>
            <a:off x="6184800" y="3149640"/>
            <a:ext cx="295272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9C61-DB6E-44B2-BCE2-A07A1506E62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3038040"/>
            <a:ext cx="3852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que espera resultad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Picture 13" descr="j0178303"/>
          <p:cNvPicPr/>
          <p:nvPr/>
        </p:nvPicPr>
        <p:blipFill>
          <a:blip r:embed="rId1"/>
          <a:stretch/>
        </p:blipFill>
        <p:spPr>
          <a:xfrm>
            <a:off x="1638360" y="1449360"/>
            <a:ext cx="1077840" cy="1077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2"/>
          <a:stretch/>
        </p:blipFill>
        <p:spPr>
          <a:xfrm>
            <a:off x="4788000" y="1290600"/>
            <a:ext cx="4119480" cy="518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146F-4705-42FA-8A69-BEC254F85D5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79640" y="3321000"/>
            <a:ext cx="4319640" cy="244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en actitud y en acción</a:t>
            </a:r>
            <a:br>
              <a:rPr sz="4000"/>
            </a:b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Picture 13" descr="j0178304"/>
          <p:cNvPicPr/>
          <p:nvPr/>
        </p:nvPicPr>
        <p:blipFill>
          <a:blip r:embed="rId1"/>
          <a:stretch/>
        </p:blipFill>
        <p:spPr>
          <a:xfrm>
            <a:off x="6192720" y="130500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9" descr="http://sr.photos3.fotosearch.com/bthumb/CSP/CSP991/k11740221.jpg"/>
          <p:cNvPicPr/>
          <p:nvPr/>
        </p:nvPicPr>
        <p:blipFill>
          <a:blip r:embed="rId2"/>
          <a:stretch/>
        </p:blipFill>
        <p:spPr>
          <a:xfrm>
            <a:off x="154080" y="1459080"/>
            <a:ext cx="4525920" cy="523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F665-A7F9-4E2C-A648-44A0A9A2A78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7640" y="-114480"/>
            <a:ext cx="90010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Haya, pues, en vosotros este sentir que hubo también en Cristo Jesús, el cual, siendo en forma de Dios, no estimó el ser igual a Dios como cosa a que aferrarse, sino que se despojó a sí mismo, tomando forma de siervo, hecho semejante a los hombres; y estando en la condición de hombre, se humilló a sí mismo, haciéndose obediente hasta la muerte, y muerte de cruz.”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Filipense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2:5-8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C03D-62B8-4314-A3AE-8E605C01F10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8560" y="3104640"/>
            <a:ext cx="4392360" cy="273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en él mismo y en otr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Picture 13" descr="j0178305"/>
          <p:cNvPicPr/>
          <p:nvPr/>
        </p:nvPicPr>
        <p:blipFill>
          <a:blip r:embed="rId1"/>
          <a:stretch/>
        </p:blipFill>
        <p:spPr>
          <a:xfrm>
            <a:off x="1835280" y="135900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7" descr="http://christrescuemission.org/yahoo_site_admin/assets/images/gift-within.187221124.png"/>
          <p:cNvPicPr/>
          <p:nvPr/>
        </p:nvPicPr>
        <p:blipFill>
          <a:blip r:embed="rId2"/>
          <a:stretch/>
        </p:blipFill>
        <p:spPr>
          <a:xfrm>
            <a:off x="5759280" y="895320"/>
            <a:ext cx="2521080" cy="559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58E1-14FD-46F1-A741-686E468949D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para impartir poder a otro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50" name="Group 18"/>
          <p:cNvGrpSpPr/>
          <p:nvPr/>
        </p:nvGrpSpPr>
        <p:grpSpPr>
          <a:xfrm>
            <a:off x="3959280" y="873000"/>
            <a:ext cx="1223640" cy="863280"/>
            <a:chOff x="3959280" y="873000"/>
            <a:chExt cx="1223640" cy="863280"/>
          </a:xfrm>
        </p:grpSpPr>
        <p:pic>
          <p:nvPicPr>
            <p:cNvPr id="151" name="Picture 15" descr="j0178297"/>
            <p:cNvPicPr/>
            <p:nvPr/>
          </p:nvPicPr>
          <p:blipFill>
            <a:blip r:embed="rId1"/>
            <a:stretch/>
          </p:blipFill>
          <p:spPr>
            <a:xfrm>
              <a:off x="3959280" y="873000"/>
              <a:ext cx="767880" cy="8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6" descr="j0178296"/>
            <p:cNvPicPr/>
            <p:nvPr/>
          </p:nvPicPr>
          <p:blipFill>
            <a:blip r:embed="rId2"/>
            <a:stretch/>
          </p:blipFill>
          <p:spPr>
            <a:xfrm>
              <a:off x="4413600" y="873000"/>
              <a:ext cx="7693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Text Box 1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9" descr="http://www.meadechurch.org/Customer-Content/meadechurch/CMS/images/wash_5624c.jpg"/>
          <p:cNvPicPr/>
          <p:nvPr/>
        </p:nvPicPr>
        <p:blipFill>
          <a:blip r:embed="rId3"/>
          <a:stretch/>
        </p:blipFill>
        <p:spPr>
          <a:xfrm>
            <a:off x="1008000" y="4051440"/>
            <a:ext cx="4248360" cy="2690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http://thumbs.gograph.com/gg64542846.jpg"/>
          <p:cNvPicPr/>
          <p:nvPr/>
        </p:nvPicPr>
        <p:blipFill>
          <a:blip r:embed="rId4"/>
          <a:stretch/>
        </p:blipFill>
        <p:spPr>
          <a:xfrm>
            <a:off x="6372360" y="4027320"/>
            <a:ext cx="1333440" cy="274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4F96-7C68-4935-A665-78D823795C6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99640" y="728280"/>
            <a:ext cx="748836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Y los apacentó conforme a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integridad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 de su corazón, Los pastoreó con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pericia 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de sus manos.”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(Psalmos 78:72)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7890-3A69-4F87-BAB2-182CF30E746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owe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it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98"/>
          <p:cNvSpPr/>
          <p:nvPr/>
        </p:nvSpPr>
        <p:spPr>
          <a:xfrm>
            <a:off x="0" y="1736640"/>
            <a:ext cx="9325080" cy="512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8C6D-C0F9-45BC-81EB-5E3FAE463D6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4500720" y="1881360"/>
            <a:ext cx="349236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A555-88C5-4981-9D01-944FF406773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6F83-DFAF-47D2-924B-B47ABF0A1A8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99AA-EEC6-46BF-BDCC-D27C83BEC20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3C6D-7F4A-43D2-AF00-E520D66040E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0B03-41BB-46E7-9AB8-94BC61234F5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E0BD-FE66-4D7E-AD67-17CD5A8957A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500720" y="1881360"/>
            <a:ext cx="435600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6895-3775-4B56-BBE9-16A6BF9BBB6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3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00F2-6C62-4B63-A148-DB5555D5B5A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3176640"/>
            <a:ext cx="4572000" cy="27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del Espíritu Santo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06" name="Group 17"/>
          <p:cNvGrpSpPr/>
          <p:nvPr/>
        </p:nvGrpSpPr>
        <p:grpSpPr>
          <a:xfrm>
            <a:off x="1440000" y="1449360"/>
            <a:ext cx="1193760" cy="862200"/>
            <a:chOff x="1440000" y="1449360"/>
            <a:chExt cx="1193760" cy="862200"/>
          </a:xfrm>
        </p:grpSpPr>
        <p:pic>
          <p:nvPicPr>
            <p:cNvPr id="207" name="Picture 14" descr="j0178297"/>
            <p:cNvPicPr/>
            <p:nvPr/>
          </p:nvPicPr>
          <p:blipFill>
            <a:blip r:embed="rId1"/>
            <a:stretch/>
          </p:blipFill>
          <p:spPr>
            <a:xfrm>
              <a:off x="144000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6" descr="j0178297"/>
            <p:cNvPicPr/>
            <p:nvPr/>
          </p:nvPicPr>
          <p:blipFill>
            <a:blip r:embed="rId2"/>
            <a:stretch/>
          </p:blipFill>
          <p:spPr>
            <a:xfrm>
              <a:off x="186552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Picture 2" descr="http://2.bp.blogspot.com/-89vKEtsDNyg/UuFzm8_VM1I/AAAAAAAAE2g/Y3ufAXUEELM/s1600/a+holy+spirit+clip+art.png+2.jpg"/>
          <p:cNvPicPr/>
          <p:nvPr/>
        </p:nvPicPr>
        <p:blipFill>
          <a:blip r:embed="rId3"/>
          <a:stretch/>
        </p:blipFill>
        <p:spPr>
          <a:xfrm>
            <a:off x="5041800" y="1584360"/>
            <a:ext cx="36450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0532-BE1A-461D-87AA-028116CBD28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8728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b9efee"/>
                </a:solidFill>
                <a:latin typeface="Garamond"/>
              </a:rPr>
              <a:t>Hay dos lados de liderazgo:</a:t>
            </a:r>
            <a:br>
              <a:rPr sz="66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56" name="Rectangle 2" descr=""/>
          <p:cNvPicPr/>
          <p:nvPr/>
        </p:nvPicPr>
        <p:blipFill>
          <a:blip r:embed="rId1"/>
          <a:stretch/>
        </p:blipFill>
        <p:spPr>
          <a:xfrm>
            <a:off x="25560" y="1231920"/>
            <a:ext cx="9512280" cy="510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en.clipart-fr.com/data/clipart/heart/heart_036.jpg"/>
          <p:cNvPicPr/>
          <p:nvPr/>
        </p:nvPicPr>
        <p:blipFill>
          <a:blip r:embed="rId2"/>
          <a:stretch/>
        </p:blipFill>
        <p:spPr>
          <a:xfrm>
            <a:off x="5003640" y="1378080"/>
            <a:ext cx="2616480" cy="226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http://images.clipartpanda.com/hand-clip-art-black-and-white-hands-hi.png"/>
          <p:cNvPicPr/>
          <p:nvPr/>
        </p:nvPicPr>
        <p:blipFill>
          <a:blip r:embed="rId3"/>
          <a:stretch/>
        </p:blipFill>
        <p:spPr>
          <a:xfrm>
            <a:off x="287280" y="4184640"/>
            <a:ext cx="337356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F8F3-CDB7-4B18-8BA5-4A1F6383FC4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autoridad espiritual con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ven a Dios moverse constantemente en sus minister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una vida que demanda una explicación sobrenatural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49E7-52DA-448C-AA2C-4C0CEB62192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0" y="2698560"/>
            <a:ext cx="4211640" cy="400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15" name="Group 19"/>
          <p:cNvGrpSpPr/>
          <p:nvPr/>
        </p:nvGrpSpPr>
        <p:grpSpPr>
          <a:xfrm>
            <a:off x="6389640" y="1592280"/>
            <a:ext cx="1294920" cy="863640"/>
            <a:chOff x="6389640" y="1592280"/>
            <a:chExt cx="1294920" cy="863640"/>
          </a:xfrm>
        </p:grpSpPr>
        <p:pic>
          <p:nvPicPr>
            <p:cNvPr id="216" name="Picture 16" descr="j0178297"/>
            <p:cNvPicPr/>
            <p:nvPr/>
          </p:nvPicPr>
          <p:blipFill>
            <a:blip r:embed="rId1"/>
            <a:stretch/>
          </p:blipFill>
          <p:spPr>
            <a:xfrm>
              <a:off x="6389640" y="159228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8" descr="j0178298"/>
            <p:cNvPicPr/>
            <p:nvPr/>
          </p:nvPicPr>
          <p:blipFill>
            <a:blip r:embed="rId2"/>
            <a:stretch/>
          </p:blipFill>
          <p:spPr>
            <a:xfrm>
              <a:off x="6821280" y="1592280"/>
              <a:ext cx="86328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Text Box 20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514440" y="2602080"/>
            <a:ext cx="3960720" cy="364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151F-4FA4-4088-BCA9-9E52D0A144B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136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Sed imitadores de mi, asi como yo de Cristo.”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(1 Cor. 11:1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4633-1231-4428-A1C3-5F7C9A9011E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144360" y="520560"/>
            <a:ext cx="8856720" cy="5749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4680000" y="1700280"/>
            <a:ext cx="2556000" cy="331308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4680000" y="501336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324000" y="4869000"/>
            <a:ext cx="2555640" cy="57600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60360" y="350028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D1BB-C5F6-4D93-B79E-EE2A6C68F3E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0" y="184644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iderazgo funciona en bas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IANZ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 integridad tiene u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AL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alta influ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a destruir la tendencia de trabajar más duro por nuest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AGE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que por nuestra integr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tegridad significa VIVIR la verdad primero,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na personalidad carismática puede atraer gente, pero solo la INTEGRIDAD los mantendrá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azones por las que un corazón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tegridad es tan importante pa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19" descr="j0236214"/>
          <p:cNvPicPr/>
          <p:nvPr/>
        </p:nvPicPr>
        <p:blipFill>
          <a:blip r:embed="rId1"/>
          <a:stretch/>
        </p:blipFill>
        <p:spPr>
          <a:xfrm>
            <a:off x="7020000" y="-31680"/>
            <a:ext cx="2031840" cy="17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08EB-98A5-48C5-8172-2865D3F48F9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179712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integridad es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VICTORI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, no un regal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sted sólo 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ONVERTIRÁ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n lo que se está convirtiendo — ahora mism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 están para vivir en un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TÁND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más alto que sus seguidor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-139680"/>
            <a:ext cx="7488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azones por las que un corazón de integridad es tan importante para los líder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19" descr="j0236214"/>
          <p:cNvPicPr/>
          <p:nvPr/>
        </p:nvPicPr>
        <p:blipFill>
          <a:blip r:embed="rId1"/>
          <a:stretch/>
        </p:blipFill>
        <p:spPr>
          <a:xfrm>
            <a:off x="6808680" y="17640"/>
            <a:ext cx="203040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DCBA-9B84-4E96-BF55-F112B9A902E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5840" y="19080"/>
            <a:ext cx="9128160" cy="12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la vi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BSTÁCULO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8075-1E6D-4FBB-B3F7-26D28879E2C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840" y="19080"/>
            <a:ext cx="9128160" cy="10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ue espera resultad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actitud y en ac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él mismo y en otr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ara impartir pode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el Espíritu San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772E-884F-4484-AFA3-2C5E700FFEF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Preguntas 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o Comentarios?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45AE-719D-4AD6-99EB-6D56105C42F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REPARANDO NUESTROS CORAZONES</a:t>
            </a:r>
            <a:br>
              <a:rPr sz="72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4760" y="1736280"/>
            <a:ext cx="932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Hay dos cuestiones importantes (</a:t>
            </a: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Hechos 9:3-6)(Hechos 22:7,10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1. “¿Quién eres Señor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“¿Qué quieres que y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haga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2" name="Picture 6" descr="http://images.clipartpanda.com/answer-clipart-question_clipart.gif"/>
          <p:cNvPicPr/>
          <p:nvPr/>
        </p:nvPicPr>
        <p:blipFill>
          <a:blip r:embed="rId1"/>
          <a:stretch/>
        </p:blipFill>
        <p:spPr>
          <a:xfrm>
            <a:off x="7497720" y="2851200"/>
            <a:ext cx="1646280" cy="400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D3A1-8ADB-4892-BBC3-7AD7B8FC4C1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600000" y="2852280"/>
            <a:ext cx="554364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1" lang="en-US" sz="6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 en la vida.</a:t>
            </a:r>
            <a:endParaRPr b="0" lang="en-US" sz="6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Picture 13" descr="j0178297"/>
          <p:cNvPicPr/>
          <p:nvPr/>
        </p:nvPicPr>
        <p:blipFill>
          <a:blip r:embed="rId1"/>
          <a:stretch/>
        </p:blipFill>
        <p:spPr>
          <a:xfrm>
            <a:off x="5894280" y="1293840"/>
            <a:ext cx="954360" cy="954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79280" y="2862360"/>
            <a:ext cx="3355920" cy="28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F6B9-4315-4FC6-919B-458C5E48F82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0" y="260280"/>
            <a:ext cx="9144000" cy="78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Pero cuantas cosas eran para mí ganancia, las he estimado como pérdida por amor de Cristo. Y ciertamente, aun </a:t>
            </a:r>
            <a:r>
              <a:rPr b="1" i="1" lang="es-ES" sz="3000" spc="-1" strike="noStrike" u="sng">
                <a:solidFill>
                  <a:srgbClr val="ffffff"/>
                </a:solidFill>
                <a:uFillTx/>
                <a:latin typeface="Garamond"/>
              </a:rPr>
              <a:t>estimo todas las cosas como pérdida por la excelencia del conocimiento de Cristo Jesús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, mi Señor, por amor del cual lo he perdido todo, y lo tengo por basura, para ganar a Cristo, y ser hallado en él, … a fin de conocerle, y el poder de su resurrección, y la participación de sus padecimientos, llegando a ser semejante a él en su muerte, si en alguna manera llegase a la resurrección de entre los muertos. … Una cosa hago: olvidando ciertamente lo que queda atrás, y extendiéndome a lo que está delante, prosigo a la meta, al premio del supremo llamamiento de Dios en Cristo Jesús.” 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(Fil. 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3:7-14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62CE-12F4-41A7-9271-50DAC0FDF03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0" y="800280"/>
            <a:ext cx="9144000" cy="9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ú debes responder estas preguntas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carga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ones espiritu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talentos natur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eseos y pasi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es lo que otros dicen de ti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sueños y vis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oportunidades tienes frente a ti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¿Conoce el propósito que Dios te ha dado?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4293-90D7-4FBE-803A-8192DEEBCF0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213000"/>
            <a:ext cx="5256360" cy="29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OBSTÁCULO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75" name="Picture 17" descr="j0178298"/>
          <p:cNvPicPr/>
          <p:nvPr/>
        </p:nvPicPr>
        <p:blipFill>
          <a:blip r:embed="rId1"/>
          <a:stretch/>
        </p:blipFill>
        <p:spPr>
          <a:xfrm>
            <a:off x="2124000" y="1413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7" name="Picture 7" descr="http://986045497.r.cdn77.net/wp-content/uploads/2011/06/Ball-and-Chain.jpg"/>
          <p:cNvPicPr/>
          <p:nvPr/>
        </p:nvPicPr>
        <p:blipFill>
          <a:blip r:embed="rId2"/>
          <a:stretch/>
        </p:blipFill>
        <p:spPr>
          <a:xfrm>
            <a:off x="5796000" y="2276640"/>
            <a:ext cx="3168720" cy="43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17:23:03Z</dcterms:modified>
  <cp:revision>147</cp:revision>
  <dc:subject/>
  <dc:title>PowerPoint Presentation</dc:title>
</cp:coreProperties>
</file>