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9.png" ContentType="image/png"/>
  <Override PartName="/ppt/media/image8.png" ContentType="image/png"/>
  <Override PartName="/ppt/media/image7.wmf" ContentType="image/x-wmf"/>
  <Override PartName="/ppt/media/image12.jpeg" ContentType="image/jpeg"/>
  <Override PartName="/ppt/media/image11.png" ContentType="image/png"/>
  <Override PartName="/ppt/media/image6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jpeg" ContentType="image/jpeg"/>
  <Override PartName="/ppt/media/image5.png" ContentType="image/png"/>
  <Override PartName="/ppt/media/image10.png" ContentType="image/png"/>
  <Override PartName="/ppt/media/image3.jpeg" ContentType="image/jpeg"/>
  <Override PartName="/ppt/media/image15.png" ContentType="image/png"/>
  <Override PartName="/ppt/media/image4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30E6D-2BAD-4BE8-B01A-9AE6C614CD3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48D98-9F56-4E4F-B284-7B2C16F5D6DD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31FE3F-4E2B-469F-A366-F85404CF6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12C4D8-6D67-4130-B587-C773C3E1D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20DF68-53A4-42A2-A931-EFCDCEFF6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FB97EA-A583-4505-88C2-A788B7860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46994-B285-46A5-A4BD-81DDB0323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4C448-12AE-4E5A-BE6A-3C870F7DE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19037-7CD1-4D6A-BD6A-9F52E055F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D09FE-1A4C-4871-B313-0FE7BB07F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90DF4-AF6B-4486-87BF-9885788D6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49B2A-391F-49D3-A785-168E89125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4AED6-037E-4E3E-909A-93D0A467E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654779-8D6F-478F-B200-B1AF8403E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EF710-2F14-46B3-BA26-D69C80874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7A690-943F-49C1-9A13-8CC1FFFF6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9AC6D-32DF-4730-80A0-6733BFC4C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735AC-4C12-4E7F-BE32-C1AA90893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4DBA6-050C-4984-8250-5DE1BEF97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0F3646-E24F-4124-904C-E23A5DDD7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2B0265-C316-43F9-8114-47239B464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CF9454-1134-4835-B122-57D70DB94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76EBF5-B21D-4136-A987-4A2F189DF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13232B-08F5-4F9F-A374-124847FC6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4152FE-E397-4259-AD3D-C9EBF44F6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F8520B-5DEA-43BC-AE56-3FDB9554C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51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1D131-C285-433B-8A49-0684FAEA00F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51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63F5E-F3D9-4D72-B806-C64023581CB7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4904B-D951-403F-8F9F-3877BAF5C2C8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lide Number Placeholder 5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C58BC-C492-4719-A821-D71E47A36BC8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45072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EL SAMARITANO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45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450720" indent="-450720">
              <a:lnSpc>
                <a:spcPct val="80000"/>
              </a:lnSpc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Fue despreciado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0720" indent="0">
              <a:lnSpc>
                <a:spcPct val="80000"/>
              </a:lnSpc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450720" indent="-450720">
              <a:lnSpc>
                <a:spcPct val="80000"/>
              </a:lnSpc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Sabía lo que se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sentía ser ignorado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0720" indent="0">
              <a:lnSpc>
                <a:spcPct val="80000"/>
              </a:lnSpc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450720" indent="-450720">
              <a:lnSpc>
                <a:spcPct val="80000"/>
              </a:lnSpc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Vio al hombre como …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0720" indent="0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UNA PERSONA PARA AMAR </a:t>
            </a:r>
            <a:r>
              <a:rPr b="1" lang="en-US" sz="4800" spc="-1" strike="noStrike" u="sng">
                <a:solidFill>
                  <a:srgbClr val="ffffff"/>
                </a:solidFill>
                <a:uFillTx/>
                <a:latin typeface="Garamond"/>
              </a:rPr>
              <a:t>.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6" name="Picture 5" descr="http://biblecraftsandactivities.com/wp-content/uploads/2013/07/GoodSamaritan-coloring_sermons4kids.gif"/>
          <p:cNvPicPr/>
          <p:nvPr/>
        </p:nvPicPr>
        <p:blipFill>
          <a:blip r:embed="rId1"/>
          <a:stretch/>
        </p:blipFill>
        <p:spPr>
          <a:xfrm>
            <a:off x="5929200" y="722160"/>
            <a:ext cx="3184560" cy="35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0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1C7C8-B873-4219-AC61-AAD498C89545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800" spc="-1" strike="noStrike">
                <a:solidFill>
                  <a:srgbClr val="ffffff"/>
                </a:solidFill>
                <a:latin typeface="Garamond"/>
              </a:rPr>
              <a:t>PUDIMOS ELIGIR</a:t>
            </a:r>
            <a:endParaRPr b="0" lang="en-US" sz="3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EXPLOTAR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EVITAR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800" spc="-1" strike="noStrike" u="sng">
                <a:solidFill>
                  <a:srgbClr val="ffffff"/>
                </a:solidFill>
                <a:uFillTx/>
                <a:latin typeface="Garamond"/>
              </a:rPr>
              <a:t>AMAR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4200" spc="-1" strike="noStrike">
                <a:solidFill>
                  <a:srgbClr val="ffffff"/>
                </a:solidFill>
                <a:latin typeface="Garamond"/>
              </a:rPr>
              <a:t>NUESTRA META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Garamond"/>
              </a:rPr>
              <a:t>La meta es dejar atrás sus fallas y ver sus necesidade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514"/>
                </a:solidFill>
                <a:latin typeface="Garamond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9" name="Picture 5" descr="http://images.clipartpanda.com/choice-clipart-fork-choice-hi.png"/>
          <p:cNvPicPr/>
          <p:nvPr/>
        </p:nvPicPr>
        <p:blipFill>
          <a:blip r:embed="rId1"/>
          <a:stretch/>
        </p:blipFill>
        <p:spPr>
          <a:xfrm>
            <a:off x="5003640" y="189000"/>
            <a:ext cx="382284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0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6" dur="500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D02C6-8B98-4252-9E11-6C976C293FD3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Text Box 11"/>
          <p:cNvSpPr/>
          <p:nvPr/>
        </p:nvSpPr>
        <p:spPr>
          <a:xfrm>
            <a:off x="0" y="0"/>
            <a:ext cx="914400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Cristianismo e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ffff"/>
                </a:solidFill>
                <a:uFillTx/>
                <a:latin typeface="Garamond"/>
              </a:rPr>
              <a:t>RELACIÓNES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Text Box 17"/>
          <p:cNvSpPr/>
          <p:nvPr/>
        </p:nvSpPr>
        <p:spPr>
          <a:xfrm>
            <a:off x="539640" y="191628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Una relación vertical –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n Dios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. Relaciónes horizontales –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n persona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3" name="Text Box 18"/>
          <p:cNvSpPr/>
          <p:nvPr/>
        </p:nvSpPr>
        <p:spPr>
          <a:xfrm>
            <a:off x="0" y="4294080"/>
            <a:ext cx="6553080" cy="243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Garamond"/>
              </a:rPr>
              <a:t>Ellos sabrén que somos Cristianos por nuestras</a:t>
            </a:r>
            <a:r>
              <a:rPr b="0" lang="en-US" sz="3400" spc="-1" strike="noStrike">
                <a:solidFill>
                  <a:srgbClr val="ffffff"/>
                </a:solidFill>
                <a:latin typeface="Garamond"/>
              </a:rPr>
              <a:t>… 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Garamond"/>
              </a:rPr>
              <a:t>RELACIONES DE AMOR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4" name="Picture 15" descr="j0198096"/>
          <p:cNvPicPr/>
          <p:nvPr/>
        </p:nvPicPr>
        <p:blipFill>
          <a:blip r:embed="rId1"/>
          <a:stretch/>
        </p:blipFill>
        <p:spPr>
          <a:xfrm>
            <a:off x="6553080" y="1720800"/>
            <a:ext cx="2411640" cy="43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0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3BDE3-52F6-45AD-A47E-2CB8B41D4358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0" y="1890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397440" indent="-397440">
              <a:spcBef>
                <a:spcPts val="100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Garamond"/>
              </a:rPr>
              <a:t>Piense en las personas en su vida </a:t>
            </a:r>
            <a:r>
              <a:rPr b="1" lang="en-GB" sz="4000" spc="-1" strike="noStrike">
                <a:solidFill>
                  <a:srgbClr val="ffffff"/>
                </a:solidFill>
                <a:latin typeface="Garamond"/>
              </a:rPr>
              <a:t>que son las más difíciles de amar. ¿Por qué son difíciles de amar? ¿Cómo las vemos?</a:t>
            </a:r>
            <a:br>
              <a:rPr sz="4000"/>
            </a:br>
            <a:r>
              <a:rPr b="1" lang="en-GB" sz="4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97440" indent="-397440">
              <a:spcBef>
                <a:spcPts val="1001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Garamond"/>
              </a:rPr>
              <a:t>¿Cómo puede usted empezar a ver a la gente de la manera en la que el samaritano vió al hombre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9744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0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0C900-C603-4374-BF25-C64F4BE2DAC5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ristianismo es Relación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ZA" sz="54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i="1" lang="en-ZA" sz="5400" spc="-1" strike="noStrike">
                <a:solidFill>
                  <a:srgbClr val="ffffff"/>
                </a:solidFill>
                <a:latin typeface="Garamond"/>
              </a:rPr>
              <a:t>A la gente no le importa mucho cuanto sabe usted, hasta que saben cuanto se interesa en ellos.”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4000" spc="-1" strike="noStrike">
                <a:solidFill>
                  <a:srgbClr val="ffffff"/>
                </a:solidFill>
                <a:latin typeface="Garamond"/>
              </a:rPr>
              <a:t>- Dr. John C. Maxwell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0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7" dur="5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CB0F8-4936-4504-816A-9F7084920ED0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" name="Text Box 7"/>
          <p:cNvSpPr/>
          <p:nvPr/>
        </p:nvSpPr>
        <p:spPr>
          <a:xfrm>
            <a:off x="0" y="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Una definición de liderazgo espiritual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1219320" y="2752560"/>
            <a:ext cx="7086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Text Box 9"/>
          <p:cNvSpPr/>
          <p:nvPr/>
        </p:nvSpPr>
        <p:spPr>
          <a:xfrm>
            <a:off x="539640" y="1557360"/>
            <a:ext cx="83059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ffffff"/>
                </a:solidFill>
                <a:uFillTx/>
                <a:latin typeface="Garamond"/>
              </a:rPr>
              <a:t>AQUEL QUE ASUMA RESPONSABILIDAD POR LA SALUD Y EL DESARROLLO DE SUS RELACIONES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nodeType="clickEffect" fill="hold">
                      <p:stCondLst>
                        <p:cond delay="0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9988A-335E-4027-A8BF-E3A4CA25AB2B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" name="Text Box 4"/>
          <p:cNvSpPr/>
          <p:nvPr/>
        </p:nvSpPr>
        <p:spPr>
          <a:xfrm>
            <a:off x="154080" y="1393920"/>
            <a:ext cx="8989920" cy="50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lnSpc>
                <a:spcPct val="90000"/>
              </a:lnSpc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a analogía del</a:t>
            </a:r>
            <a:br>
              <a:rPr sz="4000"/>
            </a:b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ANFITRIÓN</a:t>
            </a:r>
            <a:br>
              <a:rPr sz="4000"/>
            </a:b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lnSpc>
                <a:spcPct val="90000"/>
              </a:lnSpc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lnSpc>
                <a:spcPct val="90000"/>
              </a:lnSpc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lnSpc>
                <a:spcPct val="90000"/>
              </a:lnSpc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2. La analogía del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DOCTOR 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6" name="Text Box 5"/>
          <p:cNvSpPr/>
          <p:nvPr/>
        </p:nvSpPr>
        <p:spPr>
          <a:xfrm>
            <a:off x="0" y="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Cuatro palabras para ilustrar los roles del líder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7" name="Picture 6" descr="http://misc.phillipmartin.info/misc_welcome2.gif"/>
          <p:cNvPicPr/>
          <p:nvPr/>
        </p:nvPicPr>
        <p:blipFill>
          <a:blip r:embed="rId1"/>
          <a:srcRect l="0" t="0" r="0" b="5232"/>
          <a:stretch/>
        </p:blipFill>
        <p:spPr>
          <a:xfrm>
            <a:off x="4788000" y="585720"/>
            <a:ext cx="2952720" cy="34592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5" descr=""/>
          <p:cNvPicPr/>
          <p:nvPr/>
        </p:nvPicPr>
        <p:blipFill>
          <a:blip r:embed="rId2"/>
          <a:srcRect l="28613" t="0" r="29542" b="0"/>
          <a:stretch/>
        </p:blipFill>
        <p:spPr>
          <a:xfrm>
            <a:off x="795240" y="3030480"/>
            <a:ext cx="1584360" cy="38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nodeType="clickEffect" fill="hold">
                      <p:stCondLst>
                        <p:cond delay="0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94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0EDD0-829E-458A-B358-666A24730A88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154080" y="1413000"/>
            <a:ext cx="8989920" cy="45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a analogía del </a:t>
            </a:r>
            <a:br>
              <a:rPr sz="4000"/>
            </a:b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ONSEJERO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a analogía del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GUÍA DE TURISTA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1" name="Text Box 5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uatro palabras para ilustrar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2" name="Picture 6" descr=""/>
          <p:cNvPicPr/>
          <p:nvPr/>
        </p:nvPicPr>
        <p:blipFill>
          <a:blip r:embed="rId1"/>
          <a:stretch/>
        </p:blipFill>
        <p:spPr>
          <a:xfrm>
            <a:off x="4427640" y="957240"/>
            <a:ext cx="4181400" cy="28987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7" descr=""/>
          <p:cNvPicPr/>
          <p:nvPr/>
        </p:nvPicPr>
        <p:blipFill>
          <a:blip r:embed="rId2"/>
          <a:stretch/>
        </p:blipFill>
        <p:spPr>
          <a:xfrm>
            <a:off x="228600" y="3200400"/>
            <a:ext cx="2921040" cy="36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nodeType="clickEffect" fill="hold">
                      <p:stCondLst>
                        <p:cond delay="0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5" dur="5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0382B-8DC3-4B5D-B269-AFC31B7B90B4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6" name="Text Box 13"/>
          <p:cNvSpPr/>
          <p:nvPr/>
        </p:nvSpPr>
        <p:spPr>
          <a:xfrm>
            <a:off x="0" y="1628640"/>
            <a:ext cx="91440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. LAS PERSONAS SON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INSEGURAS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DÉLES CONFIANZA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Personas heridas hieren personas. Personas seguras dan seguridad a las personas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7" name="Picture 9" descr="http://images.clipartof.com/thumbnails/227344-Royalty-Free-RF-Clipart-Illustration-Of-A-Somber-Moodie-Character-Looking-At-His-Reflection-In-A-Mirror.jpg"/>
          <p:cNvPicPr/>
          <p:nvPr/>
        </p:nvPicPr>
        <p:blipFill>
          <a:blip r:embed="rId1"/>
          <a:stretch/>
        </p:blipFill>
        <p:spPr>
          <a:xfrm>
            <a:off x="5764320" y="981000"/>
            <a:ext cx="296064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nodeType="clickEffect" fill="hold">
                      <p:stCondLst>
                        <p:cond delay="0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" dur="5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500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7B4DE-2C53-468E-BD92-A83AF071EC8B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0" y="1052640"/>
            <a:ext cx="9144000" cy="59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2.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A las personas les gusta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sentirse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ESPECIALES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.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HÓNRELAS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uando usted afirme y honre a alguien con sus palabras…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Hacerlo inceramente, específicamente, públicamente, personalment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0" name="Text Box 8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1" name="Picture 8" descr="http://www.presentationmagazine.com/newimages/rally-speech-510.jpg"/>
          <p:cNvPicPr/>
          <p:nvPr/>
        </p:nvPicPr>
        <p:blipFill>
          <a:blip r:embed="rId1"/>
          <a:stretch/>
        </p:blipFill>
        <p:spPr>
          <a:xfrm>
            <a:off x="5796000" y="836640"/>
            <a:ext cx="2781360" cy="28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nodeType="clickEffect" fill="hold">
                      <p:stCondLst>
                        <p:cond delay="0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0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8" dur="5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6" dur="500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1" dur="500"/>
                                        <p:tgtEl>
                                          <p:spTgt spid="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15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FBEA5-8426-405E-AD03-4E60E1B64772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0" y="980640"/>
            <a:ext cx="9144000" cy="321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ección #5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Cultivando la habilidad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de tratar con la gente</a:t>
            </a:r>
            <a:br>
              <a:rPr sz="6000"/>
            </a:b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l rol vital de las relaciones en el liderazgo</a:t>
            </a:r>
            <a:br>
              <a:rPr sz="3600"/>
            </a:br>
            <a:br>
              <a:rPr sz="3600"/>
            </a:b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agina 28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A6E67-4C29-4283-AE40-76E5520725A0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3" name="Text Box 3"/>
          <p:cNvSpPr/>
          <p:nvPr/>
        </p:nvSpPr>
        <p:spPr>
          <a:xfrm>
            <a:off x="0" y="620640"/>
            <a:ext cx="9144000" cy="47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ff"/>
              </a:buClr>
              <a:buSzPct val="70000"/>
              <a:buFont typeface="Garamond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as personas buscan un mejor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MAÑANA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buClr>
                <a:srgbClr val="ffffff"/>
              </a:buClr>
              <a:buSzPct val="70000"/>
              <a:buFont typeface="Garamond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buClr>
                <a:srgbClr val="e5e5ff"/>
              </a:buClr>
              <a:buSzPct val="70000"/>
              <a:buFont typeface="Garamond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DÉLES ESPERANZA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clave para hoy es creer en el mañana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4" name="Text Box 8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5" name="Picture 5" descr=""/>
          <p:cNvPicPr/>
          <p:nvPr/>
        </p:nvPicPr>
        <p:blipFill>
          <a:blip r:embed="rId1"/>
          <a:srcRect l="7405" t="9629" r="9923" b="10722"/>
          <a:stretch/>
        </p:blipFill>
        <p:spPr>
          <a:xfrm>
            <a:off x="2843280" y="4149720"/>
            <a:ext cx="6162480" cy="25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nodeType="clickEffect" fill="hold">
                      <p:stCondLst>
                        <p:cond delay="0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500"/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3B394-B927-4514-AB90-8396D28C9042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Text Box 3"/>
          <p:cNvSpPr/>
          <p:nvPr/>
        </p:nvSpPr>
        <p:spPr>
          <a:xfrm>
            <a:off x="0" y="981000"/>
            <a:ext cx="9144000" cy="68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4. La gente necesita ser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ENTENDIDA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SCÚCHELE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ara hacer conexión con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otros, entienda las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“llaves” de su corazón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Garamond"/>
              </a:rPr>
              <a:t>¿De qué platica, lamenta, sueña, alegría, planea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" name="Text Box 9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9" name="Picture 4" descr=""/>
          <p:cNvPicPr/>
          <p:nvPr/>
        </p:nvPicPr>
        <p:blipFill>
          <a:blip r:embed="rId1"/>
          <a:srcRect l="8812" t="0" r="9876" b="0"/>
          <a:stretch/>
        </p:blipFill>
        <p:spPr>
          <a:xfrm>
            <a:off x="6394320" y="1773360"/>
            <a:ext cx="2451240" cy="33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nodeType="clickEffect" fill="hold">
                      <p:stCondLst>
                        <p:cond delay="0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8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6" dur="5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" dur="500"/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9" dur="500"/>
                                        <p:tgtEl>
                                          <p:spTgt spid="1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AE90F-A28A-4600-8DD2-6AB530E7C1F2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0" y="620640"/>
            <a:ext cx="9144000" cy="77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5. La gente necesita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DIRECCIÓN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Navegue” por ellos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a mayoría de las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ersonas pueden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navegar el barco; el líder ayuda a visualizar el curso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os líderes deben </a:t>
            </a: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saber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camino, </a:t>
            </a: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ir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n el camino, </a:t>
            </a: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mostrar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camino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" name="Text Box 8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3" name="Picture 4" descr=""/>
          <p:cNvPicPr/>
          <p:nvPr/>
        </p:nvPicPr>
        <p:blipFill>
          <a:blip r:embed="rId1"/>
          <a:stretch/>
        </p:blipFill>
        <p:spPr>
          <a:xfrm>
            <a:off x="5373720" y="692280"/>
            <a:ext cx="331308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nodeType="clickEffect" fill="hold">
                      <p:stCondLst>
                        <p:cond delay="0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6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9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2" dur="500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500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18E22-1D56-4E2B-8A97-69C08B90D553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5" name="Text Box 1031"/>
          <p:cNvSpPr/>
          <p:nvPr/>
        </p:nvSpPr>
        <p:spPr>
          <a:xfrm>
            <a:off x="0" y="974880"/>
            <a:ext cx="9144000" cy="58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6. La gente está </a:t>
            </a:r>
            <a:br>
              <a:rPr sz="4400"/>
            </a:b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NECESITADA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.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Hable primero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a sus necesidades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gente necesita ser ministrada antes de que puedan ministrar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6" name="Text Box 1039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7" name="Picture 4" descr=""/>
          <p:cNvPicPr/>
          <p:nvPr/>
        </p:nvPicPr>
        <p:blipFill>
          <a:blip r:embed="rId1"/>
          <a:srcRect l="8985" t="3697" r="0" b="14665"/>
          <a:stretch/>
        </p:blipFill>
        <p:spPr>
          <a:xfrm>
            <a:off x="5219640" y="944640"/>
            <a:ext cx="383688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nodeType="clickEffect" fill="hold">
                      <p:stCondLst>
                        <p:cond delay="0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4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9" dur="5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7" dur="500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114FA-49F6-47FC-9339-63ECF678FDAD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9" name="Text Box 2"/>
          <p:cNvSpPr/>
          <p:nvPr/>
        </p:nvSpPr>
        <p:spPr>
          <a:xfrm>
            <a:off x="0" y="907920"/>
            <a:ext cx="9144000" cy="29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7. La gente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SE DEPRIME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.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DÉLES ÁNIMO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0" name="Text Box 8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1" name="Picture 6" descr=""/>
          <p:cNvPicPr/>
          <p:nvPr/>
        </p:nvPicPr>
        <p:blipFill>
          <a:blip r:embed="rId1"/>
          <a:stretch/>
        </p:blipFill>
        <p:spPr>
          <a:xfrm>
            <a:off x="5364000" y="2832120"/>
            <a:ext cx="354816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nodeType="clickEffect" fill="hold">
                      <p:stCondLst>
                        <p:cond delay="0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4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93F51-D157-4334-91A4-85838C662621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3" name="Text Box 2"/>
          <p:cNvSpPr/>
          <p:nvPr/>
        </p:nvSpPr>
        <p:spPr>
          <a:xfrm>
            <a:off x="0" y="836640"/>
            <a:ext cx="9144000" cy="53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8. La gente quiere </a:t>
            </a:r>
            <a:br>
              <a:rPr sz="4400"/>
            </a:b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TRIUNFAR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AYÚDELES A GANAR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Extiéndase y ayude a otros a alcanzar sus metas.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4" name="Text Box 8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5" name="Picture 6" descr="http://images.clipartpanda.com/request-clipart-first-prize-winner-form-microsoft-clip-art.png"/>
          <p:cNvPicPr/>
          <p:nvPr/>
        </p:nvPicPr>
        <p:blipFill>
          <a:blip r:embed="rId1"/>
          <a:stretch/>
        </p:blipFill>
        <p:spPr>
          <a:xfrm>
            <a:off x="6084720" y="836640"/>
            <a:ext cx="286236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nodeType="clickEffect" fill="hold">
                      <p:stCondLst>
                        <p:cond delay="0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9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4" dur="5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2" dur="5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Slide Number Placeholder 2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8B0B9-B48A-4655-A2A6-5A95CCC69C9D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7" name="Text Box 2"/>
          <p:cNvSpPr/>
          <p:nvPr/>
        </p:nvSpPr>
        <p:spPr>
          <a:xfrm>
            <a:off x="0" y="907920"/>
            <a:ext cx="9144000" cy="691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9. La gente desea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RELACIONES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rovéales una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Comunidad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ractique el principio del 101% con la gente. Encuentre el 1% que usted tiene en común con alguien y déle el 100% de su atención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8" name="Text Box 8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9" name="Picture 10" descr="http://www.clker.com/cliparts/3/v/J/S/q/f/community-symbol-md.png"/>
          <p:cNvPicPr/>
          <p:nvPr/>
        </p:nvPicPr>
        <p:blipFill>
          <a:blip r:embed="rId1"/>
          <a:stretch/>
        </p:blipFill>
        <p:spPr>
          <a:xfrm>
            <a:off x="4387680" y="1268280"/>
            <a:ext cx="4583160" cy="25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nodeType="clickEffect" fill="hold">
                      <p:stCondLst>
                        <p:cond delay="0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9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2" dur="5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7" dur="500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0" dur="500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3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8" dur="500"/>
                                        <p:tgtEl>
                                          <p:spTgt spid="1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2"/>
          <p:cNvSpPr/>
          <p:nvPr/>
        </p:nvSpPr>
        <p:spPr>
          <a:xfrm>
            <a:off x="0" y="636480"/>
            <a:ext cx="9144000" cy="640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10. La gente busca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MODELOS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para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seguir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SEA UN EJEMPLO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a Gente Hace Lo Que Ve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Prediquen el Evangelio en todo tiempo.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Si es necesario, usen las palabras.”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San Francisco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Es posible que usted es la unica Biblia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su vecino leerá.”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1 Corintios 11:1 -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“Sed imitadores de mí, así como yo de Cristo.”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1" name="Text Box 8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Lo que cada líder debe saber acerca de las personas…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2" name="Picture 8" descr="http://sweetclipart.com/multisite/sweetclipart/files/foot_prints_walking.png"/>
          <p:cNvPicPr/>
          <p:nvPr/>
        </p:nvPicPr>
        <p:blipFill>
          <a:blip r:embed="rId1"/>
          <a:stretch/>
        </p:blipFill>
        <p:spPr>
          <a:xfrm>
            <a:off x="7610400" y="630360"/>
            <a:ext cx="1411200" cy="54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nodeType="clickEffect" fill="hold">
                      <p:stCondLst>
                        <p:cond delay="0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5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50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3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8" dur="500"/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3" dur="500"/>
                                        <p:tgtEl>
                                          <p:spTgt spid="1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8" dur="500"/>
                                        <p:tgtEl>
                                          <p:spTgt spid="1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3" dur="500"/>
                                        <p:tgtEl>
                                          <p:spTgt spid="18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27FEE-4DD7-47B6-B835-A0C3CC0C0ED5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0" y="620640"/>
            <a:ext cx="9144000" cy="49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¿Preguntas 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o 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Comentarios?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BC9E4-A07B-4567-854D-0BD234F12FEE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43920"/>
            <a:ext cx="9144000" cy="1366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ffffff"/>
                </a:solidFill>
                <a:latin typeface="Garamond"/>
              </a:rPr>
              <a:t>La base del liderazgo son las personas</a:t>
            </a:r>
            <a:br>
              <a:rPr sz="4000"/>
            </a:br>
            <a:endParaRPr b="1" lang="en-US" sz="4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Rectangle 4"/>
          <p:cNvSpPr/>
          <p:nvPr/>
        </p:nvSpPr>
        <p:spPr>
          <a:xfrm>
            <a:off x="250920" y="981000"/>
            <a:ext cx="85690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n-GB" sz="4800" spc="-1" strike="noStrike">
                <a:solidFill>
                  <a:srgbClr val="ffffff"/>
                </a:solidFill>
                <a:latin typeface="Garamond"/>
              </a:rPr>
              <a:t>Aquél que cree que lidera, 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ff"/>
                </a:solidFill>
                <a:latin typeface="Garamond"/>
              </a:rPr>
              <a:t>pero no tiene seguidores, 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ff"/>
                </a:solidFill>
                <a:latin typeface="Garamond"/>
              </a:rPr>
              <a:t>tan solo está dando un paseo”.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5" name="Picture 10" descr="http://sr.photos2.fotosearch.com/bthumb/CSP/CSP094/k0945302.jpg"/>
          <p:cNvPicPr/>
          <p:nvPr/>
        </p:nvPicPr>
        <p:blipFill>
          <a:blip r:embed="rId1"/>
          <a:stretch/>
        </p:blipFill>
        <p:spPr>
          <a:xfrm>
            <a:off x="1987560" y="3621240"/>
            <a:ext cx="5176800" cy="31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B0F07-3FEF-49CF-9538-D4DC63469274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Text Box 9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Cuatro verdades acerca del liderazgo y la gen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Text Box 12"/>
          <p:cNvSpPr/>
          <p:nvPr/>
        </p:nvSpPr>
        <p:spPr>
          <a:xfrm>
            <a:off x="0" y="1413000"/>
            <a:ext cx="9144000" cy="64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Las personas son el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TESORO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más preciado de la iglesia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2. El bien más importante de un líder es su 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HABILIDAD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de tratar con las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ERSONAS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3. Un buen líder puede liderar varios grupos porque el liderazgo se trata de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ERSONAS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4. Usted puede tener habilidad para tratar con las personas y no ser un buen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LÍDER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, pero no puede ser un buen líder sin tener habilidad para tratar con las persona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6D17D-F6B5-483F-A7D2-78BB14F3D544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-27000" y="5630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ZA" sz="4000" spc="-1" strike="noStrike">
                <a:solidFill>
                  <a:srgbClr val="ffffff"/>
                </a:solidFill>
                <a:latin typeface="Garamond"/>
              </a:rPr>
              <a:t>Lucas 10:30-37 -</a:t>
            </a:r>
            <a:r>
              <a:rPr b="1" lang="en-GB" sz="4000" spc="-1" strike="noStrike">
                <a:solidFill>
                  <a:srgbClr val="ffffff"/>
                </a:solidFill>
                <a:latin typeface="Garamond"/>
              </a:rPr>
              <a:t>“¿Quién es mi prójimo?”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979800" y="1844640"/>
            <a:ext cx="5146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4400" spc="-1" strike="noStrike">
                <a:solidFill>
                  <a:srgbClr val="ffffff"/>
                </a:solidFill>
                <a:latin typeface="Garamond"/>
              </a:rPr>
              <a:t>Jesus enseñó que las relaciones y el ministerio no están circunscritos a su círculo inmediato de amigos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2" name="Picture 6" descr="http://www.clipsahoy.com/clipart3/as5744.gif"/>
          <p:cNvPicPr/>
          <p:nvPr/>
        </p:nvPicPr>
        <p:blipFill>
          <a:blip r:embed="rId1"/>
          <a:stretch/>
        </p:blipFill>
        <p:spPr>
          <a:xfrm>
            <a:off x="108000" y="2357280"/>
            <a:ext cx="3794040" cy="386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065AB-94DD-4484-B1FF-11F6A51E6936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68360" y="0"/>
            <a:ext cx="8207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5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ZA" sz="4800" spc="-1" strike="noStrike">
                <a:solidFill>
                  <a:srgbClr val="ffffff"/>
                </a:solidFill>
                <a:latin typeface="Garamond"/>
              </a:rPr>
              <a:t>Jesus enseñó que las relaciones con otros son mas importantes que muchas actividades espirituales que practicamos. 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4800" spc="-1" strike="noStrike">
                <a:solidFill>
                  <a:srgbClr val="ffffff"/>
                </a:solidFill>
                <a:latin typeface="Garamond"/>
              </a:rPr>
              <a:t>(Mateo 5:23-24)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4ACAE-AFEC-4006-BC7D-8583C8F9BCBF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95280" y="57636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4800" spc="-1" strike="noStrike">
                <a:solidFill>
                  <a:srgbClr val="e5e5ff"/>
                </a:solidFill>
                <a:latin typeface="Garamond"/>
              </a:rPr>
              <a:t> </a:t>
            </a:r>
            <a:r>
              <a:rPr b="1" lang="en-ZA" sz="4800" spc="-1" strike="noStrike">
                <a:solidFill>
                  <a:srgbClr val="e5e5ff"/>
                </a:solidFill>
                <a:latin typeface="Garamond"/>
              </a:rPr>
              <a:t>Tambien, </a:t>
            </a:r>
            <a:r>
              <a:rPr b="1" lang="en-ZA" sz="4400" spc="-1" strike="noStrike">
                <a:solidFill>
                  <a:srgbClr val="e5e5ff"/>
                </a:solidFill>
                <a:latin typeface="Garamond"/>
              </a:rPr>
              <a:t>Jesus enseñó que: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32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ffff"/>
                </a:solidFill>
                <a:latin typeface="Garamond"/>
              </a:rPr>
              <a:t>La manera como se ve a sí mismo y otros es la manera como usted sirve a la gente.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0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43909-C495-4D49-BC21-774F47F07AC4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OS LADRONES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saron a la gente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Manipularon a otr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Vieron al hombre como una 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0">
              <a:spcBef>
                <a:spcPts val="22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VÍCTIMA PARA EXPLOTAR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0" name="Picture 5" descr="http://fm99.com/wp-content/blogs.dir/2/files/2013/05/robber.jpg"/>
          <p:cNvPicPr/>
          <p:nvPr/>
        </p:nvPicPr>
        <p:blipFill>
          <a:blip r:embed="rId1"/>
          <a:stretch/>
        </p:blipFill>
        <p:spPr>
          <a:xfrm>
            <a:off x="5651640" y="189000"/>
            <a:ext cx="3333600" cy="27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0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2CB60-A0DE-4471-BE6A-4D6D4C40981E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OS SACERDOTE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Guardaban la ley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Eran puros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-533520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Vieron al hombre como un …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lvl="1" marL="990720"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PROBLEMA PARA EVITAR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3" name="Picture 5" descr="http://sr.photos3.fotosearch.com/bthumb/CSP/CSP993/k15485619.jpg"/>
          <p:cNvPicPr/>
          <p:nvPr/>
        </p:nvPicPr>
        <p:blipFill>
          <a:blip r:embed="rId1"/>
          <a:stretch/>
        </p:blipFill>
        <p:spPr>
          <a:xfrm>
            <a:off x="6443640" y="44280"/>
            <a:ext cx="2668680" cy="38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0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7T20:54:29Z</dcterms:created>
  <dc:creator>Kevin Donaldson</dc:creator>
  <dc:description/>
  <dc:language>en-US</dc:language>
  <cp:lastModifiedBy>Monte Cyr</cp:lastModifiedBy>
  <dcterms:modified xsi:type="dcterms:W3CDTF">2021-04-23T23:59:28Z</dcterms:modified>
  <cp:revision>90</cp:revision>
  <dc:subject/>
  <dc:title>PowerPoint Presentation</dc:title>
</cp:coreProperties>
</file>