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1.gif" ContentType="image/gif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DD03C-0A0B-4839-9819-BE2E5948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8A65-CAAA-45B5-AB28-09203B85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4627-FE3E-4086-A176-1992B864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31AC-E42C-4838-8825-95E46750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0D2-B422-428C-9B54-3BD6E7A0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65F81-DE5A-4B52-B6F4-D07E252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3B12-6F89-4097-BA38-A0D49F36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DD58-7AE8-4A10-AE93-1A92FE37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4327-E27A-4D46-8C00-177B668B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989D-7DC7-49AA-98D4-1EE469CF1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EDF8-AF93-424C-B20B-BB29032D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F1F6A-486B-4A28-AA91-EDFE5292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99F-982C-4935-B0AA-F39A1747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11CC-56FC-4297-B3A6-A069B929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E98E-4671-4686-961A-D985973A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EB8E3-57D8-40FB-8C12-56876D186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1C5D5-E25F-4256-85B1-8297BC1A1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84F12-CD02-48E4-BB4B-C9BB188F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AB98-AF38-40B4-AFF4-E24B5FFF2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DF212-D322-4C98-A8AB-187C33029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67511F-4745-49E1-BB2E-66949F9F9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4850E-6ABE-4621-9A6A-D6F9810E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77D04-DD39-47E2-8D05-C4298511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B81BD-D7BC-45E0-99EE-1E9CA443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50DCC-2EFB-4008-BFCE-796FC21E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260E7-3288-4B43-B487-1CB22B90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1BF27-41FB-404D-BB65-870747EC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1A825-92B1-4C68-8B37-A78C45EFC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70AAE-6E3A-4764-8EB8-6694F72C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202BB-51B4-4418-BF6D-6065510E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FEEC1-1822-40D1-8930-8D34EBA4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23B9C-E7AC-4099-A615-20EB95EB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A0787-FED6-4B87-953D-7110C210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7D33-1225-41EA-86E8-82056B34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B89141-BB5F-4847-A2F4-FEDDB7255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A5C2-507A-4085-BAAD-E74A6C21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4FB1C-7BD6-4725-B788-5E0FE07CA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83ED-9A51-4C8A-8781-AC35EC4FA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7831-9510-424E-92EF-999FFB69644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1139-5D20-469F-9E9F-02ACF67C9CB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rcRect l="7670" t="2861" r="8391" b="5712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BB98B-5349-408E-AF88-3620BCACDA5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830CC-EEEE-44B7-8F83-7AC4E842E3E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539640" y="3765600"/>
            <a:ext cx="288000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572F1-EB13-4714-A3F0-ED07E16C2EB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rcRect l="0" t="0" r="0" b="12940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508A-403B-4B52-A177-1FC19643E40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t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5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0" dur="5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0" dur="5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0" dur="5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0C85-FC41-491A-A453-8AE627B9B1F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0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7CDC-13CC-4439-B6EF-27AD0BB432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2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B331-33B6-41EC-BCC6-6027F12D130C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523800" y="2951280"/>
            <a:ext cx="2695680" cy="3797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4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2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AB06-8EE6-45F7-B4CC-5F07C225590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F6407-337D-4D5B-9535-4BF7A06BD43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D0AA-A3B3-4910-9AF9-51CCCEDA6E3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5AFC-A94D-4F18-B046-BF9EBA8A582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328F7-8CF1-48D4-B514-771C1BF954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203640" y="100080"/>
            <a:ext cx="2816280" cy="664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4" name="Picture 8" descr="Learning Curve"/>
          <p:cNvPicPr/>
          <p:nvPr/>
        </p:nvPicPr>
        <p:blipFill>
          <a:blip r:embed="rId1"/>
          <a:stretch/>
        </p:blipFill>
        <p:spPr>
          <a:xfrm>
            <a:off x="3346560" y="225360"/>
            <a:ext cx="2466720" cy="6443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920B4-D7C7-4C22-888E-A71C1EB4491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36" name="Group 2"/>
          <p:cNvGrpSpPr/>
          <p:nvPr/>
        </p:nvGrpSpPr>
        <p:grpSpPr>
          <a:xfrm>
            <a:off x="826920" y="189000"/>
            <a:ext cx="7490160" cy="6516720"/>
            <a:chOff x="826920" y="189000"/>
            <a:chExt cx="7490160" cy="6516720"/>
          </a:xfrm>
        </p:grpSpPr>
        <p:sp>
          <p:nvSpPr>
            <p:cNvPr id="137" name="Rectangle 7"/>
            <p:cNvSpPr/>
            <p:nvPr/>
          </p:nvSpPr>
          <p:spPr>
            <a:xfrm>
              <a:off x="826920" y="189000"/>
              <a:ext cx="7490160" cy="65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38" name="Picture 8" descr="Learning Curve"/>
            <p:cNvPicPr/>
            <p:nvPr/>
          </p:nvPicPr>
          <p:blipFill>
            <a:blip r:embed="rId1"/>
            <a:srcRect l="0" t="0" r="134" b="69580"/>
            <a:stretch/>
          </p:blipFill>
          <p:spPr>
            <a:xfrm>
              <a:off x="1220760" y="1090440"/>
              <a:ext cx="6440400" cy="5268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FF5C-D5FB-4639-A518-4F24B68595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0" name="Group 1"/>
          <p:cNvGrpSpPr/>
          <p:nvPr/>
        </p:nvGrpSpPr>
        <p:grpSpPr>
          <a:xfrm>
            <a:off x="108000" y="115920"/>
            <a:ext cx="9036000" cy="6742080"/>
            <a:chOff x="108000" y="115920"/>
            <a:chExt cx="9036000" cy="6742080"/>
          </a:xfrm>
        </p:grpSpPr>
        <p:sp>
          <p:nvSpPr>
            <p:cNvPr id="141" name="Rectangle 7"/>
            <p:cNvSpPr/>
            <p:nvPr/>
          </p:nvSpPr>
          <p:spPr>
            <a:xfrm>
              <a:off x="108000" y="115920"/>
              <a:ext cx="9036000" cy="674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2" name="Picture 8" descr="Learning Curve"/>
            <p:cNvPicPr/>
            <p:nvPr/>
          </p:nvPicPr>
          <p:blipFill>
            <a:blip r:embed="rId1"/>
            <a:srcRect l="0" t="31036" r="0" b="40721"/>
            <a:stretch/>
          </p:blipFill>
          <p:spPr>
            <a:xfrm>
              <a:off x="582840" y="115920"/>
              <a:ext cx="7779240" cy="6244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BDD-65AC-4903-A973-B81BC3D70B8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44" name="Group 1"/>
          <p:cNvGrpSpPr/>
          <p:nvPr/>
        </p:nvGrpSpPr>
        <p:grpSpPr>
          <a:xfrm>
            <a:off x="0" y="44280"/>
            <a:ext cx="9144000" cy="6742440"/>
            <a:chOff x="0" y="44280"/>
            <a:chExt cx="9144000" cy="6742440"/>
          </a:xfrm>
        </p:grpSpPr>
        <p:sp>
          <p:nvSpPr>
            <p:cNvPr id="145" name="Rectangle 7"/>
            <p:cNvSpPr/>
            <p:nvPr/>
          </p:nvSpPr>
          <p:spPr>
            <a:xfrm>
              <a:off x="0" y="44280"/>
              <a:ext cx="9144000" cy="674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pic>
          <p:nvPicPr>
            <p:cNvPr id="146" name="Picture 8" descr="Learning Curve"/>
            <p:cNvPicPr/>
            <p:nvPr/>
          </p:nvPicPr>
          <p:blipFill>
            <a:blip r:embed="rId1"/>
            <a:srcRect l="0" t="61467" r="0" b="1592"/>
            <a:stretch/>
          </p:blipFill>
          <p:spPr>
            <a:xfrm>
              <a:off x="480600" y="44280"/>
              <a:ext cx="7872120" cy="6742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F36B-6119-474D-87D0-7A5FF380042D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ttp://3.bp.blogspot.com/-OLRKKawkuyQ/Unj_fI0ogqI/AAAAAAAADpo/EuutEgA8PZw/s1600/meeting1.jpg"/>
          <p:cNvPicPr/>
          <p:nvPr/>
        </p:nvPicPr>
        <p:blipFill>
          <a:blip r:embed="rId2"/>
          <a:srcRect l="7707" t="7635" r="7885" b="9839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6:54Z</dcterms:modified>
  <cp:revision>81</cp:revision>
  <dc:subject/>
  <dc:title>PowerPoint Presentation</dc:title>
</cp:coreProperties>
</file>