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2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30.png" ContentType="image/png"/>
  <Override PartName="/ppt/media/image3.jpeg" ContentType="image/jpeg"/>
  <Override PartName="/ppt/media/image12.gif" ContentType="image/gif"/>
  <Override PartName="/ppt/media/image31.png" ContentType="image/png"/>
  <Override PartName="/ppt/media/image13.png" ContentType="image/png"/>
  <Override PartName="/ppt/media/image11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jpeg" ContentType="image/jpeg"/>
  <Override PartName="/ppt/media/image21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61BFA-9431-4CBA-B4C7-BF5D9DC9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4C01E-007C-4429-898C-032CE819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DFF2F-35C1-4A2F-854A-926EDC8B1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2795C-461B-4A65-9509-7F0A7E56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50B9-51CD-4B94-A8A1-97AC599BA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13C-C9C9-4747-942D-23AD4A2F5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74A6-45DE-4BD8-8F13-1DA2EA9D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21E0-EE88-4CCC-A22D-9AD80E75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54F1-DD37-40C9-BE81-816C1AF5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6FD2-8498-46DF-9B3F-5981E870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785E-3126-41FF-9529-031FB3884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2762-72AE-42CC-95B6-FF676072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6BCE-50F0-4CF9-92AB-CB0D3B0FE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28D0C-9C20-4D59-A57C-033FE30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04F5-84B7-4CFD-9730-F0BD7E82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5AA3-11AF-47B2-9069-003613E70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BE5A-D97D-472C-954C-8E2F672C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11ED-AF13-497F-84A1-FAE9CACA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CD827-22E2-4C87-81A9-456424EF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D048-C473-4689-8AB1-191659D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9DCD7-E23E-4B5B-8BF0-FAC9480F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A3841-B931-4662-A7D6-CE9AA92F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830D7-8360-4B88-9718-55F617B0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B7C3C-9C72-4CCC-99FC-F5E01B3E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9B57F-463A-47F4-8905-F8524CBF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E44AC-C2F7-47A3-9E16-89BD5263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06B8-232B-4768-93F5-F9FBD647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E8C9D-BFE8-4AB8-A4B6-FB44A0DB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E1060-798C-4393-8778-D4A9B1B1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7EA76-1794-4066-B768-6EAC8A5D8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1B5A8-F2D8-491F-B183-CC992BB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C2891-8A1D-4D97-9D21-80AEA860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9D3BA-F74E-44F0-BAF6-0355D1FE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F9071-59F3-484B-A724-2377C1411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9FB26-BA97-483B-8D55-A05210B0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CF6BBF-CCDC-4122-A66C-2DDE033E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673A-E9D0-4E09-B18A-9EEB95BF4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1F81-2925-4321-8A24-08695B48E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62E2-5C0A-479D-9997-6FCD79607A2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equip.org/ce/index.php?module=ContentExpress&amp;func=display&amp;ceid=2&amp;mid=-1" TargetMode="External"/><Relationship Id="rId2" Type="http://schemas.openxmlformats.org/officeDocument/2006/relationships/image" Target="../media/image12.g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BO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Picture 6" descr="ttp://content.everydayhealth.com/wte3.0/gcms/surprising-labor-and-delivery-facts-woman-in-labor-full.jpg"/>
          <p:cNvPicPr/>
          <p:nvPr/>
        </p:nvPicPr>
        <p:blipFill>
          <a:blip r:embed="rId1"/>
          <a:stretch/>
        </p:blipFill>
        <p:spPr>
          <a:xfrm>
            <a:off x="592200" y="1773360"/>
            <a:ext cx="3384360" cy="33811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4567320" y="2470320"/>
            <a:ext cx="3673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ncluya dolor y luch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a buena señal de que algo está por suced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NACIMIEN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s un celebración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0" name="Picture 7" descr="http://sapiengames.com/wp-content/uploads/2014/09/stork.png"/>
          <p:cNvPicPr/>
          <p:nvPr/>
        </p:nvPicPr>
        <p:blipFill>
          <a:blip r:embed="rId1"/>
          <a:stretch/>
        </p:blipFill>
        <p:spPr>
          <a:xfrm>
            <a:off x="5724360" y="1197000"/>
            <a:ext cx="2737080" cy="3508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2"/>
          <a:stretch/>
        </p:blipFill>
        <p:spPr>
          <a:xfrm>
            <a:off x="1116000" y="3573360"/>
            <a:ext cx="318456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250920" y="1452600"/>
            <a:ext cx="889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8680" y="26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2700" spc="-1" strike="noStrike">
                <a:solidFill>
                  <a:srgbClr val="ffffff"/>
                </a:solidFill>
                <a:latin typeface="Garamond"/>
              </a:rPr>
              <a:t>Recorría Jesús todas las ciudades y aldeas, enseñando en las sinagogas de ellos, y predicando el evangelio del reino, y sanando toda enfermedad y toda dolencia en el pueblo. Y al ver las multitudes, tuvo compasión de ellas; porque estaban desamparadas y dispersas como ovejas que no tienen pastor. Entonces dijo a sus discípulos: A la verdad la mies es mucha, mas los obreros pocos. Rogad, pues, al Señor de la mies, que envíe obreros a su mies. Entonces llamando a sus doce discípulos, les dio autoridad sobre los espíritus inmundos, para que los echasen fuera, y para sanar toda enfermedad y toda dolencia. … A estos doce envió Jesús, y les dio instrucciones, diciendo: …Y yendo, predicad, diciendo: El reino de los cielos se ha acercado. Sanad enfermos, limpiad leprosos, resucitad muertos, echad fuera demonios; de gracia recibisteis, dad de gracia.” (Mateo 9:35-10:8)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0" y="141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óngase activo en el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RVICIO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 inicie con obedienci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munique l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REVELACIÓN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que ya tien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OBSERV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y entienda la realidad de la condición human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mita que Dios le de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ARG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por una necesidad específica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536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 (Mateo 9:35-10:8)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9144000" cy="43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que el diagnóstico divino: ¿CUÁL ES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L ASUNTO POR RESOLVER 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RE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determinar cual acción puede suplir esa neces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ija un equipo y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ÉLES PODE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colabora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-447480"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SzPct val="70000"/>
              <a:buFont typeface="Garamond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TOME ACCIÓN INMEDIAT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para el     cumplimiento de la vi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lograr el cumplimiento de la visión de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0" y="560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voz inspira su visión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0" y="1628640"/>
            <a:ext cx="9144000" cy="34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interna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enoj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l éxi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La voz de lo alto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5364000" y="4192560"/>
            <a:ext cx="330228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2097000"/>
            <a:ext cx="914400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mienzo fuer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Un tem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Lenguaje sencill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Ilustracione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: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Final emotivo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0" y="64296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lementos para comunicar su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5" descr="http://1.bp.blogspot.com/--PA0ynWyff4/UcZZQi2xbII/AAAAAAAANBM/9k8eZQOOxFw/s1600/%E5%B7%A5%E5%85%B7%E7%AE%B1+Cartoons+toolbox+vector+material+%E3%82%A4%E3%83%A9%E3%82%B9%E3%83%88%E7%B4%A0%E6%9D%90.jpg"/>
          <p:cNvPicPr/>
          <p:nvPr/>
        </p:nvPicPr>
        <p:blipFill>
          <a:blip r:embed="rId1"/>
          <a:stretch/>
        </p:blipFill>
        <p:spPr>
          <a:xfrm>
            <a:off x="5435640" y="4235400"/>
            <a:ext cx="37069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ómo debemos manejar la visión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1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Véala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LAR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Muéstr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REATIVA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omuníquela </a:t>
            </a:r>
            <a:br>
              <a:rPr sz="4000"/>
            </a:b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CONSTANTEMENT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6" name="Picture 5" descr="http://images.clipartpanda.com/creativity-clipart-62367-design-mascot-woman-painter.jpg"/>
          <p:cNvPicPr/>
          <p:nvPr/>
        </p:nvPicPr>
        <p:blipFill>
          <a:blip r:embed="rId1"/>
          <a:stretch/>
        </p:blipFill>
        <p:spPr>
          <a:xfrm>
            <a:off x="5916600" y="2492280"/>
            <a:ext cx="31068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0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3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2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6C30-D783-4993-8054-8F5291A34EB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0" y="2602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Garamond"/>
              </a:rPr>
              <a:t>Planeación Estratégica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Fallar en planear es un plan para fallar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9900"/>
                </a:solidFill>
                <a:latin typeface="Garamond"/>
              </a:rPr>
              <a:t>Leccion #4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6000" spc="-1" strike="noStrike">
                <a:solidFill>
                  <a:srgbClr val="ffcc00"/>
                </a:solidFill>
                <a:latin typeface="Garamond"/>
              </a:rPr>
              <a:t>Pagina 22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-108000" y="47628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Garamond"/>
              </a:rPr>
              <a:t>¡Tengo un sueño!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Capturando e implementando una visión dada por Dios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Lección #3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Garamond"/>
              </a:rPr>
              <a:t>Pagina 16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92F7-FD0C-44FF-9BAB-22E1EF4EC41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0" y="115920"/>
            <a:ext cx="810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jemplos bíblicos de planeación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Text Box 12"/>
          <p:cNvSpPr/>
          <p:nvPr/>
        </p:nvSpPr>
        <p:spPr>
          <a:xfrm>
            <a:off x="360360" y="1841400"/>
            <a:ext cx="874872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io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oé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Nehemías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David lo hizo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1920" indent="-6192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Jesús nos dió parábolas sobre el tem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14" descr="mlmspi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4320" y="333360"/>
            <a:ext cx="720720" cy="720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"/>
          <p:cNvPicPr/>
          <p:nvPr/>
        </p:nvPicPr>
        <p:blipFill>
          <a:blip r:embed="rId3"/>
          <a:stretch/>
        </p:blipFill>
        <p:spPr>
          <a:xfrm>
            <a:off x="6019920" y="1911240"/>
            <a:ext cx="2663640" cy="3281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5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42880" y="782280"/>
            <a:ext cx="8315280" cy="437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.</a:t>
            </a:r>
            <a:br>
              <a:rPr sz="6000"/>
            </a:br>
            <a:r>
              <a:rPr b="1" lang="es-ES" sz="6000" spc="-1" strike="noStrike">
                <a:solidFill>
                  <a:srgbClr val="ffffff"/>
                </a:solidFill>
                <a:latin typeface="Garamond"/>
              </a:rPr>
              <a:t>Todo ser humano con grandes logros ha incluido un factor divino y</a:t>
            </a:r>
            <a:br>
              <a:rPr sz="6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un factor de liderazgo.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5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EBF8-FA2D-4D7B-9E05-701D1538F992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A4DA-8AF6-4182-BA98-18325C54530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1"/>
          <a:stretch/>
        </p:blipFill>
        <p:spPr>
          <a:xfrm>
            <a:off x="3124080" y="115920"/>
            <a:ext cx="2951280" cy="660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B3532-1955-4CAA-870B-BA1B982ECE3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9" name="Picture 8" descr=""/>
          <p:cNvPicPr/>
          <p:nvPr/>
        </p:nvPicPr>
        <p:blipFill>
          <a:blip r:embed="rId1"/>
          <a:stretch/>
        </p:blipFill>
        <p:spPr>
          <a:xfrm>
            <a:off x="539640" y="44280"/>
            <a:ext cx="8209080" cy="6716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ABD82-A41B-4612-9F4B-CD97E5F993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1403280" y="44280"/>
            <a:ext cx="6697800" cy="6697800"/>
            <a:chOff x="1403280" y="44280"/>
            <a:chExt cx="6697800" cy="6697800"/>
          </a:xfrm>
        </p:grpSpPr>
        <p:pic>
          <p:nvPicPr>
            <p:cNvPr id="182" name="Picture 1" descr=""/>
            <p:cNvPicPr/>
            <p:nvPr/>
          </p:nvPicPr>
          <p:blipFill>
            <a:blip r:embed="rId1"/>
            <a:stretch/>
          </p:blipFill>
          <p:spPr>
            <a:xfrm>
              <a:off x="1403280" y="44280"/>
              <a:ext cx="6697800" cy="669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Rectangle 2"/>
            <p:cNvSpPr/>
            <p:nvPr/>
          </p:nvSpPr>
          <p:spPr>
            <a:xfrm>
              <a:off x="4716000" y="3573360"/>
              <a:ext cx="252072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DCF2-B92E-4F46-8428-5F0C680EDD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1187280" y="85680"/>
            <a:ext cx="6480360" cy="66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09EA-D9DF-4FD3-BD31-796B806742C9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Text Box 10"/>
          <p:cNvSpPr/>
          <p:nvPr/>
        </p:nvSpPr>
        <p:spPr>
          <a:xfrm>
            <a:off x="0" y="692280"/>
            <a:ext cx="9144000" cy="69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¡¡¡ORAR!!!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lane pa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LAN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9" name="Picture 9" descr="http://images.onlinelabels.com/images/clip-art/Anonymous/Anonymous_praying_hands.png"/>
          <p:cNvPicPr/>
          <p:nvPr/>
        </p:nvPicPr>
        <p:blipFill>
          <a:blip r:embed="rId1"/>
          <a:stretch/>
        </p:blipFill>
        <p:spPr>
          <a:xfrm>
            <a:off x="4551480" y="907920"/>
            <a:ext cx="1728720" cy="21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ttp://3.bp.blogspot.com/-OLRKKawkuyQ/Unj_fI0ogqI/AAAAAAAADpo/EuutEgA8PZw/s1600/meeting1.jpg"/>
          <p:cNvPicPr/>
          <p:nvPr/>
        </p:nvPicPr>
        <p:blipFill>
          <a:blip r:embed="rId2"/>
          <a:stretch/>
        </p:blipFill>
        <p:spPr>
          <a:xfrm>
            <a:off x="5148360" y="3936960"/>
            <a:ext cx="33130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24BA-5415-4436-A98F-C73AF6202CA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-19080" y="907920"/>
            <a:ext cx="9144000" cy="54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termine su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PROPÓSITO PRIMARI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Por qué existimo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719280" indent="-71928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¿Qué estamos tratando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de lograr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5580000" y="2349360"/>
            <a:ext cx="3313080" cy="2708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0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4699-3431-4AAA-A9F5-56D5987A2E8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0" y="692280"/>
            <a:ext cx="9144000" cy="44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VALÚE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la situacion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ENT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ER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ACTU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FUTUR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135576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1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rcRect l="2745" t="0" r="6290" b="0"/>
          <a:stretch/>
        </p:blipFill>
        <p:spPr>
          <a:xfrm>
            <a:off x="5432400" y="2647800"/>
            <a:ext cx="3254400" cy="3600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0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500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4C12-73E9-485D-9C2C-8D5F3D1911C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Text Box 2"/>
          <p:cNvSpPr/>
          <p:nvPr/>
        </p:nvSpPr>
        <p:spPr>
          <a:xfrm>
            <a:off x="0" y="801720"/>
            <a:ext cx="9144000" cy="64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spcBef>
                <a:spcPts val="1199"/>
              </a:spcBef>
              <a:buClr>
                <a:srgbClr val="ffffff"/>
              </a:buClr>
              <a:buSzPct val="70000"/>
              <a:buFont typeface="Garamond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IORIC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as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necesidade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 Haga la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REGUNTA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correcta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743040" indent="-74304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4557600" y="907920"/>
            <a:ext cx="4361040" cy="2213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9" descr="http://thumbs.gograph.com/gg56903211.jpg"/>
          <p:cNvPicPr/>
          <p:nvPr/>
        </p:nvPicPr>
        <p:blipFill>
          <a:blip r:embed="rId2"/>
          <a:stretch/>
        </p:blipFill>
        <p:spPr>
          <a:xfrm>
            <a:off x="1042920" y="3645000"/>
            <a:ext cx="2879640" cy="2882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0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1187280" y="2060640"/>
            <a:ext cx="748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Qué es una visión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503280" y="3500280"/>
            <a:ext cx="8172360" cy="31687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"/>
          <p:cNvSpPr/>
          <p:nvPr/>
        </p:nvSpPr>
        <p:spPr>
          <a:xfrm>
            <a:off x="684360" y="189000"/>
            <a:ext cx="7991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  <a:ea typeface="Arial"/>
              </a:rPr>
              <a:t>Proverbs 29:18 dice: “Donde no hay visión, el pueblo se extravía;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C458-23FD-41A1-9BC1-99AAD48F34FB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0" y="86040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6. Establecer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META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especifica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critas</a:t>
            </a:r>
            <a:r>
              <a:rPr b="0" lang="en-US" sz="3600" spc="-1" strike="noStrike">
                <a:solidFill>
                  <a:srgbClr val="ffc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Específic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Realist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Med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Perso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75000"/>
              </a:lnSpc>
              <a:spcBef>
                <a:spcPts val="18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</a:rPr>
              <a:t>Convicciónal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4572000" y="2392200"/>
            <a:ext cx="4138560" cy="4083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nodeType="clickEffect" fill="hold">
                      <p:stCondLst>
                        <p:cond delay="0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74989-AEA7-4E8C-9F20-8C1AF1BD3521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0" y="0"/>
            <a:ext cx="9144000" cy="85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7.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COMUNIQUE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y clarifique con su </a:t>
            </a:r>
            <a:br>
              <a:rPr sz="4200"/>
            </a:b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   equipo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onclusiones escrita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ista del proyect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Línea de tiempo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ista de recurso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Pasos siguientes (temas de acción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Responsabilidades (líderes de proyecto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1" name="Picture 4" descr="http://www.catalystdvservices.org/images/cup-phone-clipart.jpg"/>
          <p:cNvPicPr/>
          <p:nvPr/>
        </p:nvPicPr>
        <p:blipFill>
          <a:blip r:embed="rId1"/>
          <a:stretch/>
        </p:blipFill>
        <p:spPr>
          <a:xfrm>
            <a:off x="5219640" y="2425680"/>
            <a:ext cx="3732120" cy="2201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33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1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46" dur="5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1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56" dur="500"/>
                                        <p:tgtEl>
                                          <p:spTgt spid="2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1" dur="500"/>
                                        <p:tgtEl>
                                          <p:spTgt spid="2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6" dur="500"/>
                                        <p:tgtEl>
                                          <p:spTgt spid="2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060C-2B7A-44A4-B325-663A4E7F6B05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0" y="0"/>
            <a:ext cx="914400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8. Identifique </a:t>
            </a:r>
            <a:r>
              <a:rPr b="1" lang="en-US" sz="4200" spc="-1" strike="noStrike" u="sng">
                <a:solidFill>
                  <a:srgbClr val="ffffff"/>
                </a:solidFill>
                <a:uFillTx/>
                <a:latin typeface="Garamond"/>
              </a:rPr>
              <a:t>OBSTÁCULOS</a:t>
            </a: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 posibles.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  <a:p>
            <a:pPr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0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5" name="Picture 8" descr="j0254426"/>
          <p:cNvPicPr/>
          <p:nvPr/>
        </p:nvPicPr>
        <p:blipFill>
          <a:blip r:embed="rId1"/>
          <a:stretch/>
        </p:blipFill>
        <p:spPr>
          <a:xfrm>
            <a:off x="5173560" y="3090960"/>
            <a:ext cx="3535560" cy="3157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0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912A-51B6-4313-ACBB-1B6F5394E69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0"/>
            <a:ext cx="9144000" cy="46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9. Tenga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SISTEMA ABIERT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de planeacion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0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ADMINISTRE Y DIRIJ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sus recurs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0" name="Picture 6" descr="http://www.pageresource.com/clipart/clipart/money/bills/bills-wrapped-color.png"/>
          <p:cNvPicPr/>
          <p:nvPr/>
        </p:nvPicPr>
        <p:blipFill>
          <a:blip r:embed="rId1"/>
          <a:stretch/>
        </p:blipFill>
        <p:spPr>
          <a:xfrm>
            <a:off x="3570120" y="5373720"/>
            <a:ext cx="3162600" cy="14493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0" descr="http://www.clker.com/cliparts/3/3/6/a/119498454029858016people.svg.med.png"/>
          <p:cNvPicPr/>
          <p:nvPr/>
        </p:nvPicPr>
        <p:blipFill>
          <a:blip r:embed="rId2"/>
          <a:stretch/>
        </p:blipFill>
        <p:spPr>
          <a:xfrm>
            <a:off x="395280" y="4599000"/>
            <a:ext cx="2400480" cy="22147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2" descr="http://sweetclipart.com/multisite/sweetclipart/files/hourglass_silhouette.png"/>
          <p:cNvPicPr/>
          <p:nvPr/>
        </p:nvPicPr>
        <p:blipFill>
          <a:blip r:embed="rId3"/>
          <a:stretch/>
        </p:blipFill>
        <p:spPr>
          <a:xfrm>
            <a:off x="7405560" y="4487760"/>
            <a:ext cx="119880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0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4C86-C6A3-4505-8BA4-A755F9470377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0" y="0"/>
            <a:ext cx="9144000" cy="66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sos para una efectiva planeación estratégic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1.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MONITORE</a:t>
            </a:r>
            <a:r>
              <a:rPr b="1" lang="es-GT" sz="4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y </a:t>
            </a:r>
            <a:br>
              <a:rPr sz="4000"/>
            </a:br>
            <a:r>
              <a:rPr b="0" lang="es-GT" sz="4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s-GT" sz="4000" spc="-1" strike="noStrike" u="sng">
                <a:solidFill>
                  <a:srgbClr val="ffffff"/>
                </a:solidFill>
                <a:uFillTx/>
                <a:latin typeface="Garamond"/>
              </a:rPr>
              <a:t>CORRIJA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12.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ESTUDIE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los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      resultados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0" y="2205000"/>
            <a:ext cx="91440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9280" indent="-7192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7" name="Picture 5" descr=""/>
          <p:cNvPicPr/>
          <p:nvPr/>
        </p:nvPicPr>
        <p:blipFill>
          <a:blip r:embed="rId1"/>
          <a:stretch/>
        </p:blipFill>
        <p:spPr>
          <a:xfrm>
            <a:off x="520560" y="2946240"/>
            <a:ext cx="2705400" cy="3810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http://sweetclipart.com/multisite/sweetclipart/files/bike_red.png"/>
          <p:cNvPicPr/>
          <p:nvPr/>
        </p:nvPicPr>
        <p:blipFill>
          <a:blip r:embed="rId2"/>
          <a:stretch/>
        </p:blipFill>
        <p:spPr>
          <a:xfrm>
            <a:off x="5651640" y="1000080"/>
            <a:ext cx="3276360" cy="2116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0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0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18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4093-18F2-4025-96E4-EEEE1AA4401F}" type="slidenum">
              <a:rPr b="0" lang="en-GB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0" y="-27000"/>
            <a:ext cx="9144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¿Preguntas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600" spc="-1" strike="noStrike">
                <a:solidFill>
                  <a:srgbClr val="ffffff"/>
                </a:solidFill>
                <a:latin typeface="Garamond"/>
              </a:rPr>
              <a:t>o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ffffff"/>
                </a:solidFill>
                <a:latin typeface="Garamond"/>
              </a:rPr>
              <a:t>Comentarios?</a:t>
            </a:r>
            <a:endParaRPr b="0" lang="en-US" sz="10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Garamond"/>
              </a:rPr>
              <a:t>Respuestas: p. 21, 27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0" y="1700280"/>
            <a:ext cx="9144000" cy="64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Visión es ver el futuro, en el presente, construido sobre el pasad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“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Visión es ver lo invisible y convertirlo en visible.”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buClr>
                <a:srgbClr val="ffffff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ón es un puente de información del presente a un mejor futuro.”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8"/>
          <p:cNvSpPr/>
          <p:nvPr/>
        </p:nvSpPr>
        <p:spPr>
          <a:xfrm>
            <a:off x="0" y="1341360"/>
            <a:ext cx="9144000" cy="46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VISION ES UNA CLARA IMAGEN DE U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MEJOR MAÑANA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DADO POR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IOS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QUE MUEVE A UNA PERSONA A CREER NO SOLAMENTE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PUED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, SINO QUÉ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aramond"/>
              </a:rPr>
              <a:t>DEBE SER HECHO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¿Qué es una visión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Note los ingredientes de una visión divina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0" y="1312920"/>
            <a:ext cx="9144000" cy="46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1800"/>
              </a:spcAft>
              <a:buClr>
                <a:srgbClr val="ffff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a clara pintur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2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cambio positiv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3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enfoque futuro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4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Un regalo de D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5.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ente y tiempo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scogid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4284720" y="4941720"/>
            <a:ext cx="47289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1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INTIMIDAD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s que pasar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mpo con el Señor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  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Picture 7" descr="http://pinchofgrace.files.wordpress.com/2011/08/silhouette-of-woman-praying.jpg"/>
          <p:cNvPicPr/>
          <p:nvPr/>
        </p:nvPicPr>
        <p:blipFill>
          <a:blip r:embed="rId1"/>
          <a:stretch/>
        </p:blipFill>
        <p:spPr>
          <a:xfrm>
            <a:off x="5867280" y="2343240"/>
            <a:ext cx="2881440" cy="41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CONCEP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3000"/>
          </a:bodyPr>
          <a:p>
            <a:pPr marL="586080" indent="-586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Picture 5" descr="http://ec.l.thumbs.canstockphoto.com/canstock2777881.jpg"/>
          <p:cNvPicPr/>
          <p:nvPr/>
        </p:nvPicPr>
        <p:blipFill>
          <a:blip r:embed="rId1"/>
          <a:stretch/>
        </p:blipFill>
        <p:spPr>
          <a:xfrm>
            <a:off x="2475000" y="3840120"/>
            <a:ext cx="4194000" cy="294336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2"/>
          <p:cNvSpPr/>
          <p:nvPr/>
        </p:nvSpPr>
        <p:spPr>
          <a:xfrm>
            <a:off x="250920" y="2033640"/>
            <a:ext cx="864216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mpieza pequeno y crece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spcBef>
                <a:spcPts val="1800"/>
              </a:spcBef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ecerá a Dios y t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GESTACIÓ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spcAft>
                <a:spcPts val="1800"/>
              </a:spcAft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 el período más larg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de todo el proces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-280080">
              <a:spcBef>
                <a:spcPts val="18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La visión de Dios va a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estirarte!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280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17"/>
          <p:cNvSpPr/>
          <p:nvPr/>
        </p:nvSpPr>
        <p:spPr>
          <a:xfrm>
            <a:off x="0" y="189000"/>
            <a:ext cx="914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630360" indent="-63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Verdana"/>
              </a:rPr>
              <a:t>El nacimiento de una visió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Picture 5" descr="http://www.clipartbest.com/cliparts/ncE/a96/ncEa96acA.png"/>
          <p:cNvPicPr/>
          <p:nvPr/>
        </p:nvPicPr>
        <p:blipFill>
          <a:blip r:embed="rId1"/>
          <a:stretch/>
        </p:blipFill>
        <p:spPr>
          <a:xfrm>
            <a:off x="6921360" y="1181160"/>
            <a:ext cx="2070360" cy="53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23:14:14Z</dcterms:modified>
  <cp:revision>89</cp:revision>
  <dc:subject/>
  <dc:title>PowerPoint Presentation</dc:title>
</cp:coreProperties>
</file>