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C24C3-888E-4DBA-A269-6E4FD00E8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28386-55D4-47F0-B5CA-A3ACD974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75260-0137-4E86-9707-878C4624A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C89B5-0328-4D07-81B2-DD0FFCEEF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48CF-6B37-499B-81D7-0F6D1A867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99B3-513B-43A4-87CC-1A457F47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45F4-5052-4DB5-B7A7-ED9DA193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B0A68-8D02-45F9-A5EC-9011F552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CF79-8BAF-4253-AF5D-45A4D0F8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206E-261A-43B0-A984-04842257B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03C5-29D7-44F8-815E-13C85999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4B197-51BB-4DC0-B685-9B3640804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81D6A-AA88-4D08-BC1F-CD19A9A5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8E92-C5C2-4916-8367-6E7F6881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A251-3012-49EF-AB3A-A1FF817F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BED5-2286-40C6-B16A-E4959041E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C30D-13DC-4D3F-B893-A3D607A5B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463FA-3397-47A5-A4E0-F04F6ED5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8607E-5F85-4F0B-82C3-EF8EA570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D985F-EB89-4EA4-A219-6A7B871D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EDB05-1333-49A4-840C-87D4CC00E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486E3-6949-4E2A-8CAE-41608393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641FB-E1C5-4A8F-BD29-590CF1EE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EE577-045E-451F-BC5E-8ADB52F5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6FE6-2390-4C58-9096-36A5EB3B5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8D1E-1964-4D1F-A60F-95D67946DD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¿CUÁL ES 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-483480"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83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6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4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384A9-C371-4607-B209-1C10D4DE21A4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620640"/>
            <a:ext cx="914400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1125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332000" y="836640"/>
            <a:ext cx="74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485640" y="2708280"/>
            <a:ext cx="81727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8"/>
          <p:cNvSpPr/>
          <p:nvPr/>
        </p:nvSpPr>
        <p:spPr>
          <a:xfrm>
            <a:off x="0" y="1341360"/>
            <a:ext cx="914400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IMAGEN DE UN MEJOR MAÑANA, DADO POR DIOS, QUE MUEVE A UNA PERSONA A CREER NO SOLAMENTE QUÉ PUEDE SER HECHO, SINO QUÉ DEBE SER HECH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7" descr="http://pinchofgrace.files.wordpress.com/2011/08/silhouette-of-woman-praying.jpg"/>
          <p:cNvPicPr/>
          <p:nvPr/>
        </p:nvPicPr>
        <p:blipFill>
          <a:blip r:embed="rId1"/>
          <a:srcRect l="10321" t="5359" r="5848" b="3805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Picture 5" descr="http://ec.l.thumbs.canstockphoto.com/canstock2777881.jpg"/>
          <p:cNvPicPr/>
          <p:nvPr/>
        </p:nvPicPr>
        <p:blipFill>
          <a:blip r:embed="rId1"/>
          <a:srcRect l="3420" t="21882" r="0" b="20314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31080" y="1182600"/>
            <a:ext cx="2047680" cy="53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Bryan Cyr</cp:lastModifiedBy>
  <dcterms:modified xsi:type="dcterms:W3CDTF">2016-09-13T21:37:13Z</dcterms:modified>
  <cp:revision>77</cp:revision>
  <dc:subject/>
  <dc:title>PowerPoint Presentation</dc:title>
</cp:coreProperties>
</file>