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gif" ContentType="image/gif"/>
  <Override PartName="/ppt/media/image28.jpeg" ContentType="image/jpeg"/>
  <Override PartName="/ppt/media/image26.jpeg" ContentType="image/jpeg"/>
  <Override PartName="/ppt/media/image23.jpeg" ContentType="image/jpeg"/>
  <Override PartName="/ppt/media/image19.gif" ContentType="image/gif"/>
  <Override PartName="/ppt/media/image21.jpeg" ContentType="image/jpeg"/>
  <Override PartName="/ppt/media/image6.gif" ContentType="image/gif"/>
  <Override PartName="/ppt/media/image17.gif" ContentType="image/gif"/>
  <Override PartName="/ppt/media/image16.jpeg" ContentType="image/jpeg"/>
  <Override PartName="/ppt/media/image15.jpeg" ContentType="image/jpeg"/>
  <Override PartName="/ppt/media/image29.gif" ContentType="image/gif"/>
  <Override PartName="/ppt/media/image10.jpeg" ContentType="image/jpeg"/>
  <Override PartName="/ppt/media/image5.png" ContentType="image/png"/>
  <Override PartName="/ppt/media/image35.jpeg" ContentType="image/jpeg"/>
  <Override PartName="/ppt/media/image25.gif" ContentType="image/gif"/>
  <Override PartName="/ppt/media/image34.jpeg" ContentType="image/jpeg"/>
  <Override PartName="/ppt/media/image20.png" ContentType="image/png"/>
  <Override PartName="/ppt/media/image36.jpeg" ContentType="image/jpeg"/>
  <Override PartName="/ppt/media/image40.png" ContentType="image/png"/>
  <Override PartName="/ppt/media/image7.jpeg" ContentType="image/jpeg"/>
  <Override PartName="/ppt/media/image38.jpeg" ContentType="image/jpeg"/>
  <Override PartName="/ppt/media/image32.jpeg" ContentType="image/jpeg"/>
  <Override PartName="/ppt/media/image33.jpeg" ContentType="image/jpeg"/>
  <Override PartName="/ppt/media/image39.jpeg" ContentType="image/jpeg"/>
  <Override PartName="/ppt/media/image8.gif" ContentType="image/gif"/>
  <Override PartName="/ppt/media/image13.jpeg" ContentType="image/jpeg"/>
  <Override PartName="/ppt/media/image12.jpeg" ContentType="image/jpeg"/>
  <Override PartName="/ppt/media/image4.png" ContentType="image/png"/>
  <Override PartName="/ppt/media/image31.gif" ContentType="image/gif"/>
  <Override PartName="/ppt/media/image1.gif" ContentType="image/gif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11.png" ContentType="image/png"/>
  <Override PartName="/ppt/media/image2.png" ContentType="image/png"/>
  <Override PartName="/ppt/media/image18.jpeg" ContentType="image/jpeg"/>
  <Override PartName="/ppt/media/image22.gif" ContentType="image/gif"/>
  <Override PartName="/ppt/media/image1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C97E-C73E-4BF9-9041-15267CB5EA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90B2-4C48-4E4F-AB65-0762E94815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7BE5-2963-4F24-A8AD-B35BD93B53E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1FF3-015E-4CB6-B629-5D03FEFB36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A6B5-E267-44C2-B762-12C560B7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4A01-C884-427B-A5AF-60AE5CDC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F84B-CA81-4E48-A339-413A13EB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B69D-EC14-43DB-96A7-1B56DCAE8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AA8A-08F2-4CD7-B581-9E08993C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4222-F1E0-4434-B290-24091133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2C37-A0A0-435A-A427-88A8B58F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E654-D934-407E-A7B6-0682E660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28A1-E7E8-4149-A0D2-C5827546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B57-6A3D-4878-B02B-87CFF24D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8A0-F6CC-472F-ADC0-14F8AC00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F577-6387-4719-A8D2-F008A88E3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28C61-1E09-4139-8EFC-BC6EC722D69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31.gif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8.gif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FC43A-01D8-4A70-840D-12C7DB20E69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65BF-42E8-4AE4-BD29-55D4598DC9E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800" spc="-1" strike="noStrike">
                <a:solidFill>
                  <a:srgbClr val="ffffff"/>
                </a:solidFill>
                <a:latin typeface="Garamond"/>
              </a:rPr>
              <a:t>Por tanto, nosotros también, teniendo en derredor nuestro tan grande nube de testigos, despojémonos de todo peso y del pecado que nos asedia, y corramos con paciencia la carrera que tenemos por delante, puestos los ojos en Jesús, el autor y consumador de la fe, el cual por el gozo puesto delante de él sufrió la cruz, menospreciando el oprobio, y se sentó a la diestra del trono de Dios.” </a:t>
            </a: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(Hebreos </a:t>
            </a:r>
            <a:r>
              <a:rPr b="1" i="1" lang="en-US" sz="38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FBA8-4D65-4D7E-94FA-9F4F9D386AF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728640"/>
            <a:ext cx="9144000" cy="61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Carácter …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munica y construye CREDIBILIDAD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onlleva RESPET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crea CONSISTENCI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11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Carácter gana CONFIANZA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AEA6-881D-4FCD-8F3B-E127082B9A6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DISCIPLIN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ersonal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.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SEGURIDAD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 IDENTIDAD PERSONAL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6012000" y="836640"/>
            <a:ext cx="2966760" cy="197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http://images.mylot.com/userImages/images/postphotos/2355283.gif"/>
          <p:cNvPicPr/>
          <p:nvPr/>
        </p:nvPicPr>
        <p:blipFill>
          <a:blip r:embed="rId2"/>
          <a:stretch/>
        </p:blipFill>
        <p:spPr>
          <a:xfrm>
            <a:off x="2916360" y="2816280"/>
            <a:ext cx="2570040" cy="2060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http://thumbs.dreamstime.com/x/generic-cartoon-person-walking-confidently-vector-clip-art-illustration-forward-34534212.jpg"/>
          <p:cNvPicPr/>
          <p:nvPr/>
        </p:nvPicPr>
        <p:blipFill>
          <a:blip r:embed="rId3"/>
          <a:stretch/>
        </p:blipFill>
        <p:spPr>
          <a:xfrm>
            <a:off x="7329600" y="4118040"/>
            <a:ext cx="1743120" cy="2674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B643-41D2-4CDD-9B68-7A47D0187E8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Para construir un carácter fuerte, los líderes deben escoger: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c. Desarrollar CONVICCIONES PERSONALES, VALORES y ÉTICA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Picture 11" descr=""/>
          <p:cNvPicPr/>
          <p:nvPr/>
        </p:nvPicPr>
        <p:blipFill>
          <a:blip r:embed="rId1"/>
          <a:stretch/>
        </p:blipFill>
        <p:spPr>
          <a:xfrm>
            <a:off x="2344680" y="3143160"/>
            <a:ext cx="445284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3DB03-2FE8-4A65-8116-609353F776F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1160" y="2276640"/>
            <a:ext cx="9144000" cy="23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1" lang="en-US" sz="49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1" lang="en-US" sz="49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49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4" name="Picture 16" descr="j0178299"/>
          <p:cNvPicPr/>
          <p:nvPr/>
        </p:nvPicPr>
        <p:blipFill>
          <a:blip r:embed="rId1"/>
          <a:stretch/>
        </p:blipFill>
        <p:spPr>
          <a:xfrm>
            <a:off x="4067280" y="1197000"/>
            <a:ext cx="971280" cy="97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0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2448000" y="4149720"/>
            <a:ext cx="4248000" cy="2540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p:transition spd="med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9C6E-6806-430B-8D94-9F88649382A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0" y="9360"/>
            <a:ext cx="9144000" cy="74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Así que, hermanos, os ruego por las misericordias de Dios, que presentéis vuestros cuerpos en </a:t>
            </a:r>
            <a:r>
              <a:rPr b="1" i="1" lang="en-US" sz="4000" spc="-1" strike="noStrike">
                <a:solidFill>
                  <a:srgbClr val="ffffff"/>
                </a:solidFill>
                <a:latin typeface="Garamond"/>
              </a:rPr>
              <a:t>sacrificio vivo, santo, agradable a Dios, que es vuestro culto racional. No os conforméis a este siglo,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sino transformaos por medio de la renovación de vuestro entendimiento, para que comprobéis cuál sea la buena voluntad de Dios, agradable y perfecta.” </a:t>
            </a: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Romano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12:1-2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A6AA-B652-4FEE-9152-97270A44936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08000" y="441000"/>
            <a:ext cx="9144000" cy="32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ara liderar a otros, debemo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sarrollar tres actitudes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total rendimiento a Dio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COMPROBA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PER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99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debemos tener nada que ESCONDER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4" descr="http://www.clipartbest.com/cliparts/7Ta/y6k/7Tay6kETA.jpeg"/>
          <p:cNvPicPr/>
          <p:nvPr/>
        </p:nvPicPr>
        <p:blipFill>
          <a:blip r:embed="rId1"/>
          <a:stretch/>
        </p:blipFill>
        <p:spPr>
          <a:xfrm>
            <a:off x="6357960" y="115920"/>
            <a:ext cx="2714760" cy="23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E9473-B36C-41C9-811C-9BE8F88F0A2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2320" y="2491920"/>
            <a:ext cx="47512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7" descr="j0178300"/>
          <p:cNvPicPr/>
          <p:nvPr/>
        </p:nvPicPr>
        <p:blipFill>
          <a:blip r:embed="rId1"/>
          <a:stretch/>
        </p:blipFill>
        <p:spPr>
          <a:xfrm>
            <a:off x="1547640" y="1160640"/>
            <a:ext cx="1032120" cy="1031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Picture 7" descr="http://stickypictures.net/wp-content/uploads/2014/10/prayer-clip-art-2.jpg"/>
          <p:cNvPicPr/>
          <p:nvPr/>
        </p:nvPicPr>
        <p:blipFill>
          <a:blip r:embed="rId2"/>
          <a:stretch/>
        </p:blipFill>
        <p:spPr>
          <a:xfrm>
            <a:off x="5465880" y="2744640"/>
            <a:ext cx="346212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6E2D-3D17-4EB1-8FD7-A6800CC2B25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0" y="4203720"/>
            <a:ext cx="9144000" cy="33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3 clases de oració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EDIR — Esta es la oración de fe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BUSCAR — Esta es la oración de dedicac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LAMAR — Esta es la oración de intercesión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80" y="-5400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¿Está alguno entre vosotros afligido? Haga oración… ¿Está alguno enfermo entre vosotros? Llame a los ancianos de la iglesia, y oren por él… Y la oración de fe salvará al enfermo, y el Señor lo levantará… Confesaos vuestras ofensas unos a otros, y orad unos por otros, para que seáis sanados. La oración eficaz del justo puede mucho.” </a:t>
            </a:r>
            <a:r>
              <a:rPr b="1" lang="es-ES" sz="3400" spc="-1" strike="noStrike">
                <a:solidFill>
                  <a:srgbClr val="ffffff"/>
                </a:solidFill>
                <a:latin typeface="Garamond"/>
              </a:rPr>
              <a:t>(Santiago </a:t>
            </a:r>
            <a:r>
              <a:rPr b="1" i="1" lang="es-ES" sz="3400" spc="-1" strike="noStrike">
                <a:solidFill>
                  <a:srgbClr val="ffffff"/>
                </a:solidFill>
                <a:latin typeface="Garamond"/>
              </a:rPr>
              <a:t>5:13-17)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C4611-A9E7-4828-B388-7F8C55A1467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5065560" y="3105000"/>
            <a:ext cx="4070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6" descr="j0178301"/>
          <p:cNvPicPr/>
          <p:nvPr/>
        </p:nvPicPr>
        <p:blipFill>
          <a:blip r:embed="rId1"/>
          <a:stretch/>
        </p:blipFill>
        <p:spPr>
          <a:xfrm>
            <a:off x="6335640" y="1197000"/>
            <a:ext cx="1006560" cy="10065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7" descr="http://www.kenandsue.org/images/Bible_clip_art_-colored_open.gif"/>
          <p:cNvPicPr/>
          <p:nvPr/>
        </p:nvPicPr>
        <p:blipFill>
          <a:blip r:embed="rId2"/>
          <a:stretch/>
        </p:blipFill>
        <p:spPr>
          <a:xfrm>
            <a:off x="250920" y="3105000"/>
            <a:ext cx="3889440" cy="3521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02DF-C604-4541-BEEC-0BCA5C17B93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441000"/>
            <a:ext cx="914400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El Corazón 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de un líder</a:t>
            </a:r>
            <a:endParaRPr b="0" lang="en-US" sz="7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esarrollando las cualidades que diferencian a los líderes de otros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ección #2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gina 1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1" name="Picture 19" descr="j0236214"/>
          <p:cNvPicPr/>
          <p:nvPr/>
        </p:nvPicPr>
        <p:blipFill>
          <a:blip r:embed="rId1"/>
          <a:stretch/>
        </p:blipFill>
        <p:spPr>
          <a:xfrm>
            <a:off x="7240680" y="907920"/>
            <a:ext cx="2031840" cy="17798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E147A-F0A8-44DC-ADED-BA7766974DD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15840" y="388800"/>
            <a:ext cx="9128160" cy="74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Toda la Escritura es inspirada por Dios, y útil para enseñar, para redargüir, para corregir, para instruir en justicia, a fin de que el hombre de Dios sea perfecto, enteramente preparado para toda buena obra.” </a:t>
            </a:r>
            <a:br>
              <a:rPr sz="3600"/>
            </a:b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3:16-17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Procura con diligencia presentarte a Dios aprobado, como obrero que no tiene de que avergonzarse, que usa bien la palabra de verdad.” </a:t>
            </a:r>
            <a:r>
              <a:rPr b="1" lang="es-ES" sz="3600" spc="-1" strike="noStrike">
                <a:solidFill>
                  <a:srgbClr val="ffffff"/>
                </a:solidFill>
                <a:latin typeface="Garamond"/>
              </a:rPr>
              <a:t>(2 Timoteo </a:t>
            </a:r>
            <a:r>
              <a:rPr b="1" i="1" lang="es-ES" sz="3600" spc="-1" strike="noStrike">
                <a:solidFill>
                  <a:srgbClr val="ffffff"/>
                </a:solidFill>
                <a:latin typeface="Garamond"/>
              </a:rPr>
              <a:t>2:15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DB2F-9F07-49D4-B475-83DDAB95EB38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5840" y="297000"/>
            <a:ext cx="914400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estudiosos de la Palab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de Dios examinan la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crituras para entend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u significado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un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todo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Bef>
                <a:spcPts val="901"/>
              </a:spcBef>
              <a:spcAft>
                <a:spcPts val="2401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n este tiemp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6199200" y="549360"/>
            <a:ext cx="2840040" cy="19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3712-3359-4B4E-ADF5-D26AF081181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5720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4967280" y="2884320"/>
            <a:ext cx="4032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15" descr="j0178302"/>
          <p:cNvPicPr/>
          <p:nvPr/>
        </p:nvPicPr>
        <p:blipFill>
          <a:blip r:embed="rId1"/>
          <a:stretch/>
        </p:blipFill>
        <p:spPr>
          <a:xfrm>
            <a:off x="6227640" y="1219320"/>
            <a:ext cx="1044720" cy="10443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"/>
          <p:cNvPicPr/>
          <p:nvPr/>
        </p:nvPicPr>
        <p:blipFill>
          <a:blip r:embed="rId2"/>
          <a:stretch/>
        </p:blipFill>
        <p:spPr>
          <a:xfrm>
            <a:off x="142920" y="2205000"/>
            <a:ext cx="4300560" cy="416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908B-DDA5-4EF9-A7C2-912CABC70E5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0" y="7920"/>
            <a:ext cx="9144000" cy="72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 griegos y a no griegos, a sabios y a no sabios soy deudor. </a:t>
            </a:r>
            <a:r>
              <a:rPr b="1" lang="es-ES" sz="4400" spc="-1" strike="noStrike" baseline="30000">
                <a:solidFill>
                  <a:srgbClr val="ffffff"/>
                </a:solidFill>
                <a:latin typeface="Times New Roman"/>
              </a:rPr>
              <a:t> </a:t>
            </a: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Así que, en cuanto a mí, pronto estoy a anunciaros el evangelio también a vosotros que estáis en Roma. Porque no me avergüenzo del evangelio, porque es poder de Dios para salvación a todo aquel que cree; al judío primeramente, y también al griego.” (</a:t>
            </a: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Romanos 1:14-16)</a:t>
            </a:r>
            <a:br>
              <a:rPr sz="3200"/>
            </a:b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F971-BC3E-44BD-82D5-FB86032EB53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0" y="-63360"/>
            <a:ext cx="9144000" cy="46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l apóstol Pablo expresa tres actitudes concernientes al Evangelio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OBLIG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Estoy ANSIOS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901"/>
              </a:spcBef>
              <a:spcAft>
                <a:spcPts val="29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No estoy AVERGONZADO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6" descr="http://kids.christiansunite.com/images/Bible_Stories/219.jpg"/>
          <p:cNvPicPr/>
          <p:nvPr/>
        </p:nvPicPr>
        <p:blipFill>
          <a:blip r:embed="rId1"/>
          <a:stretch/>
        </p:blipFill>
        <p:spPr>
          <a:xfrm>
            <a:off x="6184800" y="3149640"/>
            <a:ext cx="2952720" cy="3708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2B0F-3378-42A9-A546-E5BA110CEC4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3038040"/>
            <a:ext cx="3852720" cy="3429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que espera resultad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3" name="Picture 13" descr="j0178303"/>
          <p:cNvPicPr/>
          <p:nvPr/>
        </p:nvPicPr>
        <p:blipFill>
          <a:blip r:embed="rId1"/>
          <a:stretch/>
        </p:blipFill>
        <p:spPr>
          <a:xfrm>
            <a:off x="1638360" y="1449360"/>
            <a:ext cx="1077840" cy="10778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"/>
          <p:cNvPicPr/>
          <p:nvPr/>
        </p:nvPicPr>
        <p:blipFill>
          <a:blip r:embed="rId2"/>
          <a:stretch/>
        </p:blipFill>
        <p:spPr>
          <a:xfrm>
            <a:off x="4788000" y="1290600"/>
            <a:ext cx="4119480" cy="51865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4AAA-85FA-461B-8980-24366196E45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79640" y="3321000"/>
            <a:ext cx="4319640" cy="244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en actitud y en acción</a:t>
            </a:r>
            <a:br>
              <a:rPr sz="4000"/>
            </a:b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8" name="Picture 13" descr="j0178304"/>
          <p:cNvPicPr/>
          <p:nvPr/>
        </p:nvPicPr>
        <p:blipFill>
          <a:blip r:embed="rId1"/>
          <a:stretch/>
        </p:blipFill>
        <p:spPr>
          <a:xfrm>
            <a:off x="6192720" y="1305000"/>
            <a:ext cx="1079640" cy="1079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9" descr="http://sr.photos3.fotosearch.com/bthumb/CSP/CSP991/k11740221.jpg"/>
          <p:cNvPicPr/>
          <p:nvPr/>
        </p:nvPicPr>
        <p:blipFill>
          <a:blip r:embed="rId2"/>
          <a:stretch/>
        </p:blipFill>
        <p:spPr>
          <a:xfrm>
            <a:off x="154080" y="1459080"/>
            <a:ext cx="4525920" cy="523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10C2-0C19-4D91-8B32-1D4514538B8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40" y="-114480"/>
            <a:ext cx="9001080" cy="81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Haya, pues, en vosotros este sentir que hubo también en Cristo Jesús, el cual, siendo en forma de Dios, no estimó el ser igual a Dios como cosa a que aferrarse, sino que se despojó a sí mismo, tomando forma de siervo, hecho semejante a los hombres; y estando en la condición de hombre, se humilló a sí mismo, haciéndose obediente hasta la muerte, y muerte de cruz.” </a:t>
            </a: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Garamond"/>
              </a:rPr>
              <a:t>(Filipenses </a:t>
            </a:r>
            <a:r>
              <a:rPr b="1" i="1" lang="es-ES" sz="4000" spc="-1" strike="noStrike">
                <a:solidFill>
                  <a:srgbClr val="ffffff"/>
                </a:solidFill>
                <a:latin typeface="Garamond"/>
              </a:rPr>
              <a:t>2:5-8)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2B119-60F7-439D-85F2-36633ADE194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8560" y="3104640"/>
            <a:ext cx="4392360" cy="2737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1" lang="en-US" sz="66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 en él mismo y en otros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5" name="Picture 13" descr="j0178305"/>
          <p:cNvPicPr/>
          <p:nvPr/>
        </p:nvPicPr>
        <p:blipFill>
          <a:blip r:embed="rId1"/>
          <a:stretch/>
        </p:blipFill>
        <p:spPr>
          <a:xfrm>
            <a:off x="1835280" y="135900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Picture 7" descr="http://christrescuemission.org/yahoo_site_admin/assets/images/gift-within.187221124.png"/>
          <p:cNvPicPr/>
          <p:nvPr/>
        </p:nvPicPr>
        <p:blipFill>
          <a:blip r:embed="rId2"/>
          <a:stretch/>
        </p:blipFill>
        <p:spPr>
          <a:xfrm>
            <a:off x="5759280" y="895320"/>
            <a:ext cx="2521080" cy="5599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8FA0-6877-4695-9F91-341C0092A02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para impartir poder a otros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150" name="Group 18"/>
          <p:cNvGrpSpPr/>
          <p:nvPr/>
        </p:nvGrpSpPr>
        <p:grpSpPr>
          <a:xfrm>
            <a:off x="3959280" y="873000"/>
            <a:ext cx="1223640" cy="863280"/>
            <a:chOff x="3959280" y="873000"/>
            <a:chExt cx="1223640" cy="863280"/>
          </a:xfrm>
        </p:grpSpPr>
        <p:pic>
          <p:nvPicPr>
            <p:cNvPr id="151" name="Picture 15" descr="j0178297"/>
            <p:cNvPicPr/>
            <p:nvPr/>
          </p:nvPicPr>
          <p:blipFill>
            <a:blip r:embed="rId1"/>
            <a:stretch/>
          </p:blipFill>
          <p:spPr>
            <a:xfrm>
              <a:off x="3959280" y="873000"/>
              <a:ext cx="767880" cy="86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6" descr="j0178296"/>
            <p:cNvPicPr/>
            <p:nvPr/>
          </p:nvPicPr>
          <p:blipFill>
            <a:blip r:embed="rId2"/>
            <a:stretch/>
          </p:blipFill>
          <p:spPr>
            <a:xfrm>
              <a:off x="4413600" y="873000"/>
              <a:ext cx="769320" cy="86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Text Box 19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4" name="Picture 9" descr="http://www.meadechurch.org/Customer-Content/meadechurch/CMS/images/wash_5624c.jpg"/>
          <p:cNvPicPr/>
          <p:nvPr/>
        </p:nvPicPr>
        <p:blipFill>
          <a:blip r:embed="rId3"/>
          <a:stretch/>
        </p:blipFill>
        <p:spPr>
          <a:xfrm>
            <a:off x="1008000" y="4051440"/>
            <a:ext cx="4248360" cy="2690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http://thumbs.gograph.com/gg64542846.jpg"/>
          <p:cNvPicPr/>
          <p:nvPr/>
        </p:nvPicPr>
        <p:blipFill>
          <a:blip r:embed="rId4"/>
          <a:stretch/>
        </p:blipFill>
        <p:spPr>
          <a:xfrm>
            <a:off x="6372360" y="4027320"/>
            <a:ext cx="1333440" cy="2749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BC9C-F5BF-426D-B780-0813D646752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99640" y="728280"/>
            <a:ext cx="748836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Y los apacentó conforme a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integridad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 de su corazón, Los pastoreó con la </a:t>
            </a:r>
            <a:r>
              <a:rPr b="0" i="1" lang="es-ES" sz="6600" spc="-1" strike="noStrike" u="sng">
                <a:solidFill>
                  <a:srgbClr val="ffffff"/>
                </a:solidFill>
                <a:uFillTx/>
                <a:latin typeface="Garamond"/>
              </a:rPr>
              <a:t>pericia </a:t>
            </a: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de sus manos.”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600" spc="-1" strike="noStrike">
                <a:solidFill>
                  <a:srgbClr val="ffffff"/>
                </a:solidFill>
                <a:latin typeface="Garamond"/>
              </a:rPr>
              <a:t>(Psalmos 78:72)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72E3-5B82-4475-802D-92AB6D70559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owel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Into titl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9" name="Rectangle 98"/>
          <p:cNvSpPr/>
          <p:nvPr/>
        </p:nvSpPr>
        <p:spPr>
          <a:xfrm>
            <a:off x="0" y="1736640"/>
            <a:ext cx="9325080" cy="5121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AD8D-D207-4FD0-BD41-D6340ABE844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4500720" y="1881360"/>
            <a:ext cx="349236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BC010-88B7-4D76-A227-22A83ED81F2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0" y="0"/>
            <a:ext cx="46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servici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e enfoca en el títul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dentit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7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7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Draw strength from imag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" name="Rectangle 23"/>
          <p:cNvSpPr/>
          <p:nvPr/>
        </p:nvSpPr>
        <p:spPr>
          <a:xfrm>
            <a:off x="0" y="2852640"/>
            <a:ext cx="9325080" cy="40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Picture 26" descr="http://images.clipartpanda.com/servant-clipart-0025-0806-0218-1632_clip_art_graphic_of_a_geeky_caucasian_businessman_cartoon_character_serving_a_platter.jpg"/>
          <p:cNvPicPr/>
          <p:nvPr/>
        </p:nvPicPr>
        <p:blipFill>
          <a:blip r:embed="rId1"/>
          <a:stretch/>
        </p:blipFill>
        <p:spPr>
          <a:xfrm>
            <a:off x="647640" y="3290760"/>
            <a:ext cx="291780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B2819-5407-4078-834D-0DE96A68E6B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FC02-AF29-4794-B841-38E6D3CC214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dentida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saca fortaleza de la imag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1" name="Picture 6" descr=""/>
          <p:cNvPicPr/>
          <p:nvPr/>
        </p:nvPicPr>
        <p:blipFill>
          <a:blip r:embed="rId1"/>
          <a:stretch/>
        </p:blipFill>
        <p:spPr>
          <a:xfrm>
            <a:off x="324000" y="3287880"/>
            <a:ext cx="3701880" cy="2960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2EFC4-12E2-44CA-9CD3-C636A5B6C32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5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4500720" y="1881360"/>
            <a:ext cx="418608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1976-9226-49D9-8CD6-5C3C6F8795C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395280" y="3338640"/>
            <a:ext cx="3313080" cy="2997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EB30-48E3-442A-8E7B-BD756210EAC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4500720" y="1881360"/>
            <a:ext cx="4356000" cy="68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ABC90-B74C-4E4A-8917-AB9F22BFF7A5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0" name="Rectangle 2"/>
          <p:cNvSpPr/>
          <p:nvPr/>
        </p:nvSpPr>
        <p:spPr>
          <a:xfrm>
            <a:off x="0" y="0"/>
            <a:ext cx="51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Juan 13:3-5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0" y="728640"/>
          <a:ext cx="9144000" cy="6091200"/>
        </p:xfrm>
        <a:graphic>
          <a:graphicData uri="http://schemas.openxmlformats.org/drawingml/2006/table">
            <a:tbl>
              <a:tblPr/>
              <a:tblGrid>
                <a:gridCol w="4435560"/>
                <a:gridCol w="4708440"/>
              </a:tblGrid>
              <a:tr h="597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LÍDER INSEGUR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88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ervic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persigue servir a otros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Pursue status with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inseguro persigue posición con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76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add value to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agregar valor 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ff00"/>
                          </a:solidFill>
                          <a:latin typeface="Garamond"/>
                        </a:rPr>
                        <a:t>Want to get value from other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quiere obtener valor de otr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Rectangle 23"/>
          <p:cNvSpPr/>
          <p:nvPr/>
        </p:nvSpPr>
        <p:spPr>
          <a:xfrm>
            <a:off x="0" y="2816280"/>
            <a:ext cx="9396360" cy="40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3" name="Picture 4" descr="http://ec.l.thumbs.canstockphoto.com/canstock14331136.jpg"/>
          <p:cNvPicPr/>
          <p:nvPr/>
        </p:nvPicPr>
        <p:blipFill>
          <a:blip r:embed="rId1"/>
          <a:stretch/>
        </p:blipFill>
        <p:spPr>
          <a:xfrm>
            <a:off x="503280" y="3408480"/>
            <a:ext cx="2905200" cy="30686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7821-C455-4084-9DB1-660CF098455C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3176640"/>
            <a:ext cx="4572000" cy="2736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1000"/>
            </a:b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1" lang="en-US" sz="60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1" lang="en-US" sz="6000" spc="-1" strike="noStrike">
                <a:solidFill>
                  <a:srgbClr val="ffffff"/>
                </a:solidFill>
                <a:latin typeface="Garamond"/>
              </a:rPr>
              <a:t> del Espíritu Santo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06" name="Group 17"/>
          <p:cNvGrpSpPr/>
          <p:nvPr/>
        </p:nvGrpSpPr>
        <p:grpSpPr>
          <a:xfrm>
            <a:off x="1440000" y="1449360"/>
            <a:ext cx="1193760" cy="862200"/>
            <a:chOff x="1440000" y="1449360"/>
            <a:chExt cx="1193760" cy="862200"/>
          </a:xfrm>
        </p:grpSpPr>
        <p:pic>
          <p:nvPicPr>
            <p:cNvPr id="207" name="Picture 14" descr="j0178297"/>
            <p:cNvPicPr/>
            <p:nvPr/>
          </p:nvPicPr>
          <p:blipFill>
            <a:blip r:embed="rId1"/>
            <a:stretch/>
          </p:blipFill>
          <p:spPr>
            <a:xfrm>
              <a:off x="144000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16" descr="j0178297"/>
            <p:cNvPicPr/>
            <p:nvPr/>
          </p:nvPicPr>
          <p:blipFill>
            <a:blip r:embed="rId2"/>
            <a:stretch/>
          </p:blipFill>
          <p:spPr>
            <a:xfrm>
              <a:off x="1865520" y="1449360"/>
              <a:ext cx="768240" cy="86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Text Box 18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0" name="Picture 2" descr="http://2.bp.blogspot.com/-89vKEtsDNyg/UuFzm8_VM1I/AAAAAAAAE2g/Y3ufAXUEELM/s1600/a+holy+spirit+clip+art.png+2.jpg"/>
          <p:cNvPicPr/>
          <p:nvPr/>
        </p:nvPicPr>
        <p:blipFill>
          <a:blip r:embed="rId3"/>
          <a:stretch/>
        </p:blipFill>
        <p:spPr>
          <a:xfrm>
            <a:off x="5041800" y="1584360"/>
            <a:ext cx="3645000" cy="46576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A97C-7415-4A58-9CBA-5ED6449FBA3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28728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b9efee"/>
                </a:solidFill>
                <a:latin typeface="Garamond"/>
              </a:rPr>
              <a:t>Hay dos lados de liderazgo:</a:t>
            </a:r>
            <a:br>
              <a:rPr sz="6600"/>
            </a:b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56" name="Rectangle 2" descr=""/>
          <p:cNvPicPr/>
          <p:nvPr/>
        </p:nvPicPr>
        <p:blipFill>
          <a:blip r:embed="rId1"/>
          <a:stretch/>
        </p:blipFill>
        <p:spPr>
          <a:xfrm>
            <a:off x="25560" y="1231920"/>
            <a:ext cx="9512280" cy="5105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http://en.clipart-fr.com/data/clipart/heart/heart_036.jpg"/>
          <p:cNvPicPr/>
          <p:nvPr/>
        </p:nvPicPr>
        <p:blipFill>
          <a:blip r:embed="rId2"/>
          <a:stretch/>
        </p:blipFill>
        <p:spPr>
          <a:xfrm>
            <a:off x="5003640" y="1378080"/>
            <a:ext cx="2616480" cy="2261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6" descr="http://images.clipartpanda.com/hand-clip-art-black-and-white-hands-hi.png"/>
          <p:cNvPicPr/>
          <p:nvPr/>
        </p:nvPicPr>
        <p:blipFill>
          <a:blip r:embed="rId3"/>
          <a:stretch/>
        </p:blipFill>
        <p:spPr>
          <a:xfrm>
            <a:off x="287280" y="4184640"/>
            <a:ext cx="3373560" cy="22003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E5F58-8636-439D-87C0-14046D0A8EF3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autoridad espiritual con otr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ven a Dios moverse constantemente en sus ministerios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Los líderes ungidos tienen una vida que demanda una explicación sobrenatural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EDCF1-5E01-4B85-BDB6-D2B8CCFE81C0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32000" y="2698560"/>
            <a:ext cx="4211640" cy="400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grpSp>
        <p:nvGrpSpPr>
          <p:cNvPr id="215" name="Group 19"/>
          <p:cNvGrpSpPr/>
          <p:nvPr/>
        </p:nvGrpSpPr>
        <p:grpSpPr>
          <a:xfrm>
            <a:off x="6389640" y="1592280"/>
            <a:ext cx="1294920" cy="863640"/>
            <a:chOff x="6389640" y="1592280"/>
            <a:chExt cx="1294920" cy="863640"/>
          </a:xfrm>
        </p:grpSpPr>
        <p:pic>
          <p:nvPicPr>
            <p:cNvPr id="216" name="Picture 16" descr="j0178297"/>
            <p:cNvPicPr/>
            <p:nvPr/>
          </p:nvPicPr>
          <p:blipFill>
            <a:blip r:embed="rId1"/>
            <a:stretch/>
          </p:blipFill>
          <p:spPr>
            <a:xfrm>
              <a:off x="6389640" y="1592280"/>
              <a:ext cx="768240" cy="86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18" descr="j0178298"/>
            <p:cNvPicPr/>
            <p:nvPr/>
          </p:nvPicPr>
          <p:blipFill>
            <a:blip r:embed="rId2"/>
            <a:stretch/>
          </p:blipFill>
          <p:spPr>
            <a:xfrm>
              <a:off x="6821280" y="1592280"/>
              <a:ext cx="863280" cy="86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Text Box 20"/>
          <p:cNvSpPr/>
          <p:nvPr/>
        </p:nvSpPr>
        <p:spPr>
          <a:xfrm>
            <a:off x="0" y="18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9" name="Picture 7" descr=""/>
          <p:cNvPicPr/>
          <p:nvPr/>
        </p:nvPicPr>
        <p:blipFill>
          <a:blip r:embed="rId3"/>
          <a:stretch/>
        </p:blipFill>
        <p:spPr>
          <a:xfrm>
            <a:off x="514440" y="2602080"/>
            <a:ext cx="3960720" cy="36464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936B-85F9-4C61-AE87-10E2A9D4B29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2349360"/>
            <a:ext cx="8136000" cy="1773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lang="en-US" sz="7200" spc="-1" strike="noStrike">
                <a:solidFill>
                  <a:srgbClr val="ffffff"/>
                </a:solidFill>
                <a:latin typeface="Garamond"/>
              </a:rPr>
              <a:t>Sed imitadores de mi, asi como yo de Cristo.” 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Garamond"/>
              </a:rPr>
              <a:t>(1 Cor. 11:1)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0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53EF-D2A6-46CC-BB66-2FDCF913A13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44360" y="520560"/>
            <a:ext cx="8856720" cy="574992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4680000" y="1700280"/>
            <a:ext cx="2556000" cy="331308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4680000" y="501336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324000" y="4869000"/>
            <a:ext cx="2555640" cy="57600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360360" y="3500280"/>
            <a:ext cx="2556000" cy="576360"/>
          </a:xfrm>
          <a:prstGeom prst="rect">
            <a:avLst/>
          </a:pr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BDCB-9E43-4D40-8F93-1A2813054101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0" y="184644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iderazgo funciona en base a l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CONFIANZA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La integridad tiene un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VALOR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de alta influenci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ara destruir la tendencia de trabajar más duro por nuestra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IMAGEN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 que por nuestra integrida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Integridad significa VIVIR la verdad primero,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spcAft>
                <a:spcPts val="1199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Una personalidad carismática puede atraer gente, pero solo la INTEGRIDAD los mantendrá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880" indent="-3088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0" y="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Razones por las que un corazón d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integridad es tan importante para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: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2" name="Picture 19" descr="j0236214"/>
          <p:cNvPicPr/>
          <p:nvPr/>
        </p:nvPicPr>
        <p:blipFill>
          <a:blip r:embed="rId1"/>
          <a:stretch/>
        </p:blipFill>
        <p:spPr>
          <a:xfrm>
            <a:off x="7020000" y="-31680"/>
            <a:ext cx="2031840" cy="17812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61B1-7ECF-4DFC-9B8C-710F3939873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Rectangle 2"/>
          <p:cNvSpPr/>
          <p:nvPr/>
        </p:nvSpPr>
        <p:spPr>
          <a:xfrm>
            <a:off x="0" y="1797120"/>
            <a:ext cx="9144000" cy="43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a integridad es una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VICTORIA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, no un regal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Usted sólo s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CONVERTIRÁ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en lo que se está convirtiendo — ahora mismo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1640" indent="-341640">
              <a:spcBef>
                <a:spcPts val="901"/>
              </a:spcBef>
              <a:spcAft>
                <a:spcPts val="1800"/>
              </a:spcAft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Los líderes están para vivir en un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aramond"/>
              </a:rPr>
              <a:t>ESTÁNDAR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 más alto que sus seguidores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0" y="-139680"/>
            <a:ext cx="74883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azones por las que un corazón de integridad es tan importante para los lídere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37" name="Picture 19" descr="j0236214"/>
          <p:cNvPicPr/>
          <p:nvPr/>
        </p:nvPicPr>
        <p:blipFill>
          <a:blip r:embed="rId1"/>
          <a:stretch/>
        </p:blipFill>
        <p:spPr>
          <a:xfrm>
            <a:off x="6808680" y="17640"/>
            <a:ext cx="2030400" cy="17794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58406-60F0-4E96-812B-ED13AE1BFF9A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5840" y="19080"/>
            <a:ext cx="9128160" cy="121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la vi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OBSTÁCULO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 ha puesto a si mismo a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ISPOSI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bsoluta de Di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aprendido cómo prevalecer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N OR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un estudioso d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LA PALABRA DE DI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601"/>
              </a:spcAft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MENSAJ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vital que cambia vidas para un mundo perdid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buClr>
                <a:srgbClr val="ffff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01BA-6B30-4ED3-8772-20AF8DD313A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380880" y="314280"/>
            <a:ext cx="8077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840" y="19080"/>
            <a:ext cx="9128160" cy="10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ene un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FE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que espera resultad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cog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RVIR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actitud y en ac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viva lo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DONES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en él mismo y en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s lo suficientement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SEGUR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para impartir pode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ve bajo la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UNCIÓ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del Espíritu Sant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001"/>
              </a:spcBef>
              <a:spcAft>
                <a:spcPts val="1199"/>
              </a:spcAft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 escogido ser u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EJEMPL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tes de liderar a otro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Garamond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3D4E-B7AC-4D23-8EEE-42967C1422C6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765000"/>
            <a:ext cx="91440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Preguntas 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32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900" spc="-1" strike="noStrike">
                <a:solidFill>
                  <a:srgbClr val="ffffff"/>
                </a:solidFill>
                <a:latin typeface="Garamond"/>
              </a:rPr>
              <a:t>o Comentarios?</a:t>
            </a:r>
            <a:endParaRPr b="0" lang="en-US" sz="129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8B87-F4C1-41C2-BEDB-3D0A68456302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PREPARANDO NUESTROS CORAZONES</a:t>
            </a:r>
            <a:br>
              <a:rPr sz="7200"/>
            </a:b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14760" y="1736280"/>
            <a:ext cx="932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Garamond"/>
              </a:rPr>
              <a:t>Hay dos cuestiones importantes (</a:t>
            </a: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Hechos 9:3-6)(Hechos 22:7,10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Garamond"/>
              </a:rPr>
              <a:t>1. “¿Quién eres Señor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2. “¿Qué quieres que yo 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  haga?”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6" descr="http://images.clipartpanda.com/answer-clipart-question_clipart.gif"/>
          <p:cNvPicPr/>
          <p:nvPr/>
        </p:nvPicPr>
        <p:blipFill>
          <a:blip r:embed="rId1"/>
          <a:stretch/>
        </p:blipFill>
        <p:spPr>
          <a:xfrm>
            <a:off x="7497720" y="2851200"/>
            <a:ext cx="1646280" cy="4006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E288-A10C-40F6-8787-5CD4376C946B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00000" y="2852280"/>
            <a:ext cx="55436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15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Tiene un gran </a:t>
            </a:r>
            <a:r>
              <a:rPr b="1" lang="en-US" sz="6200" spc="-1" strike="noStrike" u="sng">
                <a:solidFill>
                  <a:srgbClr val="ffffff"/>
                </a:solidFill>
                <a:uFillTx/>
                <a:latin typeface="Garamond"/>
              </a:rPr>
              <a:t>PROPÓSITO</a:t>
            </a:r>
            <a:r>
              <a:rPr b="1" lang="en-US" sz="6200" spc="-1" strike="noStrike">
                <a:solidFill>
                  <a:srgbClr val="ffffff"/>
                </a:solidFill>
                <a:latin typeface="Garamond"/>
              </a:rPr>
              <a:t> en la vida.</a:t>
            </a:r>
            <a:endParaRPr b="0" lang="en-US" sz="6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13" descr="j0178297"/>
          <p:cNvPicPr/>
          <p:nvPr/>
        </p:nvPicPr>
        <p:blipFill>
          <a:blip r:embed="rId1"/>
          <a:stretch/>
        </p:blipFill>
        <p:spPr>
          <a:xfrm>
            <a:off x="5894280" y="1293840"/>
            <a:ext cx="954360" cy="954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179280" y="2862360"/>
            <a:ext cx="3355920" cy="28987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148E2-9E51-450F-92E9-2B130849E664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0" y="260280"/>
            <a:ext cx="9144000" cy="78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Pero cuantas cosas eran para mí ganancia, las he estimado como pérdida por amor de Cristo. Y ciertamente, aun </a:t>
            </a:r>
            <a:r>
              <a:rPr b="1" i="1" lang="es-ES" sz="3000" spc="-1" strike="noStrike" u="sng">
                <a:solidFill>
                  <a:srgbClr val="ffffff"/>
                </a:solidFill>
                <a:uFillTx/>
                <a:latin typeface="Garamond"/>
              </a:rPr>
              <a:t>estimo todas las cosas como pérdida por la excelencia del conocimiento de Cristo Jesús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, mi Señor, por amor del cual lo he perdido todo, y lo tengo por basura, para ganar a Cristo, y ser hallado en él, … a fin de conocerle, y el poder de su resurrección, y la participación de sus padecimientos, llegando a ser semejante a él en su muerte, si en alguna manera llegase a la resurrección de entre los muertos. … Una cosa hago: olvidando ciertamente lo que queda atrás, y extendiéndome a lo que está delante, prosigo a la meta, al premio del supremo llamamiento de Dios en Cristo Jesús.” </a:t>
            </a:r>
            <a:r>
              <a:rPr b="1" lang="es-ES" sz="3000" spc="-1" strike="noStrike">
                <a:solidFill>
                  <a:srgbClr val="ffffff"/>
                </a:solidFill>
                <a:latin typeface="Garamond"/>
              </a:rPr>
              <a:t>(Fil. </a:t>
            </a:r>
            <a:r>
              <a:rPr b="1" i="1" lang="es-ES" sz="3000" spc="-1" strike="noStrike">
                <a:solidFill>
                  <a:srgbClr val="ffffff"/>
                </a:solidFill>
                <a:latin typeface="Garamond"/>
              </a:rPr>
              <a:t>3:7-14)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00415-6F0C-413D-A612-26AEC3DEED87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0" y="800280"/>
            <a:ext cx="9144000" cy="91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Tú debes responder estas preguntas: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carga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ones espiritu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talentos natural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d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deseos y pasi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es lo que otros dicen de ti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buClr>
                <a:srgbClr val="ffffff"/>
              </a:buClr>
              <a:buFont typeface="Garamond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Cuáles son tus sueños y visones?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457200" indent="-45720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g.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¿Qué oportunidades tienes frente a ti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Rectangle 15"/>
          <p:cNvSpPr/>
          <p:nvPr/>
        </p:nvSpPr>
        <p:spPr>
          <a:xfrm>
            <a:off x="0" y="0"/>
            <a:ext cx="91440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Garamond"/>
              </a:rPr>
              <a:t>¿Conoce el propósito que Dios te ha dado? </a:t>
            </a:r>
            <a:endParaRPr b="0" lang="en-US" sz="3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4819F-DA30-48F2-8181-9FF1B743B56F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3213000"/>
            <a:ext cx="5256360" cy="29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Quitó, por la gracia de Dios, cualquier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Garamond"/>
              </a:rPr>
              <a:t>OBSTÁCULO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Garamond"/>
              </a:rPr>
              <a:t>de su vida.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75" name="Picture 17" descr="j0178298"/>
          <p:cNvPicPr/>
          <p:nvPr/>
        </p:nvPicPr>
        <p:blipFill>
          <a:blip r:embed="rId1"/>
          <a:stretch/>
        </p:blipFill>
        <p:spPr>
          <a:xfrm>
            <a:off x="2124000" y="141300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El líder que Dios usa…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7" descr="http://986045497.r.cdn77.net/wp-content/uploads/2011/06/Ball-and-Chain.jpg"/>
          <p:cNvPicPr/>
          <p:nvPr/>
        </p:nvPicPr>
        <p:blipFill>
          <a:blip r:embed="rId2"/>
          <a:stretch/>
        </p:blipFill>
        <p:spPr>
          <a:xfrm>
            <a:off x="5796000" y="2276640"/>
            <a:ext cx="3168720" cy="4392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7T20:54:29Z</dcterms:created>
  <dc:creator>Kevin Donaldson</dc:creator>
  <dc:description/>
  <dc:language>en-US</dc:language>
  <cp:lastModifiedBy>Monte Cyr</cp:lastModifiedBy>
  <dcterms:modified xsi:type="dcterms:W3CDTF">2021-04-23T17:23:03Z</dcterms:modified>
  <cp:revision>147</cp:revision>
  <dc:subject/>
  <dc:title>PowerPoint Presentation</dc:title>
</cp:coreProperties>
</file>