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gif" ContentType="image/gif"/>
  <Override PartName="/ppt/media/image28.jpeg" ContentType="image/jpeg"/>
  <Override PartName="/ppt/media/image26.jpeg" ContentType="image/jpeg"/>
  <Override PartName="/ppt/media/image23.jpeg" ContentType="image/jpeg"/>
  <Override PartName="/ppt/media/image19.gif" ContentType="image/gif"/>
  <Override PartName="/ppt/media/image21.jpeg" ContentType="image/jpeg"/>
  <Override PartName="/ppt/media/image6.gif" ContentType="image/gif"/>
  <Override PartName="/ppt/media/image17.gif" ContentType="image/gif"/>
  <Override PartName="/ppt/media/image16.jpeg" ContentType="image/jpeg"/>
  <Override PartName="/ppt/media/image15.jpeg" ContentType="image/jpeg"/>
  <Override PartName="/ppt/media/image29.gif" ContentType="image/gif"/>
  <Override PartName="/ppt/media/image10.jpeg" ContentType="image/jpeg"/>
  <Override PartName="/ppt/media/image5.png" ContentType="image/png"/>
  <Override PartName="/ppt/media/image35.jpeg" ContentType="image/jpeg"/>
  <Override PartName="/ppt/media/image25.gif" ContentType="image/gif"/>
  <Override PartName="/ppt/media/image34.jpeg" ContentType="image/jpeg"/>
  <Override PartName="/ppt/media/image20.png" ContentType="image/png"/>
  <Override PartName="/ppt/media/image36.jpeg" ContentType="image/jpeg"/>
  <Override PartName="/ppt/media/image40.png" ContentType="image/png"/>
  <Override PartName="/ppt/media/image7.jpeg" ContentType="image/jpeg"/>
  <Override PartName="/ppt/media/image38.jpeg" ContentType="image/jpeg"/>
  <Override PartName="/ppt/media/image32.jpeg" ContentType="image/jpeg"/>
  <Override PartName="/ppt/media/image33.jpeg" ContentType="image/jpeg"/>
  <Override PartName="/ppt/media/image39.jpeg" ContentType="image/jpeg"/>
  <Override PartName="/ppt/media/image8.gif" ContentType="image/gif"/>
  <Override PartName="/ppt/media/image13.jpeg" ContentType="image/jpeg"/>
  <Override PartName="/ppt/media/image12.jpeg" ContentType="image/jpeg"/>
  <Override PartName="/ppt/media/image4.png" ContentType="image/png"/>
  <Override PartName="/ppt/media/image31.gif" ContentType="image/gif"/>
  <Override PartName="/ppt/media/image1.gif" ContentType="image/gif"/>
  <Override PartName="/ppt/media/image30.png" ContentType="image/png"/>
  <Override PartName="/ppt/media/image37.jpeg" ContentType="image/jpeg"/>
  <Override PartName="/ppt/media/image3.jpeg" ContentType="image/jpeg"/>
  <Override PartName="/ppt/media/image24.jpeg" ContentType="image/jpeg"/>
  <Override PartName="/ppt/media/image9.jpeg" ContentType="image/jpeg"/>
  <Override PartName="/ppt/media/image11.png" ContentType="image/png"/>
  <Override PartName="/ppt/media/image2.png" ContentType="image/png"/>
  <Override PartName="/ppt/media/image18.jpeg" ContentType="image/jpeg"/>
  <Override PartName="/ppt/media/image22.gif" ContentType="image/gif"/>
  <Override PartName="/ppt/media/image14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BD8AF-235B-48FA-B8F1-FED4653EF6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16B2B-5573-4785-B1D5-C117589D528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774D3-155F-4FFB-95E4-E7C48E55E3F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A3A27-CC46-45DB-BC21-9C1C347CE2B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DCEAD-2F0D-41F4-A0F0-CC0AC0735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E9E84-8971-472D-9561-D2CD42FA9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BC008-5461-423C-853B-691978D26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48A23-A30E-43DB-923F-43F2D2CCE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CA37F-B1B4-41EA-AC66-E0C03B78C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D1C40-4641-48F8-A484-B164F3403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252AE-9D86-4A7F-9FFA-0225B023B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DBF98-8F1A-462B-81D4-9387D1B87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12A46-3C69-495A-AA12-FDD15E511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0F236-885E-4E9C-BEC2-9470E44AC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02B1C-E521-4BAF-A75A-F718699A8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ECD51-B706-42F1-8143-7AF05B8F7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53BA3-D6DA-43C8-B69D-5661D1574EE4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gif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31.gif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6.gif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8.gif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AB2D0-5B0B-43A0-9013-12E56537D49D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E8451-3CA8-4BF8-ADB0-9AD40413614C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0" y="333360"/>
            <a:ext cx="9144000" cy="61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8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i="1" lang="es-ES" sz="3800" spc="-1" strike="noStrike">
                <a:solidFill>
                  <a:srgbClr val="ffffff"/>
                </a:solidFill>
                <a:latin typeface="Garamond"/>
              </a:rPr>
              <a:t>Por tanto, nosotros también, teniendo en derredor nuestro tan grande nube de testigos, despojémonos de todo peso y del pecado que nos asedia, y corramos con paciencia la carrera que tenemos por delante, puestos los ojos en Jesús, el autor y consumador de la fe, el cual por el gozo puesto delante de él sufrió la cruz, menospreciando el oprobio, y se sentó a la diestra del trono de Dios.” </a:t>
            </a:r>
            <a:r>
              <a:rPr b="1" lang="en-US" sz="3800" spc="-1" strike="noStrike">
                <a:solidFill>
                  <a:srgbClr val="ffffff"/>
                </a:solidFill>
                <a:latin typeface="Garamond"/>
              </a:rPr>
              <a:t>(Hebreos </a:t>
            </a:r>
            <a:r>
              <a:rPr b="1" i="1" lang="en-US" sz="3800" spc="-1" strike="noStrike">
                <a:solidFill>
                  <a:srgbClr val="ffffff"/>
                </a:solidFill>
                <a:latin typeface="Garamond"/>
              </a:rPr>
              <a:t>12:1-2)</a:t>
            </a:r>
            <a:endParaRPr b="0" lang="en-US" sz="3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Text Box 8"/>
          <p:cNvSpPr/>
          <p:nvPr/>
        </p:nvSpPr>
        <p:spPr>
          <a:xfrm>
            <a:off x="0" y="0"/>
            <a:ext cx="9144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0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AB8E2-A1F1-4BD6-B7FC-4390B72E1B7E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0" y="728640"/>
            <a:ext cx="9144000" cy="61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Carácter …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11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Carácter comunica y construye CREDIBILIDAD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11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Carácter conlleva RESPETO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11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Carácter crea CONSISTENCIA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11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Carácter gana CONFIANZA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Text Box 8"/>
          <p:cNvSpPr/>
          <p:nvPr/>
        </p:nvSpPr>
        <p:spPr>
          <a:xfrm>
            <a:off x="0" y="0"/>
            <a:ext cx="9144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0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" dur="50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" dur="500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" dur="500"/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1E69B-75ED-42D6-B63D-2DBDC877CB85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ara construir un carácter fuerte, los líderes deben escoger: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a.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esarrollar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DISCIPLINA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ersonal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b.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esarrollar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SEGURIDAD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 IDENTIDAD PERSONALES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86" name="Picture 5" descr=""/>
          <p:cNvPicPr/>
          <p:nvPr/>
        </p:nvPicPr>
        <p:blipFill>
          <a:blip r:embed="rId1"/>
          <a:stretch/>
        </p:blipFill>
        <p:spPr>
          <a:xfrm>
            <a:off x="6012000" y="836640"/>
            <a:ext cx="2966760" cy="19796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7" descr="http://images.mylot.com/userImages/images/postphotos/2355283.gif"/>
          <p:cNvPicPr/>
          <p:nvPr/>
        </p:nvPicPr>
        <p:blipFill>
          <a:blip r:embed="rId2"/>
          <a:stretch/>
        </p:blipFill>
        <p:spPr>
          <a:xfrm>
            <a:off x="2916360" y="2816280"/>
            <a:ext cx="2570040" cy="20606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9" descr="http://thumbs.dreamstime.com/x/generic-cartoon-person-walking-confidently-vector-clip-art-illustration-forward-34534212.jpg"/>
          <p:cNvPicPr/>
          <p:nvPr/>
        </p:nvPicPr>
        <p:blipFill>
          <a:blip r:embed="rId3"/>
          <a:stretch/>
        </p:blipFill>
        <p:spPr>
          <a:xfrm>
            <a:off x="7329600" y="4118040"/>
            <a:ext cx="1743120" cy="26748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0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B28D0-27C4-48C0-9375-8417D5EF0D87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ara construir un carácter fuerte, los líderes deben escoger: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c. Desarrollar CONVICCIONES PERSONALES, VALORES y ÉTICA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1" name="Picture 11" descr=""/>
          <p:cNvPicPr/>
          <p:nvPr/>
        </p:nvPicPr>
        <p:blipFill>
          <a:blip r:embed="rId1"/>
          <a:stretch/>
        </p:blipFill>
        <p:spPr>
          <a:xfrm>
            <a:off x="2344680" y="3143160"/>
            <a:ext cx="4452840" cy="3341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0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9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2CDE9-713B-4040-A40B-ECEDA6A3C16D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Text Box 9"/>
          <p:cNvSpPr/>
          <p:nvPr/>
        </p:nvSpPr>
        <p:spPr>
          <a:xfrm>
            <a:off x="11160" y="2276640"/>
            <a:ext cx="9144000" cy="23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ff"/>
                </a:solidFill>
                <a:latin typeface="Garamond"/>
              </a:rPr>
              <a:t>Se ha puesto a si mismo a la </a:t>
            </a:r>
            <a:r>
              <a:rPr b="1" lang="en-US" sz="4900" spc="-1" strike="noStrike" u="sng">
                <a:solidFill>
                  <a:srgbClr val="ffffff"/>
                </a:solidFill>
                <a:uFillTx/>
                <a:latin typeface="Garamond"/>
              </a:rPr>
              <a:t>DISPOSICIÓN</a:t>
            </a:r>
            <a:r>
              <a:rPr b="1" lang="en-US" sz="4900" spc="-1" strike="noStrike">
                <a:solidFill>
                  <a:srgbClr val="ffffff"/>
                </a:solidFill>
                <a:latin typeface="Garamond"/>
              </a:rPr>
              <a:t> absoluta de Dios.</a:t>
            </a:r>
            <a:endParaRPr b="0" lang="en-US" sz="49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4" name="Picture 16" descr="j0178299"/>
          <p:cNvPicPr/>
          <p:nvPr/>
        </p:nvPicPr>
        <p:blipFill>
          <a:blip r:embed="rId1"/>
          <a:stretch/>
        </p:blipFill>
        <p:spPr>
          <a:xfrm>
            <a:off x="4067280" y="1197000"/>
            <a:ext cx="971280" cy="971640"/>
          </a:xfrm>
          <a:prstGeom prst="rect">
            <a:avLst/>
          </a:prstGeom>
          <a:ln w="0">
            <a:noFill/>
          </a:ln>
        </p:spPr>
      </p:pic>
      <p:sp>
        <p:nvSpPr>
          <p:cNvPr id="95" name="Text Box 20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6" name="Picture 5" descr=""/>
          <p:cNvPicPr/>
          <p:nvPr/>
        </p:nvPicPr>
        <p:blipFill>
          <a:blip r:embed="rId2"/>
          <a:stretch/>
        </p:blipFill>
        <p:spPr>
          <a:xfrm>
            <a:off x="2448000" y="4149720"/>
            <a:ext cx="4248000" cy="25401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spd="med">
    <p:fade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1A23C-B6F5-48DC-8A70-13B6A3C25588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0" y="9360"/>
            <a:ext cx="9144000" cy="74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i="1" lang="es-ES" sz="4000" spc="-1" strike="noStrike">
                <a:solidFill>
                  <a:srgbClr val="ffffff"/>
                </a:solidFill>
                <a:latin typeface="Garamond"/>
              </a:rPr>
              <a:t>Así que, hermanos, os ruego por las misericordias de Dios, que presentéis vuestros cuerpos en </a:t>
            </a: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sacrificio vivo, santo, agradable a Dios, que es vuestro culto racional. No os conforméis a este siglo, </a:t>
            </a:r>
            <a:r>
              <a:rPr b="1" i="1" lang="es-ES" sz="4000" spc="-1" strike="noStrike">
                <a:solidFill>
                  <a:srgbClr val="ffffff"/>
                </a:solidFill>
                <a:latin typeface="Garamond"/>
              </a:rPr>
              <a:t>sino transformaos por medio de la renovación de vuestro entendimiento, para que comprobéis cuál sea la buena voluntad de Dios, agradable y perfecta.” </a:t>
            </a:r>
            <a:r>
              <a:rPr b="1" lang="es-ES" sz="4000" spc="-1" strike="noStrike">
                <a:solidFill>
                  <a:srgbClr val="ffffff"/>
                </a:solidFill>
                <a:latin typeface="Garamond"/>
              </a:rPr>
              <a:t>(Romanos </a:t>
            </a:r>
            <a:r>
              <a:rPr b="1" i="1" lang="es-ES" sz="4000" spc="-1" strike="noStrike">
                <a:solidFill>
                  <a:srgbClr val="ffffff"/>
                </a:solidFill>
                <a:latin typeface="Garamond"/>
              </a:rPr>
              <a:t>12:1-2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D5EB4-5575-47A6-94F6-3059D06614D7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108000" y="441000"/>
            <a:ext cx="9144000" cy="32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6000"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ra liderar a otros, debemos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esarrollar tres actitudes de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otal rendimiento a Dios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99"/>
              </a:spcBef>
              <a:spcAft>
                <a:spcPts val="29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No debemos tener nada que COMPROBAR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99"/>
              </a:spcBef>
              <a:spcAft>
                <a:spcPts val="29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No debemos tener nada que PERDER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99"/>
              </a:spcBef>
              <a:spcAft>
                <a:spcPts val="29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No debemos tener nada que ESCONDER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1" name="Picture 4" descr="http://www.clipartbest.com/cliparts/7Ta/y6k/7Tay6kETA.jpeg"/>
          <p:cNvPicPr/>
          <p:nvPr/>
        </p:nvPicPr>
        <p:blipFill>
          <a:blip r:embed="rId1"/>
          <a:stretch/>
        </p:blipFill>
        <p:spPr>
          <a:xfrm>
            <a:off x="6357960" y="115920"/>
            <a:ext cx="2714760" cy="23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0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5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F3923-98F9-452D-AE46-2B504E58D377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22320" y="2491920"/>
            <a:ext cx="475128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Ha aprendido cómo prevalecer </a:t>
            </a:r>
            <a:r>
              <a:rPr b="1" lang="en-US" sz="6000" spc="-1" strike="noStrike" u="sng">
                <a:solidFill>
                  <a:srgbClr val="ffffff"/>
                </a:solidFill>
                <a:uFillTx/>
                <a:latin typeface="Garamond"/>
              </a:rPr>
              <a:t>EN ORACIÓN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4" name="Picture 17" descr="j0178300"/>
          <p:cNvPicPr/>
          <p:nvPr/>
        </p:nvPicPr>
        <p:blipFill>
          <a:blip r:embed="rId1"/>
          <a:stretch/>
        </p:blipFill>
        <p:spPr>
          <a:xfrm>
            <a:off x="1547640" y="1160640"/>
            <a:ext cx="1032120" cy="103176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18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6" name="Picture 7" descr="http://stickypictures.net/wp-content/uploads/2014/10/prayer-clip-art-2.jpg"/>
          <p:cNvPicPr/>
          <p:nvPr/>
        </p:nvPicPr>
        <p:blipFill>
          <a:blip r:embed="rId2"/>
          <a:stretch/>
        </p:blipFill>
        <p:spPr>
          <a:xfrm>
            <a:off x="5465880" y="2744640"/>
            <a:ext cx="3462120" cy="3961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F7FB9-6641-4FF2-B85A-C5E15A508B45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0" y="4203720"/>
            <a:ext cx="9144000" cy="33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imes New Roman"/>
              </a:rPr>
              <a:t>3 clases de oración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EDIR — Esta es la oración de fe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BUSCAR — Esta es la oración de dedicación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LLAMAR — Esta es la oración de intercesión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Text Box 6"/>
          <p:cNvSpPr/>
          <p:nvPr/>
        </p:nvSpPr>
        <p:spPr>
          <a:xfrm>
            <a:off x="6480" y="-54000"/>
            <a:ext cx="9144000" cy="527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4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i="1" lang="es-ES" sz="3400" spc="-1" strike="noStrike">
                <a:solidFill>
                  <a:srgbClr val="ffffff"/>
                </a:solidFill>
                <a:latin typeface="Garamond"/>
              </a:rPr>
              <a:t>¿Está alguno entre vosotros afligido? Haga oración… ¿Está alguno enfermo entre vosotros? Llame a los ancianos de la iglesia, y oren por él… Y la oración de fe salvará al enfermo, y el Señor lo levantará… Confesaos vuestras ofensas unos a otros, y orad unos por otros, para que seáis sanados. La oración eficaz del justo puede mucho.” </a:t>
            </a:r>
            <a:r>
              <a:rPr b="1" lang="es-ES" sz="3400" spc="-1" strike="noStrike">
                <a:solidFill>
                  <a:srgbClr val="ffffff"/>
                </a:solidFill>
                <a:latin typeface="Garamond"/>
              </a:rPr>
              <a:t>(Santiago </a:t>
            </a:r>
            <a:r>
              <a:rPr b="1" i="1" lang="es-ES" sz="3400" spc="-1" strike="noStrike">
                <a:solidFill>
                  <a:srgbClr val="ffffff"/>
                </a:solidFill>
                <a:latin typeface="Garamond"/>
              </a:rPr>
              <a:t>5:13-17)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8431F-6D2A-4354-A76F-CC0547AEA54E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Text Box 4"/>
          <p:cNvSpPr/>
          <p:nvPr/>
        </p:nvSpPr>
        <p:spPr>
          <a:xfrm>
            <a:off x="5065560" y="3105000"/>
            <a:ext cx="40705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Es un estudioso de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LA PALABRA DE DIO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2" name="Picture 26" descr="j0178301"/>
          <p:cNvPicPr/>
          <p:nvPr/>
        </p:nvPicPr>
        <p:blipFill>
          <a:blip r:embed="rId1"/>
          <a:stretch/>
        </p:blipFill>
        <p:spPr>
          <a:xfrm>
            <a:off x="6335640" y="1197000"/>
            <a:ext cx="1006560" cy="100656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27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4" name="Picture 7" descr="http://www.kenandsue.org/images/Bible_clip_art_-colored_open.gif"/>
          <p:cNvPicPr/>
          <p:nvPr/>
        </p:nvPicPr>
        <p:blipFill>
          <a:blip r:embed="rId2"/>
          <a:stretch/>
        </p:blipFill>
        <p:spPr>
          <a:xfrm>
            <a:off x="250920" y="3105000"/>
            <a:ext cx="3889440" cy="35211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679FD-9A48-4901-BEDF-0899A05ED7B9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0" y="441000"/>
            <a:ext cx="9144000" cy="110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Garamond"/>
              </a:rPr>
              <a:t>El Corazón </a:t>
            </a:r>
            <a:endParaRPr b="0" lang="en-US" sz="7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Garamond"/>
              </a:rPr>
              <a:t>de un líder</a:t>
            </a:r>
            <a:endParaRPr b="0" lang="en-US" sz="7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Desarrollando las cualidades que diferencian a los líderes de otros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Lección #2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agina 10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51" name="Picture 19" descr="j0236214"/>
          <p:cNvPicPr/>
          <p:nvPr/>
        </p:nvPicPr>
        <p:blipFill>
          <a:blip r:embed="rId1"/>
          <a:stretch/>
        </p:blipFill>
        <p:spPr>
          <a:xfrm>
            <a:off x="7240680" y="907920"/>
            <a:ext cx="2031840" cy="17798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BFFC0-0158-4C8B-895F-0D382936E058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Rectangle 1"/>
          <p:cNvSpPr/>
          <p:nvPr/>
        </p:nvSpPr>
        <p:spPr>
          <a:xfrm>
            <a:off x="15840" y="388800"/>
            <a:ext cx="9128160" cy="74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i="1" lang="es-ES" sz="3600" spc="-1" strike="noStrike">
                <a:solidFill>
                  <a:srgbClr val="ffffff"/>
                </a:solidFill>
                <a:latin typeface="Garamond"/>
              </a:rPr>
              <a:t>Toda la Escritura es inspirada por Dios, y útil para enseñar, para redargüir, para corregir, para instruir en justicia, a fin de que el hombre de Dios sea perfecto, enteramente preparado para toda buena obra.” </a:t>
            </a:r>
            <a:br>
              <a:rPr sz="3600"/>
            </a:b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(2 Timoteo </a:t>
            </a:r>
            <a:r>
              <a:rPr b="1" i="1" lang="es-ES" sz="3600" spc="-1" strike="noStrike">
                <a:solidFill>
                  <a:srgbClr val="ffffff"/>
                </a:solidFill>
                <a:latin typeface="Garamond"/>
              </a:rPr>
              <a:t>3:16-17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i="1" lang="es-ES" sz="3600" spc="-1" strike="noStrike">
                <a:solidFill>
                  <a:srgbClr val="ffffff"/>
                </a:solidFill>
                <a:latin typeface="Garamond"/>
              </a:rPr>
              <a:t>Procura con diligencia presentarte a Dios aprobado, como obrero que no tiene de que avergonzarse, que usa bien la palabra de verdad.” </a:t>
            </a: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(2 Timoteo </a:t>
            </a:r>
            <a:r>
              <a:rPr b="1" i="1" lang="es-ES" sz="3600" spc="-1" strike="noStrike">
                <a:solidFill>
                  <a:srgbClr val="ffffff"/>
                </a:solidFill>
                <a:latin typeface="Garamond"/>
              </a:rPr>
              <a:t>2:15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6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8E3BF-0610-4FB0-A15C-0C79B2C04EFE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15840" y="297000"/>
            <a:ext cx="9144000" cy="519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Los estudiosos de la Palabra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e Dios examinan las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scrituras para entender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su significado…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901"/>
              </a:spcBef>
              <a:spcAft>
                <a:spcPts val="2401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n un tiempo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901"/>
              </a:spcBef>
              <a:spcAft>
                <a:spcPts val="2401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n todo tiempo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901"/>
              </a:spcBef>
              <a:spcAft>
                <a:spcPts val="2401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n este tiempo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9" name="Picture 4" descr=""/>
          <p:cNvPicPr/>
          <p:nvPr/>
        </p:nvPicPr>
        <p:blipFill>
          <a:blip r:embed="rId1"/>
          <a:stretch/>
        </p:blipFill>
        <p:spPr>
          <a:xfrm>
            <a:off x="6199200" y="549360"/>
            <a:ext cx="2840040" cy="1998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0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1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6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51507-D4B6-43DC-BCC0-138447BE3018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Text Box 8"/>
          <p:cNvSpPr/>
          <p:nvPr/>
        </p:nvSpPr>
        <p:spPr>
          <a:xfrm>
            <a:off x="457200" y="22860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Text Box 9"/>
          <p:cNvSpPr/>
          <p:nvPr/>
        </p:nvSpPr>
        <p:spPr>
          <a:xfrm>
            <a:off x="4967280" y="2884320"/>
            <a:ext cx="403236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Tiene un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MENSAJE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vital que cambia vidas para un mundo perdido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3" name="Picture 15" descr="j0178302"/>
          <p:cNvPicPr/>
          <p:nvPr/>
        </p:nvPicPr>
        <p:blipFill>
          <a:blip r:embed="rId1"/>
          <a:stretch/>
        </p:blipFill>
        <p:spPr>
          <a:xfrm>
            <a:off x="6227640" y="1219320"/>
            <a:ext cx="1044720" cy="104436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17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5" name="Picture 10" descr=""/>
          <p:cNvPicPr/>
          <p:nvPr/>
        </p:nvPicPr>
        <p:blipFill>
          <a:blip r:embed="rId2"/>
          <a:stretch/>
        </p:blipFill>
        <p:spPr>
          <a:xfrm>
            <a:off x="142920" y="2205000"/>
            <a:ext cx="4300560" cy="4164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7575A-F956-4626-9AFC-1A0A66C07AD8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Text Box 5"/>
          <p:cNvSpPr/>
          <p:nvPr/>
        </p:nvSpPr>
        <p:spPr>
          <a:xfrm>
            <a:off x="0" y="7920"/>
            <a:ext cx="9144000" cy="728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 baseline="30000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s-ES" sz="4400" spc="-1" strike="noStrike">
                <a:solidFill>
                  <a:srgbClr val="ffffff"/>
                </a:solidFill>
                <a:latin typeface="Times New Roman"/>
              </a:rPr>
              <a:t>A griegos y a no griegos, a sabios y a no sabios soy deudor. </a:t>
            </a:r>
            <a:r>
              <a:rPr b="1" lang="es-ES" sz="4400" spc="-1" strike="noStrike" baseline="30000">
                <a:solidFill>
                  <a:srgbClr val="ffffff"/>
                </a:solidFill>
                <a:latin typeface="Times New Roman"/>
              </a:rPr>
              <a:t> </a:t>
            </a:r>
            <a:r>
              <a:rPr b="1" lang="es-ES" sz="4400" spc="-1" strike="noStrike">
                <a:solidFill>
                  <a:srgbClr val="ffffff"/>
                </a:solidFill>
                <a:latin typeface="Times New Roman"/>
              </a:rPr>
              <a:t>Así que, en cuanto a mí, pronto estoy a anunciaros el evangelio también a vosotros que estáis en Roma. Porque no me avergüenzo del evangelio, porque es poder de Dios para salvación a todo aquel que cree; al judío primeramente, y también al griego.” (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Romanos 1:14-16)</a:t>
            </a:r>
            <a:br>
              <a:rPr sz="3200"/>
            </a:b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nodeType="clickEffect" fill="hold">
                      <p:stCondLst>
                        <p:cond delay="0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E4148-56D1-4991-BEC3-A8B5B65179AA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0" y="-63360"/>
            <a:ext cx="9144000" cy="462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l apóstol Pablo expresa tres actitudes concernientes al Evangelio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901"/>
              </a:spcBef>
              <a:spcAft>
                <a:spcPts val="29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stoy OBLIGAD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901"/>
              </a:spcBef>
              <a:spcAft>
                <a:spcPts val="29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stoy ANSIOS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901"/>
              </a:spcBef>
              <a:spcAft>
                <a:spcPts val="29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No estoy AVERGONZAD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0" name="Picture 6" descr="http://kids.christiansunite.com/images/Bible_Stories/219.jpg"/>
          <p:cNvPicPr/>
          <p:nvPr/>
        </p:nvPicPr>
        <p:blipFill>
          <a:blip r:embed="rId1"/>
          <a:stretch/>
        </p:blipFill>
        <p:spPr>
          <a:xfrm>
            <a:off x="6184800" y="3149640"/>
            <a:ext cx="2952720" cy="3708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nodeType="clickEffect" fill="hold">
                      <p:stCondLst>
                        <p:cond delay="0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5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8" dur="5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3" dur="5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9FF83-9240-4241-9BB8-B20143DD222E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50920" y="3038040"/>
            <a:ext cx="3852720" cy="3429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Garamond"/>
              </a:rPr>
              <a:t>Tiene una </a:t>
            </a:r>
            <a:r>
              <a:rPr b="1" lang="en-US" sz="6600" spc="-1" strike="noStrike" u="sng">
                <a:solidFill>
                  <a:srgbClr val="ffffff"/>
                </a:solidFill>
                <a:uFillTx/>
                <a:latin typeface="Garamond"/>
              </a:rPr>
              <a:t>FE</a:t>
            </a:r>
            <a:r>
              <a:rPr b="1" lang="en-US" sz="6600" spc="-1" strike="noStrike">
                <a:solidFill>
                  <a:srgbClr val="ffffff"/>
                </a:solidFill>
                <a:latin typeface="Garamond"/>
              </a:rPr>
              <a:t> que espera resultados</a:t>
            </a:r>
            <a:endParaRPr b="1" lang="en-US" sz="66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33" name="Picture 13" descr="j0178303"/>
          <p:cNvPicPr/>
          <p:nvPr/>
        </p:nvPicPr>
        <p:blipFill>
          <a:blip r:embed="rId1"/>
          <a:stretch/>
        </p:blipFill>
        <p:spPr>
          <a:xfrm>
            <a:off x="1638360" y="1449360"/>
            <a:ext cx="1077840" cy="107784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14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5" name="Picture 7" descr=""/>
          <p:cNvPicPr/>
          <p:nvPr/>
        </p:nvPicPr>
        <p:blipFill>
          <a:blip r:embed="rId2"/>
          <a:stretch/>
        </p:blipFill>
        <p:spPr>
          <a:xfrm>
            <a:off x="4788000" y="1290600"/>
            <a:ext cx="4119480" cy="51865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406A2-E48D-4501-9086-854304C90880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679640" y="3321000"/>
            <a:ext cx="4319640" cy="2448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br>
              <a:rPr sz="1000"/>
            </a:b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Escoge </a:t>
            </a:r>
            <a:r>
              <a:rPr b="1" lang="en-US" sz="6000" spc="-1" strike="noStrike" u="sng">
                <a:solidFill>
                  <a:srgbClr val="ffffff"/>
                </a:solidFill>
                <a:uFillTx/>
                <a:latin typeface="Garamond"/>
              </a:rPr>
              <a:t>SERVIR</a:t>
            </a: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 en actitud y en acción</a:t>
            </a:r>
            <a:br>
              <a:rPr sz="4000"/>
            </a:br>
            <a:endParaRPr b="1" lang="en-US" sz="60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38" name="Picture 13" descr="j0178304"/>
          <p:cNvPicPr/>
          <p:nvPr/>
        </p:nvPicPr>
        <p:blipFill>
          <a:blip r:embed="rId1"/>
          <a:stretch/>
        </p:blipFill>
        <p:spPr>
          <a:xfrm>
            <a:off x="6192720" y="1305000"/>
            <a:ext cx="1079640" cy="107928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14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0" name="Picture 9" descr="http://sr.photos3.fotosearch.com/bthumb/CSP/CSP991/k11740221.jpg"/>
          <p:cNvPicPr/>
          <p:nvPr/>
        </p:nvPicPr>
        <p:blipFill>
          <a:blip r:embed="rId2"/>
          <a:stretch/>
        </p:blipFill>
        <p:spPr>
          <a:xfrm>
            <a:off x="154080" y="1459080"/>
            <a:ext cx="4525920" cy="5238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C4C5D-3ADD-43F2-9C78-E1D4D7CAD708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2" name="Rectangle 8"/>
          <p:cNvSpPr/>
          <p:nvPr/>
        </p:nvSpPr>
        <p:spPr>
          <a:xfrm>
            <a:off x="17640" y="-114480"/>
            <a:ext cx="9001080" cy="81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8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i="1" lang="es-ES" sz="4000" spc="-1" strike="noStrike">
                <a:solidFill>
                  <a:srgbClr val="ffffff"/>
                </a:solidFill>
                <a:latin typeface="Garamond"/>
              </a:rPr>
              <a:t>Haya, pues, en vosotros este sentir que hubo también en Cristo Jesús, el cual, siendo en forma de Dios, no estimó el ser igual a Dios como cosa a que aferrarse, sino que se despojó a sí mismo, tomando forma de siervo, hecho semejante a los hombres; y estando en la condición de hombre, se humilló a sí mismo, haciéndose obediente hasta la muerte, y muerte de cruz.” </a:t>
            </a:r>
            <a:br>
              <a:rPr sz="4000"/>
            </a:br>
            <a:r>
              <a:rPr b="1" lang="es-ES" sz="4000" spc="-1" strike="noStrike">
                <a:solidFill>
                  <a:srgbClr val="ffffff"/>
                </a:solidFill>
                <a:latin typeface="Garamond"/>
              </a:rPr>
              <a:t>(Filipenses </a:t>
            </a:r>
            <a:r>
              <a:rPr b="1" i="1" lang="es-ES" sz="4000" spc="-1" strike="noStrike">
                <a:solidFill>
                  <a:srgbClr val="ffffff"/>
                </a:solidFill>
                <a:latin typeface="Garamond"/>
              </a:rPr>
              <a:t>2:5-8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D668B-328C-44D4-8D1B-5E134E6D6A28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58560" y="3104640"/>
            <a:ext cx="4392360" cy="2737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1" lang="en-US" sz="6600" spc="-1" strike="noStrike">
                <a:solidFill>
                  <a:srgbClr val="ffffff"/>
                </a:solidFill>
                <a:latin typeface="Garamond"/>
              </a:rPr>
              <a:t>Aviva los </a:t>
            </a:r>
            <a:r>
              <a:rPr b="1" lang="en-US" sz="6600" spc="-1" strike="noStrike" u="sng">
                <a:solidFill>
                  <a:srgbClr val="ffffff"/>
                </a:solidFill>
                <a:uFillTx/>
                <a:latin typeface="Garamond"/>
              </a:rPr>
              <a:t>DONES</a:t>
            </a:r>
            <a:r>
              <a:rPr b="1" lang="en-US" sz="6600" spc="-1" strike="noStrike">
                <a:solidFill>
                  <a:srgbClr val="ffffff"/>
                </a:solidFill>
                <a:latin typeface="Garamond"/>
              </a:rPr>
              <a:t> en él mismo y en otros</a:t>
            </a:r>
            <a:endParaRPr b="1" lang="en-US" sz="66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45" name="Picture 13" descr="j0178305"/>
          <p:cNvPicPr/>
          <p:nvPr/>
        </p:nvPicPr>
        <p:blipFill>
          <a:blip r:embed="rId1"/>
          <a:stretch/>
        </p:blipFill>
        <p:spPr>
          <a:xfrm>
            <a:off x="1835280" y="1359000"/>
            <a:ext cx="1081080" cy="108108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14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7" name="Picture 7" descr="http://christrescuemission.org/yahoo_site_admin/assets/images/gift-within.187221124.png"/>
          <p:cNvPicPr/>
          <p:nvPr/>
        </p:nvPicPr>
        <p:blipFill>
          <a:blip r:embed="rId2"/>
          <a:stretch/>
        </p:blipFill>
        <p:spPr>
          <a:xfrm>
            <a:off x="5759280" y="895320"/>
            <a:ext cx="2521080" cy="5599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C5030-DC7A-4048-9418-A111D0C6ECD2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1125000"/>
            <a:ext cx="9144000" cy="2808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Es lo suficientemente </a:t>
            </a:r>
            <a:r>
              <a:rPr b="1" lang="en-US" sz="4800" spc="-1" strike="noStrike" u="sng">
                <a:solidFill>
                  <a:srgbClr val="ffffff"/>
                </a:solidFill>
                <a:uFillTx/>
                <a:latin typeface="Garamond"/>
              </a:rPr>
              <a:t>SEGURO</a:t>
            </a: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 para impartir poder a otros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grpSp>
        <p:nvGrpSpPr>
          <p:cNvPr id="150" name="Group 18"/>
          <p:cNvGrpSpPr/>
          <p:nvPr/>
        </p:nvGrpSpPr>
        <p:grpSpPr>
          <a:xfrm>
            <a:off x="3959280" y="873000"/>
            <a:ext cx="1223640" cy="863280"/>
            <a:chOff x="3959280" y="873000"/>
            <a:chExt cx="1223640" cy="863280"/>
          </a:xfrm>
        </p:grpSpPr>
        <p:pic>
          <p:nvPicPr>
            <p:cNvPr id="151" name="Picture 15" descr="j0178297"/>
            <p:cNvPicPr/>
            <p:nvPr/>
          </p:nvPicPr>
          <p:blipFill>
            <a:blip r:embed="rId1"/>
            <a:stretch/>
          </p:blipFill>
          <p:spPr>
            <a:xfrm>
              <a:off x="3959280" y="873000"/>
              <a:ext cx="767880" cy="86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6" descr="j0178296"/>
            <p:cNvPicPr/>
            <p:nvPr/>
          </p:nvPicPr>
          <p:blipFill>
            <a:blip r:embed="rId2"/>
            <a:stretch/>
          </p:blipFill>
          <p:spPr>
            <a:xfrm>
              <a:off x="4413600" y="873000"/>
              <a:ext cx="769320" cy="863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Text Box 19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4" name="Picture 9" descr="http://www.meadechurch.org/Customer-Content/meadechurch/CMS/images/wash_5624c.jpg"/>
          <p:cNvPicPr/>
          <p:nvPr/>
        </p:nvPicPr>
        <p:blipFill>
          <a:blip r:embed="rId3"/>
          <a:stretch/>
        </p:blipFill>
        <p:spPr>
          <a:xfrm>
            <a:off x="1008000" y="4051440"/>
            <a:ext cx="4248360" cy="269064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1" descr="http://thumbs.gograph.com/gg64542846.jpg"/>
          <p:cNvPicPr/>
          <p:nvPr/>
        </p:nvPicPr>
        <p:blipFill>
          <a:blip r:embed="rId4"/>
          <a:stretch/>
        </p:blipFill>
        <p:spPr>
          <a:xfrm>
            <a:off x="6372360" y="4027320"/>
            <a:ext cx="1333440" cy="27496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2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C3ECE-E44E-4E11-99FA-244D41F840DB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899640" y="728280"/>
            <a:ext cx="7488360" cy="110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66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i="1" lang="es-ES" sz="6600" spc="-1" strike="noStrike">
                <a:solidFill>
                  <a:srgbClr val="ffffff"/>
                </a:solidFill>
                <a:latin typeface="Garamond"/>
              </a:rPr>
              <a:t>Y los apacentó conforme a la </a:t>
            </a:r>
            <a:r>
              <a:rPr b="0" i="1" lang="es-ES" sz="6600" spc="-1" strike="noStrike" u="sng">
                <a:solidFill>
                  <a:srgbClr val="ffffff"/>
                </a:solidFill>
                <a:uFillTx/>
                <a:latin typeface="Garamond"/>
              </a:rPr>
              <a:t>integridad</a:t>
            </a:r>
            <a:r>
              <a:rPr b="0" i="1" lang="es-ES" sz="6600" spc="-1" strike="noStrike">
                <a:solidFill>
                  <a:srgbClr val="ffffff"/>
                </a:solidFill>
                <a:latin typeface="Garamond"/>
              </a:rPr>
              <a:t> de su corazón, Los pastoreó con la </a:t>
            </a:r>
            <a:r>
              <a:rPr b="0" i="1" lang="es-ES" sz="6600" spc="-1" strike="noStrike" u="sng">
                <a:solidFill>
                  <a:srgbClr val="ffffff"/>
                </a:solidFill>
                <a:uFillTx/>
                <a:latin typeface="Garamond"/>
              </a:rPr>
              <a:t>pericia </a:t>
            </a:r>
            <a:r>
              <a:rPr b="0" i="1" lang="es-ES" sz="6600" spc="-1" strike="noStrike">
                <a:solidFill>
                  <a:srgbClr val="ffffff"/>
                </a:solidFill>
                <a:latin typeface="Garamond"/>
              </a:rPr>
              <a:t>de sus manos.” </a:t>
            </a:r>
            <a:endParaRPr b="0" lang="en-US" sz="6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6600" spc="-1" strike="noStrike">
                <a:solidFill>
                  <a:srgbClr val="ffffff"/>
                </a:solidFill>
                <a:latin typeface="Garamond"/>
              </a:rPr>
              <a:t>(Psalmos 78:72)</a:t>
            </a:r>
            <a:endParaRPr b="0" lang="en-US" sz="6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9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3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03CEA-02F1-4AAB-AA95-E4E95B1190E4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Rectangle 5"/>
          <p:cNvSpPr/>
          <p:nvPr/>
        </p:nvSpPr>
        <p:spPr>
          <a:xfrm>
            <a:off x="0" y="0"/>
            <a:ext cx="466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3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Into towel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en el servici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Into titl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e enfoca en el títul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Draw strength from identit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7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dentidad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Draw strength from imag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mag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9" name="Rectangle 98"/>
          <p:cNvSpPr/>
          <p:nvPr/>
        </p:nvSpPr>
        <p:spPr>
          <a:xfrm>
            <a:off x="0" y="1736640"/>
            <a:ext cx="9325080" cy="5121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21261-4E65-40A3-AF30-37F7968B1D97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Rectangle 2"/>
          <p:cNvSpPr/>
          <p:nvPr/>
        </p:nvSpPr>
        <p:spPr>
          <a:xfrm>
            <a:off x="0" y="0"/>
            <a:ext cx="466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e enfoca en el servici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e enfoca en el títul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Draw strength from identit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7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dentidad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Draw strength from imag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mag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3" name="Rectangle 23"/>
          <p:cNvSpPr/>
          <p:nvPr/>
        </p:nvSpPr>
        <p:spPr>
          <a:xfrm>
            <a:off x="0" y="2852640"/>
            <a:ext cx="9325080" cy="4005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4" name="Picture 26" descr="http://images.clipartpanda.com/servant-clipart-0025-0806-0218-1632_clip_art_graphic_of_a_geeky_caucasian_businessman_cartoon_character_serving_a_platter.jpg"/>
          <p:cNvPicPr/>
          <p:nvPr/>
        </p:nvPicPr>
        <p:blipFill>
          <a:blip r:embed="rId1"/>
          <a:stretch/>
        </p:blipFill>
        <p:spPr>
          <a:xfrm>
            <a:off x="647640" y="3290760"/>
            <a:ext cx="2917800" cy="2957760"/>
          </a:xfrm>
          <a:prstGeom prst="rect">
            <a:avLst/>
          </a:prstGeom>
          <a:ln w="0">
            <a:noFill/>
          </a:ln>
        </p:spPr>
      </p:pic>
      <p:sp>
        <p:nvSpPr>
          <p:cNvPr id="165" name="Rectangle 6"/>
          <p:cNvSpPr/>
          <p:nvPr/>
        </p:nvSpPr>
        <p:spPr>
          <a:xfrm>
            <a:off x="4500720" y="1881360"/>
            <a:ext cx="3492360" cy="682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B9237-3503-47B7-A3F3-A7A531AC3D9D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7" name="Rectangle 2"/>
          <p:cNvSpPr/>
          <p:nvPr/>
        </p:nvSpPr>
        <p:spPr>
          <a:xfrm>
            <a:off x="0" y="0"/>
            <a:ext cx="466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e enfoca en el servici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e enfoca en el títul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Draw strength from identit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7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dentidad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Draw strength from imag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mag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9" name="Rectangle 23"/>
          <p:cNvSpPr/>
          <p:nvPr/>
        </p:nvSpPr>
        <p:spPr>
          <a:xfrm>
            <a:off x="0" y="2852640"/>
            <a:ext cx="9325080" cy="4005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0" name="Picture 26" descr="http://images.clipartpanda.com/servant-clipart-0025-0806-0218-1632_clip_art_graphic_of_a_geeky_caucasian_businessman_cartoon_character_serving_a_platter.jpg"/>
          <p:cNvPicPr/>
          <p:nvPr/>
        </p:nvPicPr>
        <p:blipFill>
          <a:blip r:embed="rId1"/>
          <a:stretch/>
        </p:blipFill>
        <p:spPr>
          <a:xfrm>
            <a:off x="647640" y="3290760"/>
            <a:ext cx="2917800" cy="2957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B1428-5FF0-4BC8-94F7-8AC7A5DE73EC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2" name="Rectangle 2"/>
          <p:cNvSpPr/>
          <p:nvPr/>
        </p:nvSpPr>
        <p:spPr>
          <a:xfrm>
            <a:off x="0" y="0"/>
            <a:ext cx="51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dentida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mag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4" name="Rectangle 23"/>
          <p:cNvSpPr/>
          <p:nvPr/>
        </p:nvSpPr>
        <p:spPr>
          <a:xfrm>
            <a:off x="0" y="2816280"/>
            <a:ext cx="9396360" cy="4041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5" name="Rectangle 5"/>
          <p:cNvSpPr/>
          <p:nvPr/>
        </p:nvSpPr>
        <p:spPr>
          <a:xfrm>
            <a:off x="4500720" y="1881360"/>
            <a:ext cx="4186080" cy="682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6" name="Picture 6" descr=""/>
          <p:cNvPicPr/>
          <p:nvPr/>
        </p:nvPicPr>
        <p:blipFill>
          <a:blip r:embed="rId1"/>
          <a:stretch/>
        </p:blipFill>
        <p:spPr>
          <a:xfrm>
            <a:off x="324000" y="3287880"/>
            <a:ext cx="3701880" cy="29606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E6F25-BC81-401E-9A77-91930990FB3B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8" name="Rectangle 2"/>
          <p:cNvSpPr/>
          <p:nvPr/>
        </p:nvSpPr>
        <p:spPr>
          <a:xfrm>
            <a:off x="0" y="0"/>
            <a:ext cx="51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dentida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mag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0" name="Rectangle 23"/>
          <p:cNvSpPr/>
          <p:nvPr/>
        </p:nvSpPr>
        <p:spPr>
          <a:xfrm>
            <a:off x="0" y="2816280"/>
            <a:ext cx="9396360" cy="4041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1" name="Picture 6" descr=""/>
          <p:cNvPicPr/>
          <p:nvPr/>
        </p:nvPicPr>
        <p:blipFill>
          <a:blip r:embed="rId1"/>
          <a:stretch/>
        </p:blipFill>
        <p:spPr>
          <a:xfrm>
            <a:off x="324000" y="3287880"/>
            <a:ext cx="3701880" cy="29606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30903-CE75-4219-99B0-2E754528BE87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3" name="Rectangle 2"/>
          <p:cNvSpPr/>
          <p:nvPr/>
        </p:nvSpPr>
        <p:spPr>
          <a:xfrm>
            <a:off x="0" y="0"/>
            <a:ext cx="51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5" name="Rectangle 23"/>
          <p:cNvSpPr/>
          <p:nvPr/>
        </p:nvSpPr>
        <p:spPr>
          <a:xfrm>
            <a:off x="0" y="2816280"/>
            <a:ext cx="9396360" cy="4041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6" name="Rectangle 7"/>
          <p:cNvSpPr/>
          <p:nvPr/>
        </p:nvSpPr>
        <p:spPr>
          <a:xfrm>
            <a:off x="4500720" y="1881360"/>
            <a:ext cx="4186080" cy="682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7" name="Picture 4" descr=""/>
          <p:cNvPicPr/>
          <p:nvPr/>
        </p:nvPicPr>
        <p:blipFill>
          <a:blip r:embed="rId1"/>
          <a:stretch/>
        </p:blipFill>
        <p:spPr>
          <a:xfrm>
            <a:off x="395280" y="3338640"/>
            <a:ext cx="3313080" cy="2997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44F17-7985-4A57-8A13-9B08EC6C2D04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9" name="Rectangle 2"/>
          <p:cNvSpPr/>
          <p:nvPr/>
        </p:nvSpPr>
        <p:spPr>
          <a:xfrm>
            <a:off x="0" y="0"/>
            <a:ext cx="51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1" name="Rectangle 23"/>
          <p:cNvSpPr/>
          <p:nvPr/>
        </p:nvSpPr>
        <p:spPr>
          <a:xfrm>
            <a:off x="0" y="2816280"/>
            <a:ext cx="9396360" cy="4041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92" name="Picture 4" descr=""/>
          <p:cNvPicPr/>
          <p:nvPr/>
        </p:nvPicPr>
        <p:blipFill>
          <a:blip r:embed="rId1"/>
          <a:stretch/>
        </p:blipFill>
        <p:spPr>
          <a:xfrm>
            <a:off x="395280" y="3338640"/>
            <a:ext cx="3313080" cy="2997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D445A-64D0-4AC3-B0A3-07E852D9B015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4" name="Rectangle 2"/>
          <p:cNvSpPr/>
          <p:nvPr/>
        </p:nvSpPr>
        <p:spPr>
          <a:xfrm>
            <a:off x="0" y="0"/>
            <a:ext cx="51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97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3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972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6" name="Rectangle 23"/>
          <p:cNvSpPr/>
          <p:nvPr/>
        </p:nvSpPr>
        <p:spPr>
          <a:xfrm>
            <a:off x="0" y="2816280"/>
            <a:ext cx="9396360" cy="4041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4500720" y="1881360"/>
            <a:ext cx="4356000" cy="682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98" name="Picture 4" descr="http://ec.l.thumbs.canstockphoto.com/canstock14331136.jpg"/>
          <p:cNvPicPr/>
          <p:nvPr/>
        </p:nvPicPr>
        <p:blipFill>
          <a:blip r:embed="rId1"/>
          <a:stretch/>
        </p:blipFill>
        <p:spPr>
          <a:xfrm>
            <a:off x="503280" y="3408480"/>
            <a:ext cx="2905200" cy="30686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8FAE6-0600-485F-81EA-C96E0DFBD2CB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0" name="Rectangle 2"/>
          <p:cNvSpPr/>
          <p:nvPr/>
        </p:nvSpPr>
        <p:spPr>
          <a:xfrm>
            <a:off x="0" y="0"/>
            <a:ext cx="51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97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3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972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2" name="Rectangle 23"/>
          <p:cNvSpPr/>
          <p:nvPr/>
        </p:nvSpPr>
        <p:spPr>
          <a:xfrm>
            <a:off x="0" y="2816280"/>
            <a:ext cx="9396360" cy="4041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03" name="Picture 4" descr="http://ec.l.thumbs.canstockphoto.com/canstock14331136.jpg"/>
          <p:cNvPicPr/>
          <p:nvPr/>
        </p:nvPicPr>
        <p:blipFill>
          <a:blip r:embed="rId1"/>
          <a:stretch/>
        </p:blipFill>
        <p:spPr>
          <a:xfrm>
            <a:off x="503280" y="3408480"/>
            <a:ext cx="2905200" cy="30686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4A566-A421-417B-BC28-F520E2818778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0" y="3176640"/>
            <a:ext cx="4572000" cy="2736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br>
              <a:rPr sz="1000"/>
            </a:b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Vive bajo la </a:t>
            </a:r>
            <a:r>
              <a:rPr b="1" lang="en-US" sz="6000" spc="-1" strike="noStrike" u="sng">
                <a:solidFill>
                  <a:srgbClr val="ffffff"/>
                </a:solidFill>
                <a:uFillTx/>
                <a:latin typeface="Garamond"/>
              </a:rPr>
              <a:t>UNCIÓN</a:t>
            </a: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 del Espíritu Santo</a:t>
            </a:r>
            <a:endParaRPr b="1" lang="en-US" sz="6000" spc="-1" strike="noStrike">
              <a:solidFill>
                <a:srgbClr val="b9efee"/>
              </a:solidFill>
              <a:latin typeface="Garamond"/>
            </a:endParaRPr>
          </a:p>
        </p:txBody>
      </p:sp>
      <p:grpSp>
        <p:nvGrpSpPr>
          <p:cNvPr id="206" name="Group 17"/>
          <p:cNvGrpSpPr/>
          <p:nvPr/>
        </p:nvGrpSpPr>
        <p:grpSpPr>
          <a:xfrm>
            <a:off x="1440000" y="1449360"/>
            <a:ext cx="1193760" cy="862200"/>
            <a:chOff x="1440000" y="1449360"/>
            <a:chExt cx="1193760" cy="862200"/>
          </a:xfrm>
        </p:grpSpPr>
        <p:pic>
          <p:nvPicPr>
            <p:cNvPr id="207" name="Picture 14" descr="j0178297"/>
            <p:cNvPicPr/>
            <p:nvPr/>
          </p:nvPicPr>
          <p:blipFill>
            <a:blip r:embed="rId1"/>
            <a:stretch/>
          </p:blipFill>
          <p:spPr>
            <a:xfrm>
              <a:off x="1440000" y="1449360"/>
              <a:ext cx="768240" cy="862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8" name="Picture 16" descr="j0178297"/>
            <p:cNvPicPr/>
            <p:nvPr/>
          </p:nvPicPr>
          <p:blipFill>
            <a:blip r:embed="rId2"/>
            <a:stretch/>
          </p:blipFill>
          <p:spPr>
            <a:xfrm>
              <a:off x="1865520" y="1449360"/>
              <a:ext cx="768240" cy="86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9" name="Text Box 18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10" name="Picture 2" descr="http://2.bp.blogspot.com/-89vKEtsDNyg/UuFzm8_VM1I/AAAAAAAAE2g/Y3ufAXUEELM/s1600/a+holy+spirit+clip+art.png+2.jpg"/>
          <p:cNvPicPr/>
          <p:nvPr/>
        </p:nvPicPr>
        <p:blipFill>
          <a:blip r:embed="rId3"/>
          <a:stretch/>
        </p:blipFill>
        <p:spPr>
          <a:xfrm>
            <a:off x="5041800" y="1584360"/>
            <a:ext cx="3645000" cy="46576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1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4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14B2E-D60B-4EED-85A8-4CAFEB130F35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287280" y="475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b9efee"/>
                </a:solidFill>
                <a:latin typeface="Garamond"/>
              </a:rPr>
              <a:t>Hay dos lados de liderazgo:</a:t>
            </a:r>
            <a:br>
              <a:rPr sz="6600"/>
            </a:b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56" name="Rectangle 2" descr=""/>
          <p:cNvPicPr/>
          <p:nvPr/>
        </p:nvPicPr>
        <p:blipFill>
          <a:blip r:embed="rId1"/>
          <a:stretch/>
        </p:blipFill>
        <p:spPr>
          <a:xfrm>
            <a:off x="25560" y="1231920"/>
            <a:ext cx="9512280" cy="51055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" descr="http://en.clipart-fr.com/data/clipart/heart/heart_036.jpg"/>
          <p:cNvPicPr/>
          <p:nvPr/>
        </p:nvPicPr>
        <p:blipFill>
          <a:blip r:embed="rId2"/>
          <a:stretch/>
        </p:blipFill>
        <p:spPr>
          <a:xfrm>
            <a:off x="5003640" y="1378080"/>
            <a:ext cx="2616480" cy="22618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6" descr="http://images.clipartpanda.com/hand-clip-art-black-and-white-hands-hi.png"/>
          <p:cNvPicPr/>
          <p:nvPr/>
        </p:nvPicPr>
        <p:blipFill>
          <a:blip r:embed="rId3"/>
          <a:stretch/>
        </p:blipFill>
        <p:spPr>
          <a:xfrm>
            <a:off x="287280" y="4184640"/>
            <a:ext cx="3373560" cy="22003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0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F6639-1ACC-4F85-BA11-74ECB00FE95F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0" y="620640"/>
            <a:ext cx="914400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os líderes ungidos tienen autoridad espiritual con otr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10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os líderes ungidos ven a Dios moverse constantemente en sus ministeri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10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os líderes ungidos tienen una vida que demanda una explicación sobrenatural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nodeType="clickEffect" fill="hold">
                      <p:stCondLst>
                        <p:cond delay="0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1" dur="5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6" dur="500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1" dur="500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4850F-62FF-47E5-8D8B-8C92CD5EC52A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932000" y="2698560"/>
            <a:ext cx="4211640" cy="4005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Ha escogido ser un </a:t>
            </a:r>
            <a:r>
              <a:rPr b="1" lang="en-US" sz="4800" spc="-1" strike="noStrike" u="sng">
                <a:solidFill>
                  <a:srgbClr val="ffffff"/>
                </a:solidFill>
                <a:uFillTx/>
                <a:latin typeface="Garamond"/>
              </a:rPr>
              <a:t>EJEMPLO</a:t>
            </a: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 antes de liderar a otros.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grpSp>
        <p:nvGrpSpPr>
          <p:cNvPr id="215" name="Group 19"/>
          <p:cNvGrpSpPr/>
          <p:nvPr/>
        </p:nvGrpSpPr>
        <p:grpSpPr>
          <a:xfrm>
            <a:off x="6389640" y="1592280"/>
            <a:ext cx="1294920" cy="863640"/>
            <a:chOff x="6389640" y="1592280"/>
            <a:chExt cx="1294920" cy="863640"/>
          </a:xfrm>
        </p:grpSpPr>
        <p:pic>
          <p:nvPicPr>
            <p:cNvPr id="216" name="Picture 16" descr="j0178297"/>
            <p:cNvPicPr/>
            <p:nvPr/>
          </p:nvPicPr>
          <p:blipFill>
            <a:blip r:embed="rId1"/>
            <a:stretch/>
          </p:blipFill>
          <p:spPr>
            <a:xfrm>
              <a:off x="6389640" y="1592280"/>
              <a:ext cx="768240" cy="862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7" name="Picture 18" descr="j0178298"/>
            <p:cNvPicPr/>
            <p:nvPr/>
          </p:nvPicPr>
          <p:blipFill>
            <a:blip r:embed="rId2"/>
            <a:stretch/>
          </p:blipFill>
          <p:spPr>
            <a:xfrm>
              <a:off x="6821280" y="1592280"/>
              <a:ext cx="863280" cy="863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8" name="Text Box 20"/>
          <p:cNvSpPr/>
          <p:nvPr/>
        </p:nvSpPr>
        <p:spPr>
          <a:xfrm>
            <a:off x="0" y="1890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19" name="Picture 7" descr=""/>
          <p:cNvPicPr/>
          <p:nvPr/>
        </p:nvPicPr>
        <p:blipFill>
          <a:blip r:embed="rId3"/>
          <a:stretch/>
        </p:blipFill>
        <p:spPr>
          <a:xfrm>
            <a:off x="514440" y="2602080"/>
            <a:ext cx="3960720" cy="36464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8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1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9EA0B-DCEB-47BC-A2B6-7A6D423C2B97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39640" y="2349360"/>
            <a:ext cx="8136000" cy="1773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n-US" sz="7200" spc="-1" strike="noStrike">
                <a:solidFill>
                  <a:srgbClr val="ffffff"/>
                </a:solidFill>
                <a:latin typeface="Garamond"/>
              </a:rPr>
              <a:t>Sed imitadores de mi, asi como yo de Cristo.” 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(1 Cor. 11:1)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nodeType="clickEffect" fill="hold">
                      <p:stCondLst>
                        <p:cond delay="0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8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0644C-9BB9-4092-9580-3F7AE63B65CE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23" name="Picture 6" descr=""/>
          <p:cNvPicPr/>
          <p:nvPr/>
        </p:nvPicPr>
        <p:blipFill>
          <a:blip r:embed="rId1"/>
          <a:stretch/>
        </p:blipFill>
        <p:spPr>
          <a:xfrm>
            <a:off x="144360" y="520560"/>
            <a:ext cx="8856720" cy="5749920"/>
          </a:xfrm>
          <a:prstGeom prst="rect">
            <a:avLst/>
          </a:prstGeom>
          <a:ln w="0">
            <a:noFill/>
          </a:ln>
        </p:spPr>
      </p:pic>
      <p:sp>
        <p:nvSpPr>
          <p:cNvPr id="224" name="Rectangle 3"/>
          <p:cNvSpPr/>
          <p:nvPr/>
        </p:nvSpPr>
        <p:spPr>
          <a:xfrm>
            <a:off x="4680000" y="1700280"/>
            <a:ext cx="2556000" cy="3313080"/>
          </a:xfrm>
          <a:prstGeom prst="rect">
            <a:avLst/>
          </a:pr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5" name="Rectangle 4"/>
          <p:cNvSpPr/>
          <p:nvPr/>
        </p:nvSpPr>
        <p:spPr>
          <a:xfrm>
            <a:off x="4680000" y="5013360"/>
            <a:ext cx="2556000" cy="576360"/>
          </a:xfrm>
          <a:prstGeom prst="rect">
            <a:avLst/>
          </a:pr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6" name="Rectangle 5"/>
          <p:cNvSpPr/>
          <p:nvPr/>
        </p:nvSpPr>
        <p:spPr>
          <a:xfrm>
            <a:off x="324000" y="4869000"/>
            <a:ext cx="2555640" cy="576000"/>
          </a:xfrm>
          <a:prstGeom prst="rect">
            <a:avLst/>
          </a:pr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7" name="Rectangle 6"/>
          <p:cNvSpPr/>
          <p:nvPr/>
        </p:nvSpPr>
        <p:spPr>
          <a:xfrm>
            <a:off x="360360" y="3500280"/>
            <a:ext cx="2556000" cy="576360"/>
          </a:xfrm>
          <a:prstGeom prst="rect">
            <a:avLst/>
          </a:pr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5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0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6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2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45A1C-8450-4BD6-9CFE-E90A1FCB28FF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9" name="Rectangle 8"/>
          <p:cNvSpPr/>
          <p:nvPr/>
        </p:nvSpPr>
        <p:spPr>
          <a:xfrm>
            <a:off x="0" y="1846440"/>
            <a:ext cx="9144000" cy="43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308880" indent="-308880">
              <a:spcBef>
                <a:spcPts val="799"/>
              </a:spcBef>
              <a:spcAft>
                <a:spcPts val="11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El liderazgo funciona en base a la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CONFIANZA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880" indent="-30888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La integridad tiene un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VALOR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de alta influencia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880" indent="-308880">
              <a:spcBef>
                <a:spcPts val="799"/>
              </a:spcBef>
              <a:spcAft>
                <a:spcPts val="11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ara destruir la tendencia de trabajar más duro por nuestra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IMAGEN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que por nuestra integrida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880" indent="-308880">
              <a:spcBef>
                <a:spcPts val="799"/>
              </a:spcBef>
              <a:spcAft>
                <a:spcPts val="11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Integridad significa VIVIR la verdad primero, antes de liderar a otr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880" indent="-308880">
              <a:spcBef>
                <a:spcPts val="799"/>
              </a:spcBef>
              <a:spcAft>
                <a:spcPts val="11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Una personalidad carismática puede atraer gente, pero solo la INTEGRIDAD los mantendrá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880" indent="-3088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0" name="Text Box 10"/>
          <p:cNvSpPr/>
          <p:nvPr/>
        </p:nvSpPr>
        <p:spPr>
          <a:xfrm>
            <a:off x="380880" y="314280"/>
            <a:ext cx="8077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1" name="Text Box 11"/>
          <p:cNvSpPr/>
          <p:nvPr/>
        </p:nvSpPr>
        <p:spPr>
          <a:xfrm>
            <a:off x="0" y="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Razones por las que un corazón de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integridad es tan importante para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los líderes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32" name="Picture 19" descr="j0236214"/>
          <p:cNvPicPr/>
          <p:nvPr/>
        </p:nvPicPr>
        <p:blipFill>
          <a:blip r:embed="rId1"/>
          <a:stretch/>
        </p:blipFill>
        <p:spPr>
          <a:xfrm>
            <a:off x="7020000" y="-31680"/>
            <a:ext cx="2031840" cy="1781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0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5" dur="5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0" dur="5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5" dur="500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B18EB-11F4-4667-98DA-D0C59BE152C5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4" name="Rectangle 2"/>
          <p:cNvSpPr/>
          <p:nvPr/>
        </p:nvSpPr>
        <p:spPr>
          <a:xfrm>
            <a:off x="0" y="1797120"/>
            <a:ext cx="9144000" cy="43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41640" indent="-341640">
              <a:spcBef>
                <a:spcPts val="901"/>
              </a:spcBef>
              <a:spcAft>
                <a:spcPts val="1800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La integridad es una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VICTORIA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, no un regalo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1640" indent="-341640">
              <a:spcBef>
                <a:spcPts val="901"/>
              </a:spcBef>
              <a:spcAft>
                <a:spcPts val="1800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Usted sólo se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CONVERTIRÁ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en lo que se está convirtiendo — ahora mismo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1640" indent="-341640">
              <a:spcBef>
                <a:spcPts val="901"/>
              </a:spcBef>
              <a:spcAft>
                <a:spcPts val="1800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Los líderes están para vivir en un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ESTÁNDAR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más alto que sus seguidores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5" name="Text Box 3"/>
          <p:cNvSpPr/>
          <p:nvPr/>
        </p:nvSpPr>
        <p:spPr>
          <a:xfrm>
            <a:off x="380880" y="314280"/>
            <a:ext cx="8077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6" name="Text Box 4"/>
          <p:cNvSpPr/>
          <p:nvPr/>
        </p:nvSpPr>
        <p:spPr>
          <a:xfrm>
            <a:off x="0" y="-139680"/>
            <a:ext cx="748836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Razones por las que un corazón de integridad es tan importante para los lídere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37" name="Picture 19" descr="j0236214"/>
          <p:cNvPicPr/>
          <p:nvPr/>
        </p:nvPicPr>
        <p:blipFill>
          <a:blip r:embed="rId1"/>
          <a:stretch/>
        </p:blipFill>
        <p:spPr>
          <a:xfrm>
            <a:off x="6808680" y="17640"/>
            <a:ext cx="2030400" cy="17794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nodeType="clickEffect" fill="hold">
                      <p:stCondLst>
                        <p:cond delay="0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7" dur="5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2" dur="500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7" dur="500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87C60-C4A8-4450-9DFE-A702B1E547A3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9" name="Text Box 3"/>
          <p:cNvSpPr/>
          <p:nvPr/>
        </p:nvSpPr>
        <p:spPr>
          <a:xfrm>
            <a:off x="380880" y="314280"/>
            <a:ext cx="8077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0" name="Text Box 4"/>
          <p:cNvSpPr/>
          <p:nvPr/>
        </p:nvSpPr>
        <p:spPr>
          <a:xfrm>
            <a:off x="15840" y="19080"/>
            <a:ext cx="9128160" cy="121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601"/>
              </a:spcAft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iene un gran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ROPÓSITO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en la vid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601"/>
              </a:spcAft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Quitó, por la gracia de Dios, cualquier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OBSTÁCULO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 su vida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601"/>
              </a:spcAft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 ha puesto a si mismo a la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DISPOSICIÓN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absoluta de Di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601"/>
              </a:spcAft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 aprendido cómo prevalecer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EN ORACIÓ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601"/>
              </a:spcAft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s un estudioso d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LA PALABRA DE DIO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601"/>
              </a:spcAft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iene un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MENSAJE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vital que cambia vidas para un mundo perdido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999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fill="hold">
                      <p:stCondLst>
                        <p:cond delay="0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2981A-904F-420E-BAE4-53F05D6462FD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2" name="Text Box 3"/>
          <p:cNvSpPr/>
          <p:nvPr/>
        </p:nvSpPr>
        <p:spPr>
          <a:xfrm>
            <a:off x="380880" y="314280"/>
            <a:ext cx="8077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3" name="Text Box 4"/>
          <p:cNvSpPr/>
          <p:nvPr/>
        </p:nvSpPr>
        <p:spPr>
          <a:xfrm>
            <a:off x="15840" y="19080"/>
            <a:ext cx="9128160" cy="102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1199"/>
              </a:spcAft>
              <a:buClr>
                <a:srgbClr val="ffffff"/>
              </a:buClr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iene una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FE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que espera resultad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1199"/>
              </a:spcAft>
              <a:buClr>
                <a:srgbClr val="ffffff"/>
              </a:buClr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scog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SERVIR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en actitud y en acció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1199"/>
              </a:spcAft>
              <a:buClr>
                <a:srgbClr val="ffffff"/>
              </a:buClr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viva los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DONES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en él mismo y en otros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1199"/>
              </a:spcAft>
              <a:buClr>
                <a:srgbClr val="ffffff"/>
              </a:buClr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s lo suficientement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SEGURO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para impartir poder a otr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1199"/>
              </a:spcAft>
              <a:buClr>
                <a:srgbClr val="ffffff"/>
              </a:buClr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Vive bajo la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UNCIÓN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del Espíritu Santo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1199"/>
              </a:spcAft>
              <a:buClr>
                <a:srgbClr val="ffffff"/>
              </a:buClr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 escogido ser un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EJEMPLO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antes de liderar a otr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582" dur="indefinite" restart="never" nodeType="tmRoot">
          <p:childTnLst>
            <p:seq>
              <p:cTn id="583" dur="indefinite" nodeType="mainSeq">
                <p:childTnLst>
                  <p:par>
                    <p:cTn id="584" fill="hold">
                      <p:stCondLst>
                        <p:cond delay="0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4ED78-4C67-4289-B6CB-31B44B8B5D8D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0" y="765000"/>
            <a:ext cx="914400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indent="0" algn="ctr">
              <a:lnSpc>
                <a:spcPct val="90000"/>
              </a:lnSpc>
              <a:spcBef>
                <a:spcPts val="32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900" spc="-1" strike="noStrike">
                <a:solidFill>
                  <a:srgbClr val="ffffff"/>
                </a:solidFill>
                <a:latin typeface="Garamond"/>
              </a:rPr>
              <a:t>Preguntas </a:t>
            </a:r>
            <a:endParaRPr b="0" lang="en-US" sz="129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32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900" spc="-1" strike="noStrike">
                <a:solidFill>
                  <a:srgbClr val="ffffff"/>
                </a:solidFill>
                <a:latin typeface="Garamond"/>
              </a:rPr>
              <a:t>o Comentarios?</a:t>
            </a:r>
            <a:endParaRPr b="0" lang="en-US" sz="129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58362-1379-41FE-91C5-E58219537E19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764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REPARANDO NUESTROS CORAZONES</a:t>
            </a:r>
            <a:br>
              <a:rPr sz="7200"/>
            </a:br>
            <a:endParaRPr b="1" lang="en-US" sz="3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-14760" y="1736280"/>
            <a:ext cx="93250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Garamond"/>
              </a:rPr>
              <a:t>Hay dos cuestiones importantes (</a:t>
            </a:r>
            <a:r>
              <a:rPr b="1" lang="en-GB" sz="4400" spc="-1" strike="noStrike">
                <a:solidFill>
                  <a:srgbClr val="ffffff"/>
                </a:solidFill>
                <a:latin typeface="Garamond"/>
              </a:rPr>
              <a:t>Hechos 9:3-6)(Hechos 22:7,10)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Garamond"/>
              </a:rPr>
              <a:t>1. “¿Quién eres Señor?”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2. “¿Qué quieres que yo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haga?”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62" name="Picture 6" descr="http://images.clipartpanda.com/answer-clipart-question_clipart.gif"/>
          <p:cNvPicPr/>
          <p:nvPr/>
        </p:nvPicPr>
        <p:blipFill>
          <a:blip r:embed="rId1"/>
          <a:stretch/>
        </p:blipFill>
        <p:spPr>
          <a:xfrm>
            <a:off x="7497720" y="2851200"/>
            <a:ext cx="1646280" cy="40068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67D35-6C3B-44A3-945C-62D20045971A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3600000" y="2852280"/>
            <a:ext cx="5543640" cy="32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15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200" spc="-1" strike="noStrike">
                <a:solidFill>
                  <a:srgbClr val="ffffff"/>
                </a:solidFill>
                <a:latin typeface="Garamond"/>
              </a:rPr>
              <a:t>Tiene un gran </a:t>
            </a:r>
            <a:r>
              <a:rPr b="1" lang="en-US" sz="6200" spc="-1" strike="noStrike" u="sng">
                <a:solidFill>
                  <a:srgbClr val="ffffff"/>
                </a:solidFill>
                <a:uFillTx/>
                <a:latin typeface="Garamond"/>
              </a:rPr>
              <a:t>PROPÓSITO</a:t>
            </a:r>
            <a:r>
              <a:rPr b="1" lang="en-US" sz="6200" spc="-1" strike="noStrike">
                <a:solidFill>
                  <a:srgbClr val="ffffff"/>
                </a:solidFill>
                <a:latin typeface="Garamond"/>
              </a:rPr>
              <a:t> en la vida.</a:t>
            </a:r>
            <a:endParaRPr b="0" lang="en-US" sz="6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65" name="Picture 13" descr="j0178297"/>
          <p:cNvPicPr/>
          <p:nvPr/>
        </p:nvPicPr>
        <p:blipFill>
          <a:blip r:embed="rId1"/>
          <a:stretch/>
        </p:blipFill>
        <p:spPr>
          <a:xfrm>
            <a:off x="5894280" y="1293840"/>
            <a:ext cx="954360" cy="954000"/>
          </a:xfrm>
          <a:prstGeom prst="rect">
            <a:avLst/>
          </a:prstGeom>
          <a:ln w="0">
            <a:noFill/>
          </a:ln>
        </p:spPr>
      </p:pic>
      <p:sp>
        <p:nvSpPr>
          <p:cNvPr id="66" name="Text Box 16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67" name="Picture 5" descr=""/>
          <p:cNvPicPr/>
          <p:nvPr/>
        </p:nvPicPr>
        <p:blipFill>
          <a:blip r:embed="rId2"/>
          <a:stretch/>
        </p:blipFill>
        <p:spPr>
          <a:xfrm>
            <a:off x="179280" y="2862360"/>
            <a:ext cx="3355920" cy="2898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64F2A-EDC5-4C5A-BC99-AB62C650785F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Rectangle 9"/>
          <p:cNvSpPr/>
          <p:nvPr/>
        </p:nvSpPr>
        <p:spPr>
          <a:xfrm>
            <a:off x="0" y="260280"/>
            <a:ext cx="9144000" cy="78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0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i="1" lang="es-ES" sz="3000" spc="-1" strike="noStrike">
                <a:solidFill>
                  <a:srgbClr val="ffffff"/>
                </a:solidFill>
                <a:latin typeface="Garamond"/>
              </a:rPr>
              <a:t>Pero cuantas cosas eran para mí ganancia, las he estimado como pérdida por amor de Cristo. Y ciertamente, aun </a:t>
            </a:r>
            <a:r>
              <a:rPr b="1" i="1" lang="es-ES" sz="3000" spc="-1" strike="noStrike" u="sng">
                <a:solidFill>
                  <a:srgbClr val="ffffff"/>
                </a:solidFill>
                <a:uFillTx/>
                <a:latin typeface="Garamond"/>
              </a:rPr>
              <a:t>estimo todas las cosas como pérdida por la excelencia del conocimiento de Cristo Jesús</a:t>
            </a:r>
            <a:r>
              <a:rPr b="1" i="1" lang="es-ES" sz="3000" spc="-1" strike="noStrike">
                <a:solidFill>
                  <a:srgbClr val="ffffff"/>
                </a:solidFill>
                <a:latin typeface="Garamond"/>
              </a:rPr>
              <a:t>, mi Señor, por amor del cual lo he perdido todo, y lo tengo por basura, para ganar a Cristo, y ser hallado en él, … a fin de conocerle, y el poder de su resurrección, y la participación de sus padecimientos, llegando a ser semejante a él en su muerte, si en alguna manera llegase a la resurrección de entre los muertos. … Una cosa hago: olvidando ciertamente lo que queda atrás, y extendiéndome a lo que está delante, prosigo a la meta, al premio del supremo llamamiento de Dios en Cristo Jesús.” </a:t>
            </a:r>
            <a:r>
              <a:rPr b="1" lang="es-ES" sz="3000" spc="-1" strike="noStrike">
                <a:solidFill>
                  <a:srgbClr val="ffffff"/>
                </a:solidFill>
                <a:latin typeface="Garamond"/>
              </a:rPr>
              <a:t>(Fil. </a:t>
            </a:r>
            <a:r>
              <a:rPr b="1" i="1" lang="es-ES" sz="3000" spc="-1" strike="noStrike">
                <a:solidFill>
                  <a:srgbClr val="ffffff"/>
                </a:solidFill>
                <a:latin typeface="Garamond"/>
              </a:rPr>
              <a:t>3:7-14)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0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59C68-4309-4817-961E-083DB93A9D90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" name="Rectangle 9"/>
          <p:cNvSpPr/>
          <p:nvPr/>
        </p:nvSpPr>
        <p:spPr>
          <a:xfrm>
            <a:off x="0" y="800280"/>
            <a:ext cx="9144000" cy="91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Tú debes responder estas preguntas: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601"/>
              </a:spcAft>
              <a:buClr>
                <a:srgbClr val="ffffff"/>
              </a:buClr>
              <a:buFont typeface="Garamon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Cuáles son tus cargas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601"/>
              </a:spcAft>
              <a:buClr>
                <a:srgbClr val="ffffff"/>
              </a:buClr>
              <a:buFont typeface="Garamon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Cuáles son tus dones espirituales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601"/>
              </a:spcAft>
              <a:buClr>
                <a:srgbClr val="ffffff"/>
              </a:buClr>
              <a:buFont typeface="Garamond"/>
              <a:buAutoNum type="alphaL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Cuáles son tus talentos naturales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d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Cuáles son tus deseos y pasiones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Qué es lo que otros dicen de ti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601"/>
              </a:spcAft>
              <a:buClr>
                <a:srgbClr val="ffffff"/>
              </a:buClr>
              <a:buFont typeface="Garamond"/>
              <a:buAutoNum type="alphaL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Cuáles son tus sueños y visones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g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Qué oportunidades tienes frente a ti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" name="Rectangle 15"/>
          <p:cNvSpPr/>
          <p:nvPr/>
        </p:nvSpPr>
        <p:spPr>
          <a:xfrm>
            <a:off x="0" y="0"/>
            <a:ext cx="914400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Garamond"/>
              </a:rPr>
              <a:t>¿Conoce el propósito que Dios te ha dado? </a:t>
            </a:r>
            <a:endParaRPr b="0" lang="en-US" sz="3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A432A-DEE2-42B2-ABA8-B12E2AA2C6FB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-360" y="3213000"/>
            <a:ext cx="5256360" cy="2951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Quitó, por la gracia de Dios, cualquier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OBSTÁCULO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de su vida.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75" name="Picture 17" descr="j0178298"/>
          <p:cNvPicPr/>
          <p:nvPr/>
        </p:nvPicPr>
        <p:blipFill>
          <a:blip r:embed="rId1"/>
          <a:stretch/>
        </p:blipFill>
        <p:spPr>
          <a:xfrm>
            <a:off x="2124000" y="1413000"/>
            <a:ext cx="1008000" cy="1008000"/>
          </a:xfrm>
          <a:prstGeom prst="rect">
            <a:avLst/>
          </a:prstGeom>
          <a:ln w="0">
            <a:noFill/>
          </a:ln>
        </p:spPr>
      </p:pic>
      <p:sp>
        <p:nvSpPr>
          <p:cNvPr id="76" name="Text Box 21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77" name="Picture 7" descr="http://986045497.r.cdn77.net/wp-content/uploads/2011/06/Ball-and-Chain.jpg"/>
          <p:cNvPicPr/>
          <p:nvPr/>
        </p:nvPicPr>
        <p:blipFill>
          <a:blip r:embed="rId2"/>
          <a:stretch/>
        </p:blipFill>
        <p:spPr>
          <a:xfrm>
            <a:off x="5796000" y="2276640"/>
            <a:ext cx="3168720" cy="4392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7T20:54:29Z</dcterms:created>
  <dc:creator>Kevin Donaldson</dc:creator>
  <dc:description/>
  <dc:language>en-US</dc:language>
  <cp:lastModifiedBy>Monte Cyr</cp:lastModifiedBy>
  <dcterms:modified xsi:type="dcterms:W3CDTF">2021-04-23T17:23:03Z</dcterms:modified>
  <cp:revision>147</cp:revision>
  <dc:subject/>
  <dc:title>PowerPoint Presentation</dc:title>
</cp:coreProperties>
</file>