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B2D8-1B7B-4E60-9DF0-8DB37411C3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D36A-8A2C-4500-A76D-F7CAAE7757E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E17B5-21DF-4305-810E-BCD815804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4C53E-5CFD-4170-A35F-FB290D54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66AB5-958C-4F63-93FC-BDC15D9E9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26FF8-76F4-4865-9A9B-4BE668609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1DC3-F3EC-4063-954F-637031FB4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1D4B-9960-4CB3-A3DC-203DA37F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60A27-4DB3-4DEB-A89E-4BF52FC3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15CB-3E3B-4FD1-931E-8EC2EEDB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1A39-17FA-460A-BF62-3FB05512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BBC38-FA7E-4B57-9DE7-39DBFE03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46662-8ADB-478B-B06B-FA7FE859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483EE-DF33-4746-A172-601C54AF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A301-9EEE-434D-9812-9175BF14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0FD5-3B47-40AE-BD5C-174B37D4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4D2E7-D383-4779-BEF7-BAC97021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0092-3729-4620-BB94-C669CCED0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74AA-9160-4FCD-A84B-B5572CEB0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0A0C4-7ECC-4676-B158-9DE823CB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BE187-95ED-4E57-B9D3-1D8B770D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FEF6D-91DE-4329-8311-471105533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7C7C5-B009-41CB-A823-DD97F9CA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EB433-4B15-4A9F-84DE-C2A92C83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B016A-0F43-4B2A-AEE0-51831670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F203A-EA07-4E05-AE57-D93BCBC7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CF7C-251F-4CCC-88BD-F0678C81CE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4437-3365-403E-8EF0-85824473795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8374-CD61-4DB0-AF00-BDADF0067A0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F668-AD5D-4362-846E-07485FA4A90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L SAMARITAN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ue despreci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abía lo que s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entía ser ignor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o al hombre como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UNA PERSONA PARA AMAR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http://biblecraftsandactivities.com/wp-content/uploads/2013/07/GoodSamaritan-coloring_sermons4kids.gif"/>
          <p:cNvPicPr/>
          <p:nvPr/>
        </p:nvPicPr>
        <p:blipFill>
          <a:blip r:embed="rId1"/>
          <a:stretch/>
        </p:blipFill>
        <p:spPr>
          <a:xfrm>
            <a:off x="5929200" y="722160"/>
            <a:ext cx="318456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652C-BB99-411B-84D9-467D60F52F1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800" spc="-1" strike="noStrike">
                <a:solidFill>
                  <a:srgbClr val="ffffff"/>
                </a:solidFill>
                <a:latin typeface="Garamond"/>
              </a:rPr>
              <a:t>PUDIMOS ELIGIR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VI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AMAR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200" spc="-1" strike="noStrike">
                <a:solidFill>
                  <a:srgbClr val="ffffff"/>
                </a:solidFill>
                <a:latin typeface="Garamond"/>
              </a:rPr>
              <a:t>NUESTRA MET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La meta es dejar atrás sus fallas y ver sus necesidad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http://images.clipartpanda.com/choice-clipart-fork-choice-hi.png"/>
          <p:cNvPicPr/>
          <p:nvPr/>
        </p:nvPicPr>
        <p:blipFill>
          <a:blip r:embed="rId1"/>
          <a:stretch/>
        </p:blipFill>
        <p:spPr>
          <a:xfrm>
            <a:off x="5003640" y="189000"/>
            <a:ext cx="3822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2D9E-7F55-4E5E-83F8-AA7BE08F6B3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0" y="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ristianismo 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RELACIÓNE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39640" y="1916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na relación vertical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Dio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Relaciónes horizontales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person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0" y="4294080"/>
            <a:ext cx="655308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Ellos sabrén que somos Cristianos por nuestras</a:t>
            </a: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…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RELACIONES DE AMOR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15" descr="j0198096"/>
          <p:cNvPicPr/>
          <p:nvPr/>
        </p:nvPicPr>
        <p:blipFill>
          <a:blip r:embed="rId1"/>
          <a:stretch/>
        </p:blipFill>
        <p:spPr>
          <a:xfrm>
            <a:off x="6553080" y="1720800"/>
            <a:ext cx="241164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FC2A-FE52-4EAE-A27E-E79050550AA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Piense en las personas en su vida 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que son las más difíciles de amar. ¿Por qué son difíciles de amar? ¿Cómo las vemos?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¿Cómo puede usted empezar a ver a la gente de la manera en la que el samaritano vió al hombre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5437-EDCF-4C92-BA68-564487EF334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istianismo es Relació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A la gente no le importa mucho cuanto sabe usted, hasta que saben cuanto se interesa en ellos.”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- Dr. John C. Maxwel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E2B3-5D85-4B23-BD60-AACACE987CE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Una definición de liderazgo espiritu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219320" y="275256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39640" y="1557360"/>
            <a:ext cx="8305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Garamond"/>
              </a:rPr>
              <a:t>AQUEL QUE ASUMA RESPONSABILIDAD POR LA SALUD Y EL DESARROLLO DE SUS RELACIONE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F653-4980-4026-B4AA-A2ED785F1E8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4080" y="1393920"/>
            <a:ext cx="898992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NFITRIÓN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 La analogía del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OCTOR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uatro palabras para ilustrar los roles del líd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6" descr="http://misc.phillipmartin.info/misc_welcome2.gif"/>
          <p:cNvPicPr/>
          <p:nvPr/>
        </p:nvPicPr>
        <p:blipFill>
          <a:blip r:embed="rId1"/>
          <a:srcRect l="0" t="0" r="0" b="5232"/>
          <a:stretch/>
        </p:blipFill>
        <p:spPr>
          <a:xfrm>
            <a:off x="4788000" y="585720"/>
            <a:ext cx="2952720" cy="3459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rcRect l="28613" t="0" r="29542" b="0"/>
          <a:stretch/>
        </p:blipFill>
        <p:spPr>
          <a:xfrm>
            <a:off x="795240" y="3030480"/>
            <a:ext cx="15843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6801-EA54-4826-921D-1F3E53527EC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4080" y="1413000"/>
            <a:ext cx="8989920" cy="45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EJER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GUÍA DE TURIST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tro palabras para ilustra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4427640" y="957240"/>
            <a:ext cx="4181400" cy="2898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29210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7F1C-92E4-4DE9-8582-7744AC21B47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0" y="162864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LAS PERSONAS SO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NSEGURA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ÉLES CONFIANZ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rsonas heridas hieren personas. Personas seguras dan seguridad a las persona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9" descr="http://images.clipartof.com/thumbnails/227344-Royalty-Free-RF-Clipart-Illustration-Of-A-Somber-Moodie-Character-Looking-At-His-Reflection-In-A-Mirror.jpg"/>
          <p:cNvPicPr/>
          <p:nvPr/>
        </p:nvPicPr>
        <p:blipFill>
          <a:blip r:embed="rId1"/>
          <a:stretch/>
        </p:blipFill>
        <p:spPr>
          <a:xfrm>
            <a:off x="5764320" y="981000"/>
            <a:ext cx="2960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DBAE-A768-44FA-A182-7E84995AB3C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1052640"/>
            <a:ext cx="914400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las personas les gust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ir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PECIAL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ÓNREL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ndo usted afirme y honre a alguien con sus palabras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acerlo inceramente, específicamente, públicamente, personalmen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8" descr="http://www.presentationmagazine.com/newimages/rally-speech-510.jpg"/>
          <p:cNvPicPr/>
          <p:nvPr/>
        </p:nvPicPr>
        <p:blipFill>
          <a:blip r:embed="rId1"/>
          <a:stretch/>
        </p:blipFill>
        <p:spPr>
          <a:xfrm>
            <a:off x="5796000" y="836640"/>
            <a:ext cx="2781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8DBE-78D3-4ABC-A26A-8A844656C54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ección #5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ultivando la habilidad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de tratar con la gente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rol vital de las relaciones en el liderazgo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2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5695-92D6-4A88-99AB-3A34E603393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620640"/>
            <a:ext cx="9144000" cy="47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s personas buscan un mej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e5e5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ÉLES ESPERANZA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clave para hoy es creer en el mañan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rcRect l="7405" t="9629" r="9923" b="10722"/>
          <a:stretch/>
        </p:blipFill>
        <p:spPr>
          <a:xfrm>
            <a:off x="2843280" y="4149720"/>
            <a:ext cx="61624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8EF7-EDCF-4E68-AF1C-DC39AEF4831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981000"/>
            <a:ext cx="9144000" cy="68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 La gente necesita se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NTENDID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ÚCHEL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hacer conexión co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tros, entienda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llaves” de su coraz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¿De qué platica, lamenta, sueña, alegría, planea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8812" t="0" r="9876" b="0"/>
          <a:stretch/>
        </p:blipFill>
        <p:spPr>
          <a:xfrm>
            <a:off x="6394320" y="1773360"/>
            <a:ext cx="2451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4469-B0D1-48D5-90BA-D1DEF7F190F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620640"/>
            <a:ext cx="9144000" cy="77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La gente necesit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RECCIÓ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ue” por ell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mayoría de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ersonas puede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ar el barco; el líder ayuda a visualizar el curs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deb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be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i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n 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mostra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373720" y="69228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4C77-9372-47C3-8EEF-76B6BAD38FC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1031"/>
          <p:cNvSpPr/>
          <p:nvPr/>
        </p:nvSpPr>
        <p:spPr>
          <a:xfrm>
            <a:off x="0" y="97488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La gente está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ECESITADA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ble primer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 sus necesidad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gente necesita ser ministrada antes de que puedan ministr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3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8985" t="3697" r="0" b="14665"/>
          <a:stretch/>
        </p:blipFill>
        <p:spPr>
          <a:xfrm>
            <a:off x="5219640" y="944640"/>
            <a:ext cx="3836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BCE5-7656-4492-B5AE-C694E152E7D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0" y="907920"/>
            <a:ext cx="914400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La gen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SE DEPRIM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DÉLES ÁNI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5364000" y="2832120"/>
            <a:ext cx="35481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60A0-095E-475A-BCBE-ACE3D81BDFA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0" y="836640"/>
            <a:ext cx="91440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La gente quier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RIUNF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YÚDELES A GAN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xtiéndase y ayude a otros a alcanzar sus metas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6" descr="http://images.clipartpanda.com/request-clipart-first-prize-winner-form-microsoft-clip-art.png"/>
          <p:cNvPicPr/>
          <p:nvPr/>
        </p:nvPicPr>
        <p:blipFill>
          <a:blip r:embed="rId1"/>
          <a:stretch/>
        </p:blipFill>
        <p:spPr>
          <a:xfrm>
            <a:off x="6084720" y="836640"/>
            <a:ext cx="2862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0F66-5643-4F22-A10F-0747878775D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0" y="907920"/>
            <a:ext cx="914400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La gente dese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RELACIONE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ovéales un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munida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actique el principio del 101% con la gente. Encuentre el 1% que usted tiene en común con alguien y déle el 100% de su atenci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10" descr="http://www.clker.com/cliparts/3/v/J/S/q/f/community-symbol-md.png"/>
          <p:cNvPicPr/>
          <p:nvPr/>
        </p:nvPicPr>
        <p:blipFill>
          <a:blip r:embed="rId1"/>
          <a:stretch/>
        </p:blipFill>
        <p:spPr>
          <a:xfrm>
            <a:off x="4387680" y="1268280"/>
            <a:ext cx="45831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636480"/>
            <a:ext cx="91440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. La gente busc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ODELO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gui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A UN EJEMPL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Gente Hace Lo Que V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diquen el Evangelio en todo tiempo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i es necesario, usen las palabras.”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an Francisc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s posible que usted es la unica Bibli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 vecino leerá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 Corintios 11:1 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“Sed imitadores de mí, así como yo de Cristo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8" descr="http://sweetclipart.com/multisite/sweetclipart/files/foot_prints_walking.png"/>
          <p:cNvPicPr/>
          <p:nvPr/>
        </p:nvPicPr>
        <p:blipFill>
          <a:blip r:embed="rId1"/>
          <a:stretch/>
        </p:blipFill>
        <p:spPr>
          <a:xfrm>
            <a:off x="7610400" y="630360"/>
            <a:ext cx="14112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7A74-BC64-4B0B-B063-6F9C3D0DD54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E953-DB28-40CF-8A06-0F655FE085F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Garamond"/>
              </a:rPr>
              <a:t>La base del liderazgo son las personas</a:t>
            </a:r>
            <a:br>
              <a:rPr sz="4000"/>
            </a:b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50920" y="981000"/>
            <a:ext cx="856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Aquél que cree que lidera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pero no tiene seguidores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tan solo está dando un paseo”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Picture 10" descr="http://sr.photos2.fotosearch.com/bthumb/CSP/CSP094/k0945302.jpg"/>
          <p:cNvPicPr/>
          <p:nvPr/>
        </p:nvPicPr>
        <p:blipFill>
          <a:blip r:embed="rId1"/>
          <a:stretch/>
        </p:blipFill>
        <p:spPr>
          <a:xfrm>
            <a:off x="1987560" y="3621240"/>
            <a:ext cx="51768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9BEB-2E87-4ED2-9037-98DB2BB0D8C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uatro verdades acerca del liderazgo y la g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0" y="1413000"/>
            <a:ext cx="9144000" cy="64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 personas son 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ESOR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ás preciado de la igles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El bien más importante de un líder es su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BIL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tratar con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Un buen líder puede liderar varios grupos porque el liderazgo se trata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Usted puede tener habilidad para tratar con las personas y no ser un bue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Í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pero no puede ser un buen líder sin tener habilidad para tratar con las person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8C19-49AA-47D8-AC7F-D14CD660628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7000" y="563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Lucas 10:30-37 -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“¿Quién es mi prójimo?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79800" y="1844640"/>
            <a:ext cx="514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ffffff"/>
                </a:solidFill>
                <a:latin typeface="Garamond"/>
              </a:rPr>
              <a:t>Jesus enseñó que las relaciones y el ministerio no están circunscritos a su círculo inmediato de amig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6" descr="http://www.clipsahoy.com/clipart3/as5744.gif"/>
          <p:cNvPicPr/>
          <p:nvPr/>
        </p:nvPicPr>
        <p:blipFill>
          <a:blip r:embed="rId1"/>
          <a:stretch/>
        </p:blipFill>
        <p:spPr>
          <a:xfrm>
            <a:off x="108000" y="2357280"/>
            <a:ext cx="379404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CA9B-082E-498E-8DE5-F437A4D0CEE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Jesus enseñó que las relaciones con otros son mas importantes que muchas actividades espirituales que practicamos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(Mateo 5:23-24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28AF-3FAC-4655-A7D9-1CC4A4BB2C3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76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Tambien, </a:t>
            </a:r>
            <a:r>
              <a:rPr b="1" lang="en-ZA" sz="4400" spc="-1" strike="noStrike">
                <a:solidFill>
                  <a:srgbClr val="e5e5ff"/>
                </a:solidFill>
                <a:latin typeface="Garamond"/>
              </a:rPr>
              <a:t>Jesus enseñó que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Garamond"/>
              </a:rPr>
              <a:t>La manera como se ve a sí mismo y otros es la manera como usted sirve a la gente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ACD4-DF2E-4CB3-84B2-2D0DAD2D2C7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ADR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aron a la gent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nipularon a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eron al hombre como una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VÍCTIMA PARA 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http://fm99.com/wp-content/blogs.dir/2/files/2013/05/robber.jpg"/>
          <p:cNvPicPr/>
          <p:nvPr/>
        </p:nvPicPr>
        <p:blipFill>
          <a:blip r:embed="rId1"/>
          <a:stretch/>
        </p:blipFill>
        <p:spPr>
          <a:xfrm>
            <a:off x="5651640" y="189000"/>
            <a:ext cx="3333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EF14-BC24-424B-8FF1-A3F50FDCD92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SACERDOT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Guardaban la ley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ran pur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eron al hombre como un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OBLEMA PARA EVIT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http://sr.photos3.fotosearch.com/bthumb/CSP/CSP993/k15485619.jpg"/>
          <p:cNvPicPr/>
          <p:nvPr/>
        </p:nvPicPr>
        <p:blipFill>
          <a:blip r:embed="rId1"/>
          <a:stretch/>
        </p:blipFill>
        <p:spPr>
          <a:xfrm>
            <a:off x="6443640" y="44280"/>
            <a:ext cx="266868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59:28Z</dcterms:modified>
  <cp:revision>90</cp:revision>
  <dc:subject/>
  <dc:title>PowerPoint Presentation</dc:title>
</cp:coreProperties>
</file>