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2.jpeg" ContentType="image/jpeg"/>
  <Override PartName="/ppt/media/image10.gif" ContentType="image/gif"/>
  <Override PartName="/ppt/media/image11.png" ContentType="image/png"/>
  <Override PartName="/ppt/media/image19.jpeg" ContentType="image/jpeg"/>
  <Override PartName="/ppt/media/image9.jpeg" ContentType="image/jpeg"/>
  <Override PartName="/ppt/media/image7.png" ContentType="image/png"/>
  <Override PartName="/ppt/media/image1.jpeg" ContentType="image/jpeg"/>
  <Override PartName="/ppt/media/image21.jpeg" ContentType="image/jpeg"/>
  <Override PartName="/ppt/media/image16.jpeg" ContentType="image/jpe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4.jpeg" ContentType="image/jpeg"/>
  <Override PartName="/ppt/media/image14.png" ContentType="image/png"/>
  <Override PartName="/ppt/media/image5.png" ContentType="image/png"/>
  <Override PartName="/ppt/media/image6.jpeg" ContentType="image/jpe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6DF11-34A0-41BC-8996-6B243574C85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B05E8-8917-4394-8343-8A79A028012D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76B0A-D993-4D51-BEB4-55867736B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66681-2DC9-42ED-B910-4D425AEBB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75749-794F-49EB-B047-89D4AD347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F3BE2-E254-4BC6-A3D4-4ED347C6C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91507-3F68-425B-9ED3-6E8461A21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2BCAB-AF23-45C4-B02A-B5B2B5A11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6D8E0-9CC8-4567-882C-81B67F6E5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E473D-79C9-40D4-85F8-385582CEC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3FDB4-5124-4299-9991-F97DF107C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12426-B4C6-4BBB-A8C4-B273EE4F8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4B370-E759-498B-AF0D-456CED0EB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C1105-8AC9-4750-B125-366B658F9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460BF-E378-47D7-AD14-020452035A0D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C0B1D-03BD-4B98-A521-640E1CC575CA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1828D-10CB-4A9C-83E8-92210CFE5E9F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9144000" cy="1008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ecciones aprendidas</a:t>
            </a:r>
            <a:br>
              <a:rPr sz="4400"/>
            </a:b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454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6.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REACCIONAR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no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es lidera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7.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DIGA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“no” a las cosas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pequeña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79" name="Picture 8" descr="http://www.clipartlord.com/wp-content/uploads/2014/05/hospital6.png"/>
          <p:cNvPicPr/>
          <p:nvPr/>
        </p:nvPicPr>
        <p:blipFill>
          <a:blip r:embed="rId1"/>
          <a:stretch/>
        </p:blipFill>
        <p:spPr>
          <a:xfrm>
            <a:off x="4753080" y="692280"/>
            <a:ext cx="3600360" cy="29970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7" descr=""/>
          <p:cNvPicPr/>
          <p:nvPr/>
        </p:nvPicPr>
        <p:blipFill>
          <a:blip r:embed="rId2"/>
          <a:stretch/>
        </p:blipFill>
        <p:spPr>
          <a:xfrm>
            <a:off x="611280" y="3800520"/>
            <a:ext cx="2736720" cy="26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0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5B235-73D7-4AEA-9767-C84C3821B059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0" y="1267920"/>
            <a:ext cx="914400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29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iga “no” a la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IDEA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,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no a la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PERSONA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29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Responda en términos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el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MEJOR INTERÉS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para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la persona que lo pide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29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ifiera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CREATIVAMENTE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, proponga una alternativa 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Como decir “No” con gracia…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grpSp>
        <p:nvGrpSpPr>
          <p:cNvPr id="84" name="Group 2"/>
          <p:cNvGrpSpPr/>
          <p:nvPr/>
        </p:nvGrpSpPr>
        <p:grpSpPr>
          <a:xfrm>
            <a:off x="6519960" y="1143000"/>
            <a:ext cx="2590560" cy="2489040"/>
            <a:chOff x="6519960" y="1143000"/>
            <a:chExt cx="2590560" cy="2489040"/>
          </a:xfrm>
        </p:grpSpPr>
        <p:pic>
          <p:nvPicPr>
            <p:cNvPr id="85" name="Picture 4" descr=""/>
            <p:cNvPicPr/>
            <p:nvPr/>
          </p:nvPicPr>
          <p:blipFill>
            <a:blip r:embed="rId1"/>
            <a:stretch/>
          </p:blipFill>
          <p:spPr>
            <a:xfrm>
              <a:off x="6519960" y="1143000"/>
              <a:ext cx="2590560" cy="248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Rectangle 1"/>
            <p:cNvSpPr/>
            <p:nvPr/>
          </p:nvSpPr>
          <p:spPr>
            <a:xfrm>
              <a:off x="8337600" y="1611000"/>
              <a:ext cx="409320" cy="869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7" name="Rectangle 6"/>
            <p:cNvSpPr/>
            <p:nvPr/>
          </p:nvSpPr>
          <p:spPr>
            <a:xfrm rot="20508000">
              <a:off x="8324640" y="1655640"/>
              <a:ext cx="264960" cy="60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0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70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6ACC6-1E93-4EE4-907D-480A684BE26B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0" y="1655640"/>
            <a:ext cx="9144000" cy="544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735480" indent="-735480">
              <a:spcAft>
                <a:spcPts val="1800"/>
              </a:spcAft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Haga listas de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QUE </a:t>
            </a:r>
            <a:br>
              <a:rPr sz="4400"/>
            </a:b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DEBO HACER </a:t>
            </a:r>
            <a:br>
              <a:rPr sz="4400"/>
            </a:b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735480"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2.  Establezca sus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PRIORIDADES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735480"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3. Evite el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PERFECCIONISMO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5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Garamond"/>
              </a:rPr>
              <a:t>Como lograr lo mejor de su tiempo…</a:t>
            </a:r>
            <a:endParaRPr b="1" lang="en-US" sz="38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91" name="Picture 17" descr="j0234760"/>
          <p:cNvPicPr/>
          <p:nvPr/>
        </p:nvPicPr>
        <p:blipFill>
          <a:blip r:embed="rId1"/>
          <a:stretch/>
        </p:blipFill>
        <p:spPr>
          <a:xfrm>
            <a:off x="90360" y="4680"/>
            <a:ext cx="1312920" cy="16560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7" descr="http://www.clker.com/cliparts/1/3/a/a/12284172421897139812CoD_fsfe_Checklist_icon.svg.hi.png"/>
          <p:cNvPicPr/>
          <p:nvPr/>
        </p:nvPicPr>
        <p:blipFill>
          <a:blip r:embed="rId2"/>
          <a:srcRect l="15140" t="10295" r="10611" b="8610"/>
          <a:stretch/>
        </p:blipFill>
        <p:spPr>
          <a:xfrm>
            <a:off x="6443640" y="1268280"/>
            <a:ext cx="2016000" cy="21988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9" descr="http://cauldronsandcupcakes.files.wordpress.com/2013/09/list.jpg?w=584"/>
          <p:cNvPicPr/>
          <p:nvPr/>
        </p:nvPicPr>
        <p:blipFill>
          <a:blip r:embed="rId3"/>
          <a:stretch/>
        </p:blipFill>
        <p:spPr>
          <a:xfrm>
            <a:off x="590400" y="3595680"/>
            <a:ext cx="1820880" cy="17049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7" descr=""/>
          <p:cNvPicPr/>
          <p:nvPr/>
        </p:nvPicPr>
        <p:blipFill>
          <a:blip r:embed="rId4"/>
          <a:stretch/>
        </p:blipFill>
        <p:spPr>
          <a:xfrm>
            <a:off x="6372360" y="5146560"/>
            <a:ext cx="2087280" cy="15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0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5C619-C198-4E24-99D5-217B939AE078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0" y="1268280"/>
            <a:ext cx="9144000" cy="544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4.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CUESTIONE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todo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5. Déle la bienvenida 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  a la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TENSIÓN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6.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vite el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DESORDEN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0" y="-243000"/>
            <a:ext cx="9144000" cy="112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Como lograr lo mejor de su tiempo…</a:t>
            </a:r>
            <a:endParaRPr b="1" lang="en-US" sz="32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98" name="Picture 2" descr="http://images.clipartpanda.com/question-Kin57o5iq.gif"/>
          <p:cNvPicPr/>
          <p:nvPr/>
        </p:nvPicPr>
        <p:blipFill>
          <a:blip r:embed="rId1"/>
          <a:srcRect l="0" t="0" r="0" b="33035"/>
          <a:stretch/>
        </p:blipFill>
        <p:spPr>
          <a:xfrm>
            <a:off x="7093080" y="162000"/>
            <a:ext cx="1800000" cy="29368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4" descr="http://thumbs.dreamstime.com/thumblarge_551/1288410346h4TAEa.jpg"/>
          <p:cNvPicPr/>
          <p:nvPr/>
        </p:nvPicPr>
        <p:blipFill>
          <a:blip r:embed="rId2"/>
          <a:stretch/>
        </p:blipFill>
        <p:spPr>
          <a:xfrm>
            <a:off x="539640" y="2352600"/>
            <a:ext cx="2594160" cy="27813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6" descr="http://www.buzzle.com/images/cliparts/messy-desk.jpg"/>
          <p:cNvPicPr/>
          <p:nvPr/>
        </p:nvPicPr>
        <p:blipFill>
          <a:blip r:embed="rId3"/>
          <a:stretch/>
        </p:blipFill>
        <p:spPr>
          <a:xfrm>
            <a:off x="5651640" y="4991040"/>
            <a:ext cx="228600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0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87EA4-6118-458A-ACD9-A8899AF76AB4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" name="Rectangle 13"/>
          <p:cNvSpPr/>
          <p:nvPr/>
        </p:nvSpPr>
        <p:spPr>
          <a:xfrm>
            <a:off x="108000" y="765000"/>
            <a:ext cx="9144000" cy="65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7. Evite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POSPONER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8. Controle las 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         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INTERRUPCIONES 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y DISTRACCIONES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Como lograr lo mejor de su tiempo…</a:t>
            </a: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  <p:grpSp>
        <p:nvGrpSpPr>
          <p:cNvPr id="104" name="Group 3"/>
          <p:cNvGrpSpPr/>
          <p:nvPr/>
        </p:nvGrpSpPr>
        <p:grpSpPr>
          <a:xfrm>
            <a:off x="5940360" y="1082520"/>
            <a:ext cx="3024360" cy="1525680"/>
            <a:chOff x="5940360" y="1082520"/>
            <a:chExt cx="3024360" cy="1525680"/>
          </a:xfrm>
        </p:grpSpPr>
        <p:sp>
          <p:nvSpPr>
            <p:cNvPr id="105" name="Rectangle 2"/>
            <p:cNvSpPr/>
            <p:nvPr/>
          </p:nvSpPr>
          <p:spPr>
            <a:xfrm>
              <a:off x="5940360" y="1082520"/>
              <a:ext cx="3024360" cy="1525680"/>
            </a:xfrm>
            <a:prstGeom prst="rect">
              <a:avLst/>
            </a:prstGeom>
            <a:solidFill>
              <a:srgbClr val="33cccc"/>
            </a:solidFill>
            <a:ln w="25560">
              <a:solidFill>
                <a:srgbClr val="2395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6" name="TextBox 1"/>
            <p:cNvSpPr/>
            <p:nvPr/>
          </p:nvSpPr>
          <p:spPr>
            <a:xfrm>
              <a:off x="6015960" y="1604160"/>
              <a:ext cx="287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ill Sans Extra Bold"/>
                  <a:ea typeface="Gill Sans Extra Bold"/>
                </a:rPr>
                <a:t>POSPONER</a:t>
              </a:r>
              <a:endParaRPr b="0" lang="en-US" sz="32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pic>
          <p:nvPicPr>
            <p:cNvPr id="107" name="Picture 6" descr=""/>
            <p:cNvPicPr/>
            <p:nvPr/>
          </p:nvPicPr>
          <p:blipFill>
            <a:blip r:embed="rId1"/>
            <a:stretch/>
          </p:blipFill>
          <p:spPr>
            <a:xfrm>
              <a:off x="6474600" y="1082520"/>
              <a:ext cx="1955880" cy="15256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8" name="Picture 14" descr="http://www.christart.com/IMAGES-art9ab/clipart/509/avoid-distractions.png"/>
          <p:cNvPicPr/>
          <p:nvPr/>
        </p:nvPicPr>
        <p:blipFill>
          <a:blip r:embed="rId2"/>
          <a:srcRect l="0" t="33728" r="37516" b="0"/>
          <a:stretch/>
        </p:blipFill>
        <p:spPr>
          <a:xfrm>
            <a:off x="277920" y="4149720"/>
            <a:ext cx="2803320" cy="25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0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3A67E-D48E-4E35-A100-0DAD1F31413E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179280" y="1039680"/>
            <a:ext cx="9144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9. Delegue sus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DEBILIDADES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0. Use un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CALENDARIO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Como lograr lo mejor de su tiempo…</a:t>
            </a: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12" name="Picture 5" descr=""/>
          <p:cNvPicPr/>
          <p:nvPr/>
        </p:nvPicPr>
        <p:blipFill>
          <a:blip r:embed="rId1"/>
          <a:srcRect l="11151" t="4694" r="4346" b="10560"/>
          <a:stretch/>
        </p:blipFill>
        <p:spPr>
          <a:xfrm>
            <a:off x="4932360" y="763560"/>
            <a:ext cx="2879640" cy="28796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" descr=""/>
          <p:cNvPicPr/>
          <p:nvPr/>
        </p:nvPicPr>
        <p:blipFill>
          <a:blip r:embed="rId2"/>
          <a:stretch/>
        </p:blipFill>
        <p:spPr>
          <a:xfrm>
            <a:off x="324000" y="3997440"/>
            <a:ext cx="3255840" cy="25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0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C999B-9EAD-488B-8F1E-1E3DDD2CC0BB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Rectangle 21"/>
          <p:cNvSpPr/>
          <p:nvPr/>
        </p:nvSpPr>
        <p:spPr>
          <a:xfrm>
            <a:off x="0" y="1052640"/>
            <a:ext cx="9144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4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Evaluación: Tres preguntas sabias…</a:t>
            </a:r>
            <a:br>
              <a:rPr sz="4000"/>
            </a:br>
            <a:r>
              <a:rPr b="1" lang="en-US" sz="3200" spc="-1" strike="noStrike">
                <a:solidFill>
                  <a:srgbClr val="b9efee"/>
                </a:solidFill>
                <a:latin typeface="Garamond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Rectangle 22"/>
          <p:cNvSpPr/>
          <p:nvPr/>
        </p:nvSpPr>
        <p:spPr>
          <a:xfrm>
            <a:off x="0" y="1890720"/>
            <a:ext cx="9144000" cy="49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. ¿QUÉ SE REQUIERE DE MI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. ¿QUÉ ES LO QUE ME DA LOS MEJORES RESULTADOS 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3. ¿QUÉ ES LO QUE ME DA MAYOR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RECOMPENSA 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nodeType="clickEffect" fill="hold">
                      <p:stCondLst>
                        <p:cond delay="0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91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1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6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0FB7B-03E8-4E57-84B2-0F63234AA9B3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Rectangle 21"/>
          <p:cNvSpPr/>
          <p:nvPr/>
        </p:nvSpPr>
        <p:spPr>
          <a:xfrm>
            <a:off x="324000" y="4292640"/>
            <a:ext cx="9144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21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os recursos para compartir los talleres están aquí: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www.MieddRecursos.MesoamericaRegion.org</a:t>
            </a:r>
            <a:br>
              <a:rPr sz="4000"/>
            </a:br>
            <a:r>
              <a:rPr b="1" lang="en-US" sz="3200" spc="-1" strike="noStrike">
                <a:solidFill>
                  <a:srgbClr val="b9efee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9efee"/>
                </a:solidFill>
                <a:latin typeface="Garamond"/>
              </a:rPr>
              <a:t>Correo: Mcyr@MesoamericaRegion.org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Rectangle 22"/>
          <p:cNvSpPr/>
          <p:nvPr/>
        </p:nvSpPr>
        <p:spPr>
          <a:xfrm>
            <a:off x="0" y="1890720"/>
            <a:ext cx="9144000" cy="49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0" name="Picture 2" descr="Map&#10;&#10;Description automatically generated with medium confidence"/>
          <p:cNvPicPr/>
          <p:nvPr/>
        </p:nvPicPr>
        <p:blipFill>
          <a:blip r:embed="rId1"/>
          <a:stretch/>
        </p:blipFill>
        <p:spPr>
          <a:xfrm>
            <a:off x="3851280" y="28440"/>
            <a:ext cx="1995480" cy="26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0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13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500"/>
                            </p:stCondLst>
                            <p:childTnLst>
                              <p:par>
                                <p:cTn id="315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17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000"/>
                            </p:stCondLst>
                            <p:childTnLst>
                              <p:par>
                                <p:cTn id="319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21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6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B6D37-A804-40C2-B397-62948801ABC9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0" y="692280"/>
            <a:ext cx="91440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800" spc="-1" strike="noStrike">
                <a:solidFill>
                  <a:srgbClr val="cc9900"/>
                </a:solidFill>
                <a:latin typeface="Garamond"/>
              </a:rPr>
              <a:t>COMENTARIOS </a:t>
            </a:r>
            <a:endParaRPr b="0" lang="en-US" sz="8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800" spc="-1" strike="noStrike">
                <a:solidFill>
                  <a:srgbClr val="cc9900"/>
                </a:solidFill>
                <a:latin typeface="Garamond"/>
              </a:rPr>
              <a:t>O</a:t>
            </a:r>
            <a:endParaRPr b="0" lang="en-US" sz="8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800" spc="-1" strike="noStrike">
                <a:solidFill>
                  <a:srgbClr val="cc9900"/>
                </a:solidFill>
                <a:latin typeface="Garamond"/>
              </a:rPr>
              <a:t>PREGUNTAS</a:t>
            </a:r>
            <a:endParaRPr b="0" lang="en-US" sz="8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0" y="18900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Prioridades y toma de decisiones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Haciendo rendir el tiempo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9900"/>
                </a:solidFill>
                <a:latin typeface="Garamond"/>
              </a:rPr>
              <a:t>(Lección #6, página 34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9EA91-186D-4DC2-A300-DB9A31F63544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" name="Rectangle 12"/>
          <p:cNvSpPr/>
          <p:nvPr/>
        </p:nvSpPr>
        <p:spPr>
          <a:xfrm>
            <a:off x="1258920" y="2205000"/>
            <a:ext cx="6445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48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i="1" lang="en-US" sz="5400" spc="-1" strike="noStrike">
                <a:solidFill>
                  <a:srgbClr val="ffffff"/>
                </a:solidFill>
                <a:latin typeface="Garamond"/>
              </a:rPr>
              <a:t>!!Guías ciegos, que coláis el mosquito, y tragáis el camello!!”  </a:t>
            </a:r>
            <a:br>
              <a:rPr sz="5400"/>
            </a:b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(Mateo 23:24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D5DCE-3922-48A6-BAEF-0C044B3CC7C7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Rectangle 2"/>
          <p:cNvSpPr/>
          <p:nvPr/>
        </p:nvSpPr>
        <p:spPr>
          <a:xfrm>
            <a:off x="-1440" y="11970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43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Garamond"/>
              </a:rPr>
              <a:t>Respuestas bíblicas sobre prioridades…</a:t>
            </a:r>
            <a:endParaRPr b="0" lang="en-US" sz="8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54" name="Picture 5" descr="http://www.clipartbest.com/cliparts/di6/7qX/di67qX4i9.jpeg"/>
          <p:cNvPicPr/>
          <p:nvPr/>
        </p:nvPicPr>
        <p:blipFill>
          <a:blip r:embed="rId1"/>
          <a:stretch/>
        </p:blipFill>
        <p:spPr>
          <a:xfrm>
            <a:off x="2987640" y="3500280"/>
            <a:ext cx="330984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5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6C91C-37C0-479B-B96C-F604840D0F7C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1267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5400" spc="-1" strike="noStrike">
                <a:solidFill>
                  <a:srgbClr val="ffffff"/>
                </a:solidFill>
                <a:latin typeface="Garamond"/>
              </a:rPr>
              <a:t>¿Cuál era la premera prioridad de Jesús?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Mark 1:35-38)</a:t>
            </a:r>
            <a:br>
              <a:rPr sz="4800"/>
            </a:br>
            <a:br>
              <a:rPr sz="4000"/>
            </a:b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7" name="Rectangle 12"/>
          <p:cNvSpPr/>
          <p:nvPr/>
        </p:nvSpPr>
        <p:spPr>
          <a:xfrm>
            <a:off x="0" y="407664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4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Levantándose muy de mañana, siendo aún muy oscuro, salió y se fue a un lugar desierto, y allí oraba. Y le buscó Simón, y los que con él estaban; y hallándole, le dijeron: Todos te buscan. Él les dijo: Vamos a los lugares vecinos, para que predique también allí; porque para esto he venido.”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1A4F3-CDC8-40A5-A16C-1F3922132D17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1267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5400" spc="-1" strike="noStrike">
                <a:solidFill>
                  <a:srgbClr val="ffffff"/>
                </a:solidFill>
                <a:latin typeface="Garamond"/>
              </a:rPr>
              <a:t>¿Cuál era la premera prioridad de Jesús?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Mark 1:35-38)</a:t>
            </a:r>
            <a:br>
              <a:rPr sz="4800"/>
            </a:br>
            <a:br>
              <a:rPr sz="4000"/>
            </a:b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0" name="Rectangle 12"/>
          <p:cNvSpPr/>
          <p:nvPr/>
        </p:nvSpPr>
        <p:spPr>
          <a:xfrm>
            <a:off x="250920" y="3860640"/>
            <a:ext cx="4932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52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ffffff"/>
                </a:solidFill>
                <a:latin typeface="Garamond"/>
              </a:rPr>
              <a:t>El tiempo con su padre</a:t>
            </a:r>
            <a:endParaRPr b="0" lang="en-US" sz="6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61" name="Picture 6" descr="http://www.thecoloringpics.com/images/2014/06/Cherish-Your-Church-Sunday-School-Lessons-for-the-Home.jpg"/>
          <p:cNvPicPr/>
          <p:nvPr/>
        </p:nvPicPr>
        <p:blipFill>
          <a:blip r:embed="rId1"/>
          <a:stretch/>
        </p:blipFill>
        <p:spPr>
          <a:xfrm>
            <a:off x="5796000" y="2743200"/>
            <a:ext cx="3208320" cy="4022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6721B-338E-462E-B4FB-8DCE0BFB39B9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44280"/>
            <a:ext cx="9144000" cy="1440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4000" spc="-1" strike="noStrike">
                <a:solidFill>
                  <a:srgbClr val="ffffff"/>
                </a:solidFill>
                <a:latin typeface="Garamond"/>
              </a:rPr>
              <a:t>¿Cuáles son las prioridades de los Cristianos? </a:t>
            </a:r>
            <a:r>
              <a:rPr b="1" lang="es-GT" sz="3600" spc="-1" strike="noStrike">
                <a:solidFill>
                  <a:srgbClr val="ffffff"/>
                </a:solidFill>
                <a:latin typeface="Garamond"/>
              </a:rPr>
              <a:t>(Lucas 10:39-42, Maria y Marta)</a:t>
            </a:r>
            <a:endParaRPr b="1" lang="en-US" sz="3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1769760"/>
            <a:ext cx="91440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415800" indent="-415800">
              <a:spcBef>
                <a:spcPts val="1800"/>
              </a:spcBef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Relación con Dios </a:t>
            </a:r>
            <a:r>
              <a:rPr b="0" lang="en-ZA" sz="2800" spc="-1" strike="noStrike">
                <a:solidFill>
                  <a:srgbClr val="ffffff"/>
                </a:solidFill>
                <a:latin typeface="Garamond"/>
              </a:rPr>
              <a:t>(Lucas 10:39-42, Matt. 22:37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15800" indent="-415800">
              <a:spcBef>
                <a:spcPts val="1800"/>
              </a:spcBef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400" spc="-1" strike="noStrike">
                <a:solidFill>
                  <a:srgbClr val="ffffff"/>
                </a:solidFill>
                <a:latin typeface="Garamond"/>
              </a:rPr>
              <a:t>Relación con su esposa(o) </a:t>
            </a:r>
            <a:r>
              <a:rPr b="0" lang="en-ZA" sz="2800" spc="-1" strike="noStrike">
                <a:solidFill>
                  <a:srgbClr val="ffffff"/>
                </a:solidFill>
                <a:latin typeface="Garamond"/>
              </a:rPr>
              <a:t>(1 Tim. 3:2-5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15800" indent="-415800">
              <a:spcBef>
                <a:spcPts val="1800"/>
              </a:spcBef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3400" spc="-1" strike="noStrike">
                <a:solidFill>
                  <a:srgbClr val="ffffff"/>
                </a:solidFill>
                <a:latin typeface="Garamond"/>
              </a:rPr>
              <a:t>Relaciónes con sus hijos </a:t>
            </a:r>
            <a:r>
              <a:rPr b="0" lang="en-ZA" sz="2800" spc="-1" strike="noStrike">
                <a:solidFill>
                  <a:srgbClr val="ffffff"/>
                </a:solidFill>
                <a:latin typeface="Garamond"/>
              </a:rPr>
              <a:t>(1 Tim. 3:2-5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15800" indent="-415800">
              <a:spcBef>
                <a:spcPts val="1800"/>
              </a:spcBef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3400" spc="-1" strike="noStrike">
                <a:solidFill>
                  <a:srgbClr val="ffffff"/>
                </a:solidFill>
                <a:latin typeface="Garamond"/>
              </a:rPr>
              <a:t>Tu salud – fisica, mental, social, emocional</a:t>
            </a:r>
            <a:br>
              <a:rPr sz="3400"/>
            </a:br>
            <a:r>
              <a:rPr b="0" lang="en-ZA" sz="2800" spc="-1" strike="noStrike">
                <a:solidFill>
                  <a:srgbClr val="ffffff"/>
                </a:solidFill>
                <a:latin typeface="Garamond"/>
              </a:rPr>
              <a:t>(1 Cor. 6:19 – cuerpo es un templo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15800" indent="-415800">
              <a:spcBef>
                <a:spcPts val="1800"/>
              </a:spcBef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200" spc="-1" strike="noStrike">
                <a:solidFill>
                  <a:srgbClr val="ffffff"/>
                </a:solidFill>
                <a:latin typeface="Garamond"/>
              </a:rPr>
              <a:t>Ministerio en: Trabajo / Escuela / Iglesia / Etc.</a:t>
            </a:r>
            <a:br>
              <a:rPr sz="3400"/>
            </a:br>
            <a:r>
              <a:rPr b="0" lang="en-ZA" sz="2800" spc="-1" strike="noStrike">
                <a:solidFill>
                  <a:srgbClr val="ffffff"/>
                </a:solidFill>
                <a:latin typeface="Garamond"/>
              </a:rPr>
              <a:t> (Matt. 28:18-19, Acts 6:2-4, etc.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1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0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FD329-7777-4C98-A4C7-43C5274CD1CE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ecciones aprendidas</a:t>
            </a:r>
            <a:br>
              <a:rPr sz="44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(Pagina 36)</a:t>
            </a:r>
            <a:endParaRPr b="1" lang="en-US" sz="3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0" y="1690560"/>
            <a:ext cx="9144000" cy="454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-443160">
              <a:spcAft>
                <a:spcPts val="1800"/>
              </a:spcAft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LA ACTIVIDAD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no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equivale a logr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3160" indent="0">
              <a:spcAft>
                <a:spcPts val="18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3160" indent="0">
              <a:spcAft>
                <a:spcPts val="18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3160" indent="0">
              <a:spcAft>
                <a:spcPts val="18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3160"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2. Trabaje más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INTELIGENTEMENTE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, no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más duro 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31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5364000" y="1547640"/>
            <a:ext cx="3630600" cy="28180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0" descr="http://ec.l.thumbs.canstockphoto.com/canstock15210914.jpg"/>
          <p:cNvPicPr/>
          <p:nvPr/>
        </p:nvPicPr>
        <p:blipFill>
          <a:blip r:embed="rId2"/>
          <a:stretch/>
        </p:blipFill>
        <p:spPr>
          <a:xfrm>
            <a:off x="179280" y="3836880"/>
            <a:ext cx="2305080" cy="28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0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7EA33-715E-4DE2-B2F1-860C083D59E1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9144000" cy="1008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ecciones aprendidas</a:t>
            </a:r>
            <a:br>
              <a:rPr sz="4400"/>
            </a:b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454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3.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ORGANICE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o agonic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4.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EVALÚE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o estánques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5. Póngale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HORARIO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a sus prioridad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73" name="Picture 6" descr="http://tortolatailspin.onmason.com/files/2012/09/file_cabinet.gif"/>
          <p:cNvPicPr/>
          <p:nvPr/>
        </p:nvPicPr>
        <p:blipFill>
          <a:blip r:embed="rId1"/>
          <a:stretch/>
        </p:blipFill>
        <p:spPr>
          <a:xfrm>
            <a:off x="6012000" y="901800"/>
            <a:ext cx="1439640" cy="21859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6" descr="http://sr.photos3.fotosearch.com/bthumb/CSP/CSP551/k5510289.jpg"/>
          <p:cNvPicPr/>
          <p:nvPr/>
        </p:nvPicPr>
        <p:blipFill>
          <a:blip r:embed="rId2"/>
          <a:stretch/>
        </p:blipFill>
        <p:spPr>
          <a:xfrm>
            <a:off x="324000" y="2060640"/>
            <a:ext cx="2877840" cy="2878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4" descr="http://www.anglaisfacile.com/cgi2/myexam/images2/26318.gif"/>
          <p:cNvPicPr/>
          <p:nvPr/>
        </p:nvPicPr>
        <p:blipFill>
          <a:blip r:embed="rId3"/>
          <a:stretch/>
        </p:blipFill>
        <p:spPr>
          <a:xfrm>
            <a:off x="5172120" y="4694400"/>
            <a:ext cx="229860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0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7T20:54:29Z</dcterms:created>
  <dc:creator>Kevin Donaldson</dc:creator>
  <dc:description/>
  <dc:language>en-US</dc:language>
  <cp:lastModifiedBy>Monte Cyr</cp:lastModifiedBy>
  <dcterms:modified xsi:type="dcterms:W3CDTF">2021-04-24T00:39:42Z</dcterms:modified>
  <cp:revision>90</cp:revision>
  <dc:subject/>
  <dc:title>PowerPoint Presentation</dc:title>
</cp:coreProperties>
</file>