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F900D-C85F-48BD-BADD-7BC5249FF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43D79-6058-4AFF-9DC1-122B8CF5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F5FA6-DF7B-4845-ACAD-A606CB046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A7CE7-5304-425B-BFB8-C5727D220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EE84D-EF66-49E7-9763-97F0EB7EB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6DDC-8B7C-4949-9B93-F6A30A80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1876-BD78-4B32-B74F-4D7F72E7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6741-FF2A-4352-9A54-4CB89AAE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CFC5-4B41-44F5-8EEC-4BC73A06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42E64-EEBE-4D2B-B4D8-F4AB7EF1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1E82-B13A-4289-8775-550F9AE0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C5C08-5996-4C0F-B828-18541162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415D-42F7-47D7-BF05-624BE9BD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26FF-51E0-4DB7-B7CB-7A7B291F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B53A-B86B-422C-BCC8-A1072B50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292D-ABC1-431F-9EED-3BA008215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C153-25FD-436D-B217-F65BF5B56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68529-309E-4CE8-BA76-AC725423F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1136E-2032-4C44-8624-66F70857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F8AA4-5DF2-4D45-B99E-B21737FE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A1874-E3F7-49B3-B5D8-C4A1E389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24562-7A0C-496C-81FA-04DC3EB4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9CE52-9B88-42A1-A0BD-3CE694E7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6FC94-F618-41C5-A802-34504D1A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F7EA6-FEF1-4765-BA75-D17DCEAA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A44E1-5834-46D7-876C-263C6472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229C1-2D52-45DD-973A-85515732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C5AC8-AA88-4C39-BE5F-A0E008E2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417E5-5B73-45B7-BDCA-F2DEC5047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F7913-7886-407A-BD45-403389A2E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72D5E-A159-4FEA-8FFC-16671BD3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2F6F5-978E-47A1-9BFD-2C71921C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FD76E-80A7-438E-B049-89E0A74C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2B1F9-0DD0-4D9C-91E7-BD3FF014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F63A4-413E-40EC-AA8D-C9065CFC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9E57C-91AF-4E27-BB82-AA242BA2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6A52-E2DE-4BC5-8429-E4019E4E9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F857-3086-4C8A-B2FD-E96B99110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D2BF-3E8C-478A-8DDF-48D6243D1A3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5B7A-6DE9-4B8D-9140-5D3D7177F4C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7670" t="2861" r="8391" b="5712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2CD3-9E32-4F4A-9955-22DA1C3C8B2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0E19-6C93-42C2-8605-AE3C2E3EF26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539640" y="3765600"/>
            <a:ext cx="288000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6137-D70F-4CB8-A1CF-2EB08D12344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rcRect l="0" t="0" r="0" b="12940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4FA0-7DEE-4D2D-9281-894C457BA23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t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4552-CB81-4680-A035-667A0189A02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19A9-ABAC-4E7B-976E-722F9BB6570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DCCC-9E63-4734-A4B5-D4BACF3D495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523800" y="2951280"/>
            <a:ext cx="2695680" cy="3797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2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5DAB-D14F-4D60-A50E-198E6A9063B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4014-74CC-4E5F-A2C8-26B4EB78FEF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2B77-01B8-44B5-928F-5203803E9DF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B501-85C3-4462-947C-1825E6411B1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9573-5565-49B7-93E5-B8A98F40E09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203640" y="100080"/>
            <a:ext cx="281628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8" descr="Learning Curve"/>
          <p:cNvPicPr/>
          <p:nvPr/>
        </p:nvPicPr>
        <p:blipFill>
          <a:blip r:embed="rId1"/>
          <a:stretch/>
        </p:blipFill>
        <p:spPr>
          <a:xfrm>
            <a:off x="3346560" y="225360"/>
            <a:ext cx="2466720" cy="64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305B-191A-4EDF-803F-0C45043EAB0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6" name="Group 2"/>
          <p:cNvGrpSpPr/>
          <p:nvPr/>
        </p:nvGrpSpPr>
        <p:grpSpPr>
          <a:xfrm>
            <a:off x="826920" y="189000"/>
            <a:ext cx="7490160" cy="6516720"/>
            <a:chOff x="826920" y="189000"/>
            <a:chExt cx="7490160" cy="6516720"/>
          </a:xfrm>
        </p:grpSpPr>
        <p:sp>
          <p:nvSpPr>
            <p:cNvPr id="137" name="Rectangle 7"/>
            <p:cNvSpPr/>
            <p:nvPr/>
          </p:nvSpPr>
          <p:spPr>
            <a:xfrm>
              <a:off x="826920" y="189000"/>
              <a:ext cx="7490160" cy="65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38" name="Picture 8" descr="Learning Curve"/>
            <p:cNvPicPr/>
            <p:nvPr/>
          </p:nvPicPr>
          <p:blipFill>
            <a:blip r:embed="rId1"/>
            <a:srcRect l="0" t="0" r="134" b="69580"/>
            <a:stretch/>
          </p:blipFill>
          <p:spPr>
            <a:xfrm>
              <a:off x="1220760" y="1090440"/>
              <a:ext cx="6440400" cy="5268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55F5-F2FB-4280-B8CE-0ABFB2B5488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Group 1"/>
          <p:cNvGrpSpPr/>
          <p:nvPr/>
        </p:nvGrpSpPr>
        <p:grpSpPr>
          <a:xfrm>
            <a:off x="108000" y="115920"/>
            <a:ext cx="9036000" cy="6742080"/>
            <a:chOff x="108000" y="115920"/>
            <a:chExt cx="9036000" cy="6742080"/>
          </a:xfrm>
        </p:grpSpPr>
        <p:sp>
          <p:nvSpPr>
            <p:cNvPr id="141" name="Rectangle 7"/>
            <p:cNvSpPr/>
            <p:nvPr/>
          </p:nvSpPr>
          <p:spPr>
            <a:xfrm>
              <a:off x="108000" y="115920"/>
              <a:ext cx="9036000" cy="674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2" name="Picture 8" descr="Learning Curve"/>
            <p:cNvPicPr/>
            <p:nvPr/>
          </p:nvPicPr>
          <p:blipFill>
            <a:blip r:embed="rId1"/>
            <a:srcRect l="0" t="31036" r="0" b="40721"/>
            <a:stretch/>
          </p:blipFill>
          <p:spPr>
            <a:xfrm>
              <a:off x="582840" y="115920"/>
              <a:ext cx="7779240" cy="624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693B-EE3A-4C15-A741-6528DD5C072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0" y="44280"/>
            <a:ext cx="9144000" cy="6742440"/>
            <a:chOff x="0" y="44280"/>
            <a:chExt cx="9144000" cy="6742440"/>
          </a:xfrm>
        </p:grpSpPr>
        <p:sp>
          <p:nvSpPr>
            <p:cNvPr id="145" name="Rectangle 7"/>
            <p:cNvSpPr/>
            <p:nvPr/>
          </p:nvSpPr>
          <p:spPr>
            <a:xfrm>
              <a:off x="0" y="44280"/>
              <a:ext cx="9144000" cy="674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6" name="Picture 8" descr="Learning Curve"/>
            <p:cNvPicPr/>
            <p:nvPr/>
          </p:nvPicPr>
          <p:blipFill>
            <a:blip r:embed="rId1"/>
            <a:srcRect l="0" t="61467" r="0" b="1592"/>
            <a:stretch/>
          </p:blipFill>
          <p:spPr>
            <a:xfrm>
              <a:off x="480600" y="44280"/>
              <a:ext cx="7872120" cy="6742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085F-3055-4556-AD28-688C588F31D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ttp://3.bp.blogspot.com/-OLRKKawkuyQ/Unj_fI0ogqI/AAAAAAAADpo/EuutEgA8PZw/s1600/meeting1.jpg"/>
          <p:cNvPicPr/>
          <p:nvPr/>
        </p:nvPicPr>
        <p:blipFill>
          <a:blip r:embed="rId2"/>
          <a:srcRect l="7707" t="7635" r="7885" b="9839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6:54Z</dcterms:modified>
  <cp:revision>81</cp:revision>
  <dc:subject/>
  <dc:title>PowerPoint Presentation</dc:title>
</cp:coreProperties>
</file>