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7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5C34D-6ED3-445B-8DCA-CA2252456DC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6C923-699D-4DAB-B394-B6BC4CDA2500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42819-9028-45C1-995C-2A80DBFB9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8795A-9440-4505-9912-701E4958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B43B5-F449-434D-9A75-BAE96BC60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BED92-838E-4E1C-81DC-D9A232567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97E3E-DE86-4DBD-BA32-D8281C972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F189E-539A-4584-92C5-3AEFBBFAA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5081D-75FA-4BDE-9541-016658968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30586-7377-49CF-A13F-8E7F1E9E8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48B11-6041-4BA0-ABC4-5C1DC8EB2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3D363-2ED7-41AD-BB09-271991096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92065-1462-4C9F-A76E-6E39AA41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6C318-982C-4DB0-A139-C3540DC60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0E3EE-ACDA-46C9-8F83-3977190D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DA8B3-823D-429D-B249-AFEEEF45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60A47-BCFC-4792-8847-87D086B5C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4EB38-2C28-4FBE-9B21-7D7F18A06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545BE-90B5-44E5-A5A6-697342302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3DF27-E6BD-45A8-9266-8654B9607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53BE5-0B55-4853-8B2B-03ADCBFCC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D572D-F150-4807-8CBB-0A820D3DE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B6FB8-A21B-4B67-AD57-8016E769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0545E-8EC1-4140-8651-A54BDA03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3B027-4D4D-4CA7-B7E1-2188120F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A20D7-68EF-4877-A8E7-A667C530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A5F00-E0EE-44D4-86A2-E3A71D62AF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D562E-6B5D-4AFD-A9B2-ED75C7CE155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70AFD-25E6-43FC-8920-79174343E3F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79F65-DE22-4479-A694-6F8D1FB7D6C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4507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L SAMARITAN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Fue despreci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abía lo que se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entía ser ignor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o al hombre como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UNA PERSONA PARA AMAR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5" descr="http://biblecraftsandactivities.com/wp-content/uploads/2013/07/GoodSamaritan-coloring_sermons4kids.gif"/>
          <p:cNvPicPr/>
          <p:nvPr/>
        </p:nvPicPr>
        <p:blipFill>
          <a:blip r:embed="rId1"/>
          <a:stretch/>
        </p:blipFill>
        <p:spPr>
          <a:xfrm>
            <a:off x="5929200" y="722160"/>
            <a:ext cx="318456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41BF0-96EC-4091-A31A-64E7557BC81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800" spc="-1" strike="noStrike">
                <a:solidFill>
                  <a:srgbClr val="ffffff"/>
                </a:solidFill>
                <a:latin typeface="Garamond"/>
              </a:rPr>
              <a:t>PUDIMOS ELIGIR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VI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AMAR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200" spc="-1" strike="noStrike">
                <a:solidFill>
                  <a:srgbClr val="ffffff"/>
                </a:solidFill>
                <a:latin typeface="Garamond"/>
              </a:rPr>
              <a:t>NUESTRA META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La meta es dejar atrás sus fallas y ver sus necesidad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5" descr="http://images.clipartpanda.com/choice-clipart-fork-choice-hi.png"/>
          <p:cNvPicPr/>
          <p:nvPr/>
        </p:nvPicPr>
        <p:blipFill>
          <a:blip r:embed="rId1"/>
          <a:stretch/>
        </p:blipFill>
        <p:spPr>
          <a:xfrm>
            <a:off x="5003640" y="189000"/>
            <a:ext cx="38228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A2A61-F9D6-40A6-AD80-0A3F0138593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0" y="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ristianismo 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RELACIÓNES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539640" y="19162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na relación vertical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Dio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Relaciónes horizontales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person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0" y="4294080"/>
            <a:ext cx="6553080" cy="24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Ellos sabrén que somos Cristianos por nuestras</a:t>
            </a:r>
            <a:r>
              <a:rPr b="0" lang="en-US" sz="3400" spc="-1" strike="noStrike">
                <a:solidFill>
                  <a:srgbClr val="ffffff"/>
                </a:solidFill>
                <a:latin typeface="Garamond"/>
              </a:rPr>
              <a:t>… 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RELACIONES DE AMOR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15" descr="j0198096"/>
          <p:cNvPicPr/>
          <p:nvPr/>
        </p:nvPicPr>
        <p:blipFill>
          <a:blip r:embed="rId1"/>
          <a:stretch/>
        </p:blipFill>
        <p:spPr>
          <a:xfrm>
            <a:off x="6553080" y="1720800"/>
            <a:ext cx="241164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CD688-0D2F-4042-857E-E7016B52A59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Piense en las personas en su vida 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que son las más difíciles de amar. ¿Por qué son difíciles de amar? ¿Cómo las vemos?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¿Cómo puede usted empezar a ver a la gente de la manera en la que el samaritano vió al hombre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E8F1F-CB61-4FE7-BF70-0E8D0610BCF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ristianismo es Relació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A la gente no le importa mucho cuanto sabe usted, hasta que saben cuanto se interesa en ellos.”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- Dr. John C. Maxwell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CDEC4-D0A0-418A-9065-0A02B81E9DA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Una definición de liderazgo espiritual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1219320" y="2752560"/>
            <a:ext cx="708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539640" y="1557360"/>
            <a:ext cx="8305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Garamond"/>
              </a:rPr>
              <a:t>AQUEL QUE ASUMA RESPONSABILIDAD POR LA SALUD Y EL DESARROLLO DE SUS RELACIONE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8DBB9-5800-4F5A-B9BA-30664A10B2B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54080" y="1393920"/>
            <a:ext cx="898992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NFITRIÓN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 La analogía del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OCTOR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uatro palabras para ilustrar los roles del líd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6" descr="http://misc.phillipmartin.info/misc_welcome2.gif"/>
          <p:cNvPicPr/>
          <p:nvPr/>
        </p:nvPicPr>
        <p:blipFill>
          <a:blip r:embed="rId1"/>
          <a:srcRect l="0" t="0" r="0" b="5232"/>
          <a:stretch/>
        </p:blipFill>
        <p:spPr>
          <a:xfrm>
            <a:off x="4788000" y="585720"/>
            <a:ext cx="2952720" cy="3459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rcRect l="28613" t="0" r="29542" b="0"/>
          <a:stretch/>
        </p:blipFill>
        <p:spPr>
          <a:xfrm>
            <a:off x="795240" y="3030480"/>
            <a:ext cx="158436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4DF22-A15B-46E2-9BFC-8E13B34B4FB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54080" y="1413000"/>
            <a:ext cx="8989920" cy="45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EJERO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GUÍA DE TURIST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tro palabras para ilustra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4427640" y="957240"/>
            <a:ext cx="4181400" cy="2898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292104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32E44-7F44-4C8A-8AD8-82B2BC4F4A7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0" y="1628640"/>
            <a:ext cx="91440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LAS PERSONAS SON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NSEGURA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ÉLES CONFIANZ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ersonas heridas hieren personas. Personas seguras dan seguridad a las persona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9" descr="http://images.clipartof.com/thumbnails/227344-Royalty-Free-RF-Clipart-Illustration-Of-A-Somber-Moodie-Character-Looking-At-His-Reflection-In-A-Mirror.jpg"/>
          <p:cNvPicPr/>
          <p:nvPr/>
        </p:nvPicPr>
        <p:blipFill>
          <a:blip r:embed="rId1"/>
          <a:stretch/>
        </p:blipFill>
        <p:spPr>
          <a:xfrm>
            <a:off x="5764320" y="981000"/>
            <a:ext cx="2960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A28FE-4466-4EBE-B6B2-01C8B27BF46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0" y="1052640"/>
            <a:ext cx="9144000" cy="59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las personas les gusta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ir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PECIALE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ÓNRELA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ndo usted afirme y honre a alguien con sus palabras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acerlo inceramente, específicamente, públicamente, personalment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Picture 8" descr="http://www.presentationmagazine.com/newimages/rally-speech-510.jpg"/>
          <p:cNvPicPr/>
          <p:nvPr/>
        </p:nvPicPr>
        <p:blipFill>
          <a:blip r:embed="rId1"/>
          <a:stretch/>
        </p:blipFill>
        <p:spPr>
          <a:xfrm>
            <a:off x="5796000" y="836640"/>
            <a:ext cx="27813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0984A-CE48-4866-B3BD-7734C25C516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0" y="980640"/>
            <a:ext cx="914400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ección #5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Cultivando la habilidad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de tratar con la gente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rol vital de las relaciones en el liderazgo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2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58E2F-8CD6-4054-A8F1-33E427391CD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0" y="620640"/>
            <a:ext cx="9144000" cy="47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s personas buscan un mej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e5e5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ÉLES ESPERANZA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clave para hoy es creer en el mañan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rcRect l="7405" t="9629" r="9923" b="10722"/>
          <a:stretch/>
        </p:blipFill>
        <p:spPr>
          <a:xfrm>
            <a:off x="2843280" y="4149720"/>
            <a:ext cx="61624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C9378-B1D8-4EF3-8B73-469052F166F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981000"/>
            <a:ext cx="9144000" cy="68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 La gente necesita se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NTENDID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ÚCHEL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hacer conexión co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otros, entienda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llaves” de su coraz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¿De qué platica, lamenta, sueña, alegría, planea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8812" t="0" r="9876" b="0"/>
          <a:stretch/>
        </p:blipFill>
        <p:spPr>
          <a:xfrm>
            <a:off x="6394320" y="1773360"/>
            <a:ext cx="245124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FD1CE-CE24-4AC7-BC7F-4AE95B5A8B7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0" y="620640"/>
            <a:ext cx="9144000" cy="77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La gente necesit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RECCIÓ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ue” por ell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mayoría de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ersonas puede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ar el barco; el líder ayuda a visualizar el curs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deb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be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i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n 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mostra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5373720" y="692280"/>
            <a:ext cx="3313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448E0-53CA-4146-A690-BD9D0C5B460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1031"/>
          <p:cNvSpPr/>
          <p:nvPr/>
        </p:nvSpPr>
        <p:spPr>
          <a:xfrm>
            <a:off x="0" y="974880"/>
            <a:ext cx="91440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La gente está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ECESITADA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ble primer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 sus necesidade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gente necesita ser ministrada antes de que puedan ministr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103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rcRect l="8985" t="3697" r="0" b="14665"/>
          <a:stretch/>
        </p:blipFill>
        <p:spPr>
          <a:xfrm>
            <a:off x="5219640" y="944640"/>
            <a:ext cx="38368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35B06-C122-48D3-9DFB-BC095572DFF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0" y="907920"/>
            <a:ext cx="9144000" cy="29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La gen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SE DEPRIM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DÉLES ÁNI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1"/>
          <a:stretch/>
        </p:blipFill>
        <p:spPr>
          <a:xfrm>
            <a:off x="5364000" y="2832120"/>
            <a:ext cx="354816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0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A5AAF-54F0-4A74-A09A-3242CB5F707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0" y="836640"/>
            <a:ext cx="914400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La gente quier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RIUNF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YÚDELES A GAN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xtiéndase y ayude a otros a alcanzar sus metas.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" name="Picture 6" descr="http://images.clipartpanda.com/request-clipart-first-prize-winner-form-microsoft-clip-art.png"/>
          <p:cNvPicPr/>
          <p:nvPr/>
        </p:nvPicPr>
        <p:blipFill>
          <a:blip r:embed="rId1"/>
          <a:stretch/>
        </p:blipFill>
        <p:spPr>
          <a:xfrm>
            <a:off x="6084720" y="836640"/>
            <a:ext cx="2862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8C2AF-DB3E-44AC-AA6A-B6B15E9F1B6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0" y="907920"/>
            <a:ext cx="9144000" cy="69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La gente dese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RELACIONE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ovéales un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munidad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actique el principio del 101% con la gente. Encuentre el 1% que usted tiene en común con alguien y déle el 100% de su atenci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10" descr="http://www.clker.com/cliparts/3/v/J/S/q/f/community-symbol-md.png"/>
          <p:cNvPicPr/>
          <p:nvPr/>
        </p:nvPicPr>
        <p:blipFill>
          <a:blip r:embed="rId1"/>
          <a:stretch/>
        </p:blipFill>
        <p:spPr>
          <a:xfrm>
            <a:off x="4387680" y="1268280"/>
            <a:ext cx="458316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0" y="636480"/>
            <a:ext cx="9144000" cy="64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0. La gente busc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MODELO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par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guir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A UN EJEMPL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Gente Hace Lo Que V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rediquen el Evangelio en todo tiempo.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i es necesario, usen las palabras.”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an Francisco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s posible que usted es la unica Bibli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u vecino leerá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 Corintios 11:1 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“Sed imitadores de mí, así como yo de Cristo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Picture 8" descr="http://sweetclipart.com/multisite/sweetclipart/files/foot_prints_walking.png"/>
          <p:cNvPicPr/>
          <p:nvPr/>
        </p:nvPicPr>
        <p:blipFill>
          <a:blip r:embed="rId1"/>
          <a:stretch/>
        </p:blipFill>
        <p:spPr>
          <a:xfrm>
            <a:off x="7610400" y="630360"/>
            <a:ext cx="14112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0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A2A4F-FC7E-4E61-A434-FCB4B2BA31D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E2EFF-D083-4F71-B994-3F860418DFC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3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Garamond"/>
              </a:rPr>
              <a:t>La base del liderazgo son las personas</a:t>
            </a:r>
            <a:br>
              <a:rPr sz="4000"/>
            </a:br>
            <a:endParaRPr b="1" lang="en-US" sz="4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50920" y="981000"/>
            <a:ext cx="856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Aquél que cree que lidera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pero no tiene seguidores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tan solo está dando un paseo”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5" name="Picture 10" descr="http://sr.photos2.fotosearch.com/bthumb/CSP/CSP094/k0945302.jpg"/>
          <p:cNvPicPr/>
          <p:nvPr/>
        </p:nvPicPr>
        <p:blipFill>
          <a:blip r:embed="rId1"/>
          <a:stretch/>
        </p:blipFill>
        <p:spPr>
          <a:xfrm>
            <a:off x="1987560" y="3621240"/>
            <a:ext cx="51768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9FA43-DF9A-460B-B61E-6B0756A966D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uatro verdades acerca del liderazgo y la g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0" y="1413000"/>
            <a:ext cx="9144000" cy="64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s personas son 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ESOR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más preciado de la igles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El bien más importante de un líder es su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ABIL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tratar con l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Un buen líder puede liderar varios grupos porque el liderazgo se trata d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Usted puede tener habilidad para tratar con las personas y no ser un bue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Í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pero no puede ser un buen líder sin tener habilidad para tratar con las person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6EAB4-31EF-4BB6-A496-8524B301E90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27000" y="563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Lucas 10:30-37 -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“¿Quién es mi prójimo?”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79800" y="1844640"/>
            <a:ext cx="5146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ffffff"/>
                </a:solidFill>
                <a:latin typeface="Garamond"/>
              </a:rPr>
              <a:t>Jesus enseñó que las relaciones y el ministerio no están circunscritos a su círculo inmediato de amig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6" descr="http://www.clipsahoy.com/clipart3/as5744.gif"/>
          <p:cNvPicPr/>
          <p:nvPr/>
        </p:nvPicPr>
        <p:blipFill>
          <a:blip r:embed="rId1"/>
          <a:stretch/>
        </p:blipFill>
        <p:spPr>
          <a:xfrm>
            <a:off x="108000" y="2357280"/>
            <a:ext cx="3794040" cy="38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5326D-B720-4C3C-A533-E70287817A7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0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5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Jesus enseñó que las relaciones con otros son mas importantes que muchas actividades espirituales que practicamos.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(Mateo 5:23-24)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E85D1-E1B3-4C86-8E15-115ED6C8F7F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57636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Tambien, </a:t>
            </a:r>
            <a:r>
              <a:rPr b="1" lang="en-ZA" sz="4400" spc="-1" strike="noStrike">
                <a:solidFill>
                  <a:srgbClr val="e5e5ff"/>
                </a:solidFill>
                <a:latin typeface="Garamond"/>
              </a:rPr>
              <a:t>Jesus enseñó que: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Garamond"/>
              </a:rPr>
              <a:t>La manera como se ve a sí mismo y otros es la manera como usted sirve a la gente.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0123C-F86A-4384-969C-34F9A7CC9C4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ADR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aron a la gente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Manipularon a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eron al hombre como una 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VÍCTIMA PARA 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5" descr="http://fm99.com/wp-content/blogs.dir/2/files/2013/05/robber.jpg"/>
          <p:cNvPicPr/>
          <p:nvPr/>
        </p:nvPicPr>
        <p:blipFill>
          <a:blip r:embed="rId1"/>
          <a:stretch/>
        </p:blipFill>
        <p:spPr>
          <a:xfrm>
            <a:off x="5651640" y="189000"/>
            <a:ext cx="333360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3174F-731F-45AD-855F-D8A43120400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SACERDOT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Guardaban la ley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ran pur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eron al hombre como un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OBLEMA PARA EVIT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5" descr="http://sr.photos3.fotosearch.com/bthumb/CSP/CSP993/k15485619.jpg"/>
          <p:cNvPicPr/>
          <p:nvPr/>
        </p:nvPicPr>
        <p:blipFill>
          <a:blip r:embed="rId1"/>
          <a:stretch/>
        </p:blipFill>
        <p:spPr>
          <a:xfrm>
            <a:off x="6443640" y="44280"/>
            <a:ext cx="266868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59:28Z</dcterms:modified>
  <cp:revision>90</cp:revision>
  <dc:subject/>
  <dc:title>PowerPoint Presentation</dc:title>
</cp:coreProperties>
</file>