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EFE0-B774-4085-BC88-741F29DC0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FA0C-A92C-4A61-A1B8-E03818E6A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D8D3-303E-4840-80F4-1F80E0AE9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9033B-BB6D-4C6B-BDB7-28F253741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A8018-9F5F-412A-8900-A667ECCD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4510-CE3D-4160-B19A-BF471E78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1282-E47E-4DA9-A95C-C662AA577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2F24-3188-4748-B102-1DC57F509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1F5C-87CA-4F0C-A5F1-A6F648A71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AFD1-B87B-4A5C-B960-D700F5555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CE50-3049-41DE-9EFC-1FF768588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6C12-5D70-4400-A87B-A5893897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9893A-E779-42D6-B543-C76A898335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2"/>
          <p:cNvSpPr/>
          <p:nvPr/>
        </p:nvSpPr>
        <p:spPr>
          <a:xfrm>
            <a:off x="990720" y="1066680"/>
            <a:ext cx="8153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600" spc="-1" strike="noStrike">
                <a:solidFill>
                  <a:srgbClr val="ff0000"/>
                </a:solidFill>
                <a:latin typeface="Britannic Bold"/>
                <a:ea typeface="Gisha"/>
              </a:rPr>
              <a:t>Hacemos Conexión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1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2"/>
          <a:stretch/>
        </p:blipFill>
        <p:spPr>
          <a:xfrm>
            <a:off x="63360" y="533520"/>
            <a:ext cx="1854360" cy="18158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2"/>
          <p:cNvSpPr/>
          <p:nvPr/>
        </p:nvSpPr>
        <p:spPr>
          <a:xfrm>
            <a:off x="990720" y="0"/>
            <a:ext cx="81532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Dios en su amor nos mostró cual pastor,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en Cristo  Él nos di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o la salvación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Gisha"/>
              </a:rPr>
              <a:t>y con su sangre el hijo el precio pag</a:t>
            </a: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ó </a:t>
            </a:r>
            <a:br>
              <a:rPr sz="3100"/>
            </a:br>
            <a:r>
              <a:rPr b="1" lang="es-ES" sz="3100" spc="-1" strike="noStrike">
                <a:solidFill>
                  <a:srgbClr val="000000"/>
                </a:solidFill>
                <a:latin typeface="Candara"/>
                <a:ea typeface="ＭＳ Ｐゴシック"/>
              </a:rPr>
              <a:t>para hacer con el Padre una conexión.</a:t>
            </a:r>
            <a:br>
              <a:rPr sz="3100"/>
            </a:b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ro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desde el Padre y su santi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y unidos en Cristo, la eterna verdad</a:t>
            </a:r>
            <a:br>
              <a:rPr sz="3100"/>
            </a:br>
            <a:r>
              <a:rPr b="1" lang="es-ES" sz="31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hacemos conexión con la humanidad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:\Users\Blanca\Documents\My Documents\MEDDEscritorio\CD Cumbre MEDD 2010 Costa Rica\Copy of Carpeta Trabajo MEDD 2010\LOGOS MEDD\Logo ED Solo.jpg"/>
          <p:cNvPicPr/>
          <p:nvPr/>
        </p:nvPicPr>
        <p:blipFill>
          <a:blip r:embed="rId1"/>
          <a:stretch/>
        </p:blipFill>
        <p:spPr>
          <a:xfrm>
            <a:off x="7634160" y="5410080"/>
            <a:ext cx="1478160" cy="1447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http://rds.yahoo.com/_ylt=A0PDoX8XaydNHC4AEd.jzbkF/SIG=12t5a2gvn/EXP=1294515351/**http%3a/blog.educastur.es/musicaencanal/files/2007/12/pentagrama2-full.jpg"/>
          <p:cNvPicPr/>
          <p:nvPr/>
        </p:nvPicPr>
        <p:blipFill>
          <a:blip r:embed="rId2"/>
          <a:stretch/>
        </p:blipFill>
        <p:spPr>
          <a:xfrm>
            <a:off x="-19080" y="-6480"/>
            <a:ext cx="9175680" cy="68882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2"/>
          <p:cNvSpPr/>
          <p:nvPr/>
        </p:nvSpPr>
        <p:spPr>
          <a:xfrm>
            <a:off x="380880" y="189000"/>
            <a:ext cx="8305920" cy="64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Danos Jesús de tu perfecto am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haz con nosotros esa conexión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que tu Palabra ponga en nosotros fervor</a:t>
            </a:r>
            <a:br>
              <a:rPr sz="3500"/>
            </a:br>
            <a:r>
              <a:rPr b="1" lang="es-ES" sz="3500" spc="-1" strike="noStrike">
                <a:solidFill>
                  <a:srgbClr val="10253f"/>
                </a:solidFill>
                <a:latin typeface="Candara"/>
                <a:ea typeface="ＭＳ Ｐゴシック"/>
              </a:rPr>
              <a:t> y al perdido alcancemos llenos de tu unción.</a:t>
            </a:r>
            <a:br>
              <a:rPr sz="3500"/>
            </a:br>
            <a:br>
              <a:rPr sz="3500"/>
            </a:br>
            <a:r>
              <a:rPr b="1" lang="es-ES" sz="3000" spc="-1" strike="noStrike">
                <a:solidFill>
                  <a:srgbClr val="c0504d"/>
                </a:solidFill>
                <a:latin typeface="Candara"/>
                <a:ea typeface="ＭＳ Ｐゴシック"/>
              </a:rPr>
              <a:t>Coro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Un enlace de amor y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desde el Padre y su sant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y unidos en Cristo, la eterna verdad</a:t>
            </a: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hacemos conexión con la humanidad.</a:t>
            </a:r>
            <a:br>
              <a:rPr sz="3000"/>
            </a:br>
            <a:br>
              <a:rPr sz="3000"/>
            </a:b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Gisha"/>
              </a:rPr>
              <a:t>Hacemos conexi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ón 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 </a:t>
            </a:r>
            <a:r>
              <a:rPr b="1" lang="es-ES" sz="3000" spc="-1" strike="noStrike">
                <a:solidFill>
                  <a:srgbClr val="ff0000"/>
                </a:solidFill>
                <a:latin typeface="Candara"/>
                <a:ea typeface="ＭＳ Ｐゴシック"/>
              </a:rPr>
              <a:t>con la humanida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9:03:58Z</dcterms:created>
  <dc:creator>Blanca</dc:creator>
  <dc:description/>
  <dc:language>en-US</dc:language>
  <cp:lastModifiedBy>Ramon </cp:lastModifiedBy>
  <dcterms:modified xsi:type="dcterms:W3CDTF">2011-01-07T23:14:08Z</dcterms:modified>
  <cp:revision>9</cp:revision>
  <dc:subject/>
  <dc:title>Dios en su amor nos mostró cual pastor, en Cristo  Él nos dio la salvación y con su sangre el hijo el precio pagó  para hacer con el Padre una conexión. Coro Un enlace de amor y verdad desde el Padre y su santidad  y unidos en Cristo, la eterna verdad hacemos conexión con la humanidad.</dc:title>
</cp:coreProperties>
</file>