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21.png" ContentType="image/png"/>
  <Override PartName="/ppt/media/image19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C6C0A-5BE2-4623-9EFB-22DC8F21F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57056-3BBD-442A-97DF-A94DA81EF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6B72-2903-488E-83E7-54B1A49DB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82C1-7D06-4255-8369-AB9007FFB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0DD8-B1E1-4907-8B13-1DE3074E6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FF6D-BDCA-4CB6-A0A3-B9276AA69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5EAB-A73E-4902-B7CB-A71A63458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35FB-A231-4EC5-ADF6-81DB3922E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BB7D-A45E-4E15-9894-80116F177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D2A7-7BDC-477E-812F-F1AF1FE79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4540-4AC5-4884-9B37-616D9EAB1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9A92-826E-4405-867E-E6282541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B8E0-12DF-426D-9E90-866918D0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F913-CEA9-41B3-92E6-D5CA45E8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FAA83-98F9-467B-BC8D-A04CB203B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5"/>
          <p:cNvSpPr/>
          <p:nvPr/>
        </p:nvSpPr>
        <p:spPr>
          <a:xfrm>
            <a:off x="146880" y="80280"/>
            <a:ext cx="8727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¿Cómo puedo mantener la situación en l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erspectiva correcta durante tiempos difícil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301680" y="1725840"/>
            <a:ext cx="54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¿Veo el cuadr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MPLET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 sólo el mal momento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326880" y="3069720"/>
            <a:ext cx="5766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¿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MUNIC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l cuadro completo junto al mal momento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3889440" y="5070240"/>
            <a:ext cx="4873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¿Es una situación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A VEZ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 algo que se repite con frecuencia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6168960" y="2243160"/>
            <a:ext cx="2594160" cy="21765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ttp://www.weonlydothisonce.ritesite.us/wp-content/uploads/2013/02/repetition.png"/>
          <p:cNvPicPr/>
          <p:nvPr/>
        </p:nvPicPr>
        <p:blipFill>
          <a:blip r:embed="rId2"/>
          <a:srcRect l="51436" t="13028" r="7768" b="16098"/>
          <a:stretch/>
        </p:blipFill>
        <p:spPr>
          <a:xfrm rot="5400000">
            <a:off x="1241280" y="4365360"/>
            <a:ext cx="17082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5"/>
          <p:cNvSpPr/>
          <p:nvPr/>
        </p:nvSpPr>
        <p:spPr>
          <a:xfrm>
            <a:off x="146880" y="80280"/>
            <a:ext cx="8727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¿Cómo puedo mantener la situación en l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erspectiva correcta durante tiempos difícil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0" y="1408680"/>
            <a:ext cx="5486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¿Convierto demasiadas situaciones en asuntos de vida 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UERT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3733920" y="4731120"/>
            <a:ext cx="495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¿Muestro mi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MO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incondicional durante situaciones difíci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ttp://fallibleblogma.com/wp-content/uploads/2009/08/grim_reaper-280x300.png"/>
          <p:cNvPicPr/>
          <p:nvPr/>
        </p:nvPicPr>
        <p:blipFill>
          <a:blip r:embed="rId1"/>
          <a:stretch/>
        </p:blipFill>
        <p:spPr>
          <a:xfrm>
            <a:off x="5867280" y="1401840"/>
            <a:ext cx="2667240" cy="2857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ttp://4.bp.blogspot.com/-sLklqQ8tWhs/UQ2H4yddydI/AAAAAAAAANo/VEKiZDom5NY/s1600/heart.png"/>
          <p:cNvPicPr/>
          <p:nvPr/>
        </p:nvPicPr>
        <p:blipFill>
          <a:blip r:embed="rId2"/>
          <a:stretch/>
        </p:blipFill>
        <p:spPr>
          <a:xfrm>
            <a:off x="533520" y="4017960"/>
            <a:ext cx="285732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"/>
          <p:cNvSpPr/>
          <p:nvPr/>
        </p:nvSpPr>
        <p:spPr>
          <a:xfrm>
            <a:off x="392040" y="155880"/>
            <a:ext cx="772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Pablo y Filem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Filemón 1:1-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"/>
          <p:cNvSpPr/>
          <p:nvPr/>
        </p:nvSpPr>
        <p:spPr>
          <a:xfrm>
            <a:off x="380880" y="1523880"/>
            <a:ext cx="8229600" cy="45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Esta es la historia de un esclavo, Onésimo, que escapó de Filemón. Pablo guió a Onésimo a Cristo y deseaba que permaneciera con él. No obstante, decidió que su relación con Filemón era tan importante que no debería mantener a Onésimo consigo sin el consentimiento de Filemón. Además, Pablo creía que Filemón recibiría a Onésimo, no como esclavo sino como un hermano. Sus acciones eran motivadas por el amor que sentía por ambos hombres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5"/>
          <p:cNvSpPr/>
          <p:nvPr/>
        </p:nvSpPr>
        <p:spPr>
          <a:xfrm>
            <a:off x="392040" y="155880"/>
            <a:ext cx="772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Pablo y Filem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Filemón 1:1-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188640" y="1260360"/>
            <a:ext cx="668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amor de los cristianos funciona así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15360" y="1930320"/>
            <a:ext cx="834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sca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IENEST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los demás (v.10-1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304920" y="28015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Trat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ONESTAMEN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con los demá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v.12-14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298440" y="4078440"/>
            <a:ext cx="519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Lleva la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RGA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los demás (v.1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304920" y="541368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Cree l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EJ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los demás (v.21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ttp://images.sodahead.com/polls/000305453/polls_b161872053_5425_659791_poll_xlarge.jpeg"/>
          <p:cNvPicPr/>
          <p:nvPr/>
        </p:nvPicPr>
        <p:blipFill>
          <a:blip r:embed="rId1"/>
          <a:stretch/>
        </p:blipFill>
        <p:spPr>
          <a:xfrm>
            <a:off x="5715000" y="3562200"/>
            <a:ext cx="3333600" cy="31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939960" y="916920"/>
            <a:ext cx="380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838080" y="1761840"/>
            <a:ext cx="8077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Permite que las circunstancias de la vida le hagan considerar que las relaciones son menos importantes de lo que debiesen ser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762120" y="415188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Permite que las presiones de la vida lo lleven a descuidar la relación con su famil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5"/>
          <p:cNvSpPr/>
          <p:nvPr/>
        </p:nvSpPr>
        <p:spPr>
          <a:xfrm>
            <a:off x="152280" y="-195480"/>
            <a:ext cx="6324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 principio d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BOB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*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ando Bob tiene u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problema con todos, casi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siempre Bob es el probl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186480" y="3303360"/>
            <a:ext cx="808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Cómo se puede reconocer a un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b?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941040" y="3963960"/>
            <a:ext cx="699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Bob es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RTAD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problema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ttp://www.cliparthut.com/clip-arts/69/sad-person-clip-art-69783.png"/>
          <p:cNvPicPr/>
          <p:nvPr/>
        </p:nvPicPr>
        <p:blipFill>
          <a:blip r:embed="rId1"/>
          <a:stretch/>
        </p:blipFill>
        <p:spPr>
          <a:xfrm>
            <a:off x="6877080" y="57240"/>
            <a:ext cx="2057400" cy="29192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5"/>
          <p:cNvSpPr/>
          <p:nvPr/>
        </p:nvSpPr>
        <p:spPr>
          <a:xfrm>
            <a:off x="914400" y="459900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Bob es un experto e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NCONTR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problema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957600" y="5573520"/>
            <a:ext cx="720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Bob es u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ENERAD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proble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952560" y="6183360"/>
            <a:ext cx="706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Bob es u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ECEPT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problema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5"/>
          <p:cNvSpPr/>
          <p:nvPr/>
        </p:nvSpPr>
        <p:spPr>
          <a:xfrm>
            <a:off x="-76320" y="83160"/>
            <a:ext cx="7925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rodes y el pueblo de Isra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Hechos 12:1-2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170640" y="1656000"/>
            <a:ext cx="823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É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LTRATAB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 sus propios ciudadano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 ejecutar a gente inocente (v.1-2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156600" y="3097440"/>
            <a:ext cx="864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Tomó decisiones basado en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PULARIDA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v.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117360" y="4545000"/>
            <a:ext cx="3387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 Actuó de maner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RRACION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n momentos difíciles (v.19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ttp://cdn.superbook.cbn.com/sites/default/files/video/preview/570x320_16x9/108_KH_Preview.png"/>
          <p:cNvPicPr/>
          <p:nvPr/>
        </p:nvPicPr>
        <p:blipFill>
          <a:blip r:embed="rId1"/>
          <a:stretch/>
        </p:blipFill>
        <p:spPr>
          <a:xfrm>
            <a:off x="3697200" y="3809880"/>
            <a:ext cx="54291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-279720" y="154080"/>
            <a:ext cx="903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Guardab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R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n contra de los demás (v.2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-268920" y="992160"/>
            <a:ext cx="954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Buscaba el poder por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SEGURIDA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(v.20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-275040" y="1830240"/>
            <a:ext cx="100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Aparentaba tener un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MAGE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nfallible (v.21-22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152280" y="2600640"/>
            <a:ext cx="870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 Estaba cegado por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G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el cual después lo mató (v.23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ttp://cdn.superbook.cbn.com/sites/default/files/video/preview/570x320_16x9/108_KH_Preview.png"/>
          <p:cNvPicPr/>
          <p:nvPr/>
        </p:nvPicPr>
        <p:blipFill>
          <a:blip r:embed="rId1"/>
          <a:stretch/>
        </p:blipFill>
        <p:spPr>
          <a:xfrm>
            <a:off x="3697200" y="3809880"/>
            <a:ext cx="54291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1316160" y="154080"/>
            <a:ext cx="635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Qué hacer con </a:t>
            </a: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ob</a:t>
            </a: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700560" y="991800"/>
            <a:ext cx="813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da con un comentario posi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609480" y="183312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Muestre su interés por la persona que está siendo critic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634680" y="3277800"/>
            <a:ext cx="85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 Pídale a Bob que piense antes de hab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609480" y="4336560"/>
            <a:ext cx="831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Motive a que se den pasos concretos hacia una solució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611280" y="5810040"/>
            <a:ext cx="83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Mantenga a Bob alejado de los demá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5"/>
          <p:cNvSpPr/>
          <p:nvPr/>
        </p:nvSpPr>
        <p:spPr>
          <a:xfrm>
            <a:off x="1242360" y="1069200"/>
            <a:ext cx="34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1600920" y="2160360"/>
            <a:ext cx="465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 algn="just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Soy yo un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b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»?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1523880" y="4336560"/>
            <a:ext cx="7467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 no ser así, ¿cómo trató a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b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»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en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 organizac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1523880" y="305244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 ser así, ¿qué necesito hacer para cambi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0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6 Imagen" descr="Fondo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1801800" y="693360"/>
            <a:ext cx="631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ómo ganarse 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a gen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914400" y="2882160"/>
            <a:ext cx="79405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ección 4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¿Podemos desarrollar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a confianza mutua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5"/>
          <p:cNvSpPr/>
          <p:nvPr/>
        </p:nvSpPr>
        <p:spPr>
          <a:xfrm>
            <a:off x="152280" y="57528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 principio de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CCESIBILIDA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 Si estamos a gusto con nosotros mismos, otros se sentirán a gusto con nosot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228600" y="2972880"/>
            <a:ext cx="5791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hay más grande regalo que podamos dar a los demás que hacerlos sentir cómodos. Los buenos líderes son seguros y no proyectan una imagen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«intocable»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ttp://www.standoutblogger.com/images/approachable.gif"/>
          <p:cNvPicPr/>
          <p:nvPr/>
        </p:nvPicPr>
        <p:blipFill>
          <a:blip r:embed="rId1"/>
          <a:stretch/>
        </p:blipFill>
        <p:spPr>
          <a:xfrm>
            <a:off x="6019920" y="2631960"/>
            <a:ext cx="2938320" cy="33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0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3"/>
          <p:cNvGrpSpPr/>
          <p:nvPr/>
        </p:nvGrpSpPr>
        <p:grpSpPr>
          <a:xfrm>
            <a:off x="1066680" y="0"/>
            <a:ext cx="6934320" cy="6693480"/>
            <a:chOff x="1066680" y="0"/>
            <a:chExt cx="6934320" cy="6693480"/>
          </a:xfrm>
        </p:grpSpPr>
        <p:pic>
          <p:nvPicPr>
            <p:cNvPr id="132" name="Picture 1" descr=""/>
            <p:cNvPicPr/>
            <p:nvPr/>
          </p:nvPicPr>
          <p:blipFill>
            <a:blip r:embed="rId1"/>
            <a:srcRect l="0" t="-1136" r="0" b="866"/>
            <a:stretch/>
          </p:blipFill>
          <p:spPr>
            <a:xfrm>
              <a:off x="1066680" y="0"/>
              <a:ext cx="6934320" cy="667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Rectangle 2"/>
            <p:cNvSpPr/>
            <p:nvPr/>
          </p:nvSpPr>
          <p:spPr>
            <a:xfrm>
              <a:off x="1066680" y="6172920"/>
              <a:ext cx="693432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" sz="2800" spc="-1" strike="noStrike">
                  <a:solidFill>
                    <a:srgbClr val="000000"/>
                  </a:solidFill>
                  <a:latin typeface="Arial"/>
                </a:rPr>
                <a:t>Me siento un líder debe ser accesible.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0" y="4028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beca y el siervo de Abraham (Gén. 24:1-66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ttp://www.biblebookofgenesis.com/Limages/Rebekah_meets_Abrahams_Servant.jpg"/>
          <p:cNvPicPr/>
          <p:nvPr/>
        </p:nvPicPr>
        <p:blipFill>
          <a:blip r:embed="rId1"/>
          <a:stretch/>
        </p:blipFill>
        <p:spPr>
          <a:xfrm>
            <a:off x="228600" y="2286000"/>
            <a:ext cx="3137040" cy="40766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"/>
          <p:cNvSpPr/>
          <p:nvPr/>
        </p:nvSpPr>
        <p:spPr>
          <a:xfrm>
            <a:off x="3576600" y="1676520"/>
            <a:ext cx="5567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raham le pidió a su siervo que le encontrara una esposa a Isaac. El siervo viajó a Mesopotamia así como Abraham le había mandado hacer, al llegar sentó a sus camellos afuera de la cuidad junto a un pozo de agua, cuando la tarde caía. Esperaba que las mujeres de la ciudad vinieran a sacar agua, y oró para que tuviera una respuesta favorable cuando le pidiera de beber a una de ellas. Cuando él, un total extraño, se acercó a Rebeca y le pidió agua para beber, ella le respondió con amabilidad y generosid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0" y="4028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beca y el siervo de Abraham (Gén. 24:1-66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ttp://www.biblebookofgenesis.com/Limages/Rebekah_meets_Abrahams_Servant.jpg"/>
          <p:cNvPicPr/>
          <p:nvPr/>
        </p:nvPicPr>
        <p:blipFill>
          <a:blip r:embed="rId1"/>
          <a:stretch/>
        </p:blipFill>
        <p:spPr>
          <a:xfrm>
            <a:off x="228600" y="2286000"/>
            <a:ext cx="3137040" cy="40766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"/>
          <p:cNvSpPr/>
          <p:nvPr/>
        </p:nvSpPr>
        <p:spPr>
          <a:xfrm>
            <a:off x="3657600" y="1676520"/>
            <a:ext cx="5486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é fácil hubiera sido para Rebeca ignorar la petición de agua de un extraño, o simplemente pudo haberle ofrecido una bebida con rapidez y haber continuado su camino. Sin embargo, ella le hizo conversación e hizo un esfuerzo extra al proveerle agua para su grupo de camellos sedientos. Como resultado de su accesibilidad, su vida cambió en una forma que jamás se hubiera podido imaginar; como esposa de Isaac, se convertiría en parte del linaje del Mesías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5"/>
          <p:cNvSpPr/>
          <p:nvPr/>
        </p:nvSpPr>
        <p:spPr>
          <a:xfrm>
            <a:off x="1012680" y="1069200"/>
            <a:ext cx="32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1374120" y="1906200"/>
            <a:ext cx="48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Es usted accesibl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1295280" y="2682360"/>
            <a:ext cx="7239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Sus compañeros se sienten con la libertad de traerle malas noticias, de estar en desacuerdo con su punto de vista, o de cuestionar algo que usted hizo m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1279800" y="5894280"/>
            <a:ext cx="58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Tiende a la volubilidad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0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5"/>
          <p:cNvSpPr/>
          <p:nvPr/>
        </p:nvSpPr>
        <p:spPr>
          <a:xfrm>
            <a:off x="228600" y="15912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 El principio de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RINCHER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 prepararse para la batalla, cave un hoyo en el que también quepa un ami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304920" y="2007000"/>
            <a:ext cx="79246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frentamos muchas batallas en la vida, y las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«trincheras» en las cuales vivimos vienen en diferentes formas y tamañ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stos son lugares donde desarrollamos relaciones cercanas con los demás, y cuando la vida se dificulta, tenemos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sos amigos que enfrentan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junto con nosotros esos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tiempos difíci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ttp://www.kmod.org/images/clipart/Foxhole12.gif"/>
          <p:cNvPicPr/>
          <p:nvPr/>
        </p:nvPicPr>
        <p:blipFill>
          <a:blip r:embed="rId1"/>
          <a:srcRect l="7358" t="21844" r="55459" b="12711"/>
          <a:stretch/>
        </p:blipFill>
        <p:spPr>
          <a:xfrm>
            <a:off x="5477040" y="4800600"/>
            <a:ext cx="349380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5"/>
          <p:cNvSpPr/>
          <p:nvPr/>
        </p:nvSpPr>
        <p:spPr>
          <a:xfrm>
            <a:off x="127080" y="78480"/>
            <a:ext cx="89499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Hechos acerca de los amigos de trinchera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237960" y="930960"/>
            <a:ext cx="440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 pocos en núm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249120" y="1540440"/>
            <a:ext cx="70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Dan fuerzas antes y durante la batal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243720" y="2226240"/>
            <a:ext cx="795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Ven las cosas desde la misma perspectiv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252720" y="2912040"/>
            <a:ext cx="73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Hacen una diferencia en nuestras vi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245520" y="3597840"/>
            <a:ext cx="590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Nos aman incondicionalmen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7" descr="ttp://www.kmod.org/images/clipart/Foxhole12.gif"/>
          <p:cNvPicPr/>
          <p:nvPr/>
        </p:nvPicPr>
        <p:blipFill>
          <a:blip r:embed="rId1"/>
          <a:srcRect l="7358" t="21844" r="55459" b="12711"/>
          <a:stretch/>
        </p:blipFill>
        <p:spPr>
          <a:xfrm>
            <a:off x="5477040" y="4800600"/>
            <a:ext cx="349380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5"/>
          <p:cNvSpPr/>
          <p:nvPr/>
        </p:nvSpPr>
        <p:spPr>
          <a:xfrm>
            <a:off x="113760" y="4320"/>
            <a:ext cx="898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 Pablo y Bernab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Hechos 9:26-27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632160" y="1328400"/>
            <a:ext cx="851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rnabé fue un amigo de trinchera porq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533520" y="202104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yó en Pabl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NT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que alguien más lo hicier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4813200" y="3192840"/>
            <a:ext cx="4254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PROBÓ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l liderazgo de Pablo ante otros líder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4888080" y="4958280"/>
            <a:ext cx="340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Ayudó a Pablo a alcanzar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TENCI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" descr=""/>
          <p:cNvPicPr/>
          <p:nvPr/>
        </p:nvPicPr>
        <p:blipFill>
          <a:blip r:embed="rId1"/>
          <a:stretch/>
        </p:blipFill>
        <p:spPr>
          <a:xfrm>
            <a:off x="0" y="3276720"/>
            <a:ext cx="4605480" cy="34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5"/>
          <p:cNvSpPr/>
          <p:nvPr/>
        </p:nvSpPr>
        <p:spPr>
          <a:xfrm>
            <a:off x="1241280" y="1221840"/>
            <a:ext cx="32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1752480" y="2064240"/>
            <a:ext cx="708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Soy un amigo del cual los demás dependen en tiempos difíci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1676520" y="3893040"/>
            <a:ext cx="708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He estado en una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«trinchera» con un amigo, un colega o con un miembro de la famil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0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5"/>
          <p:cNvSpPr/>
          <p:nvPr/>
        </p:nvSpPr>
        <p:spPr>
          <a:xfrm>
            <a:off x="1154880" y="1220400"/>
            <a:ext cx="25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ció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1600200" y="1833840"/>
            <a:ext cx="701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sado en estos cinco principios, ¿fomenta usted o reduce confianza en sus relacion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1153800" y="3920760"/>
            <a:ext cx="248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licació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1600200" y="4564440"/>
            <a:ext cx="701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En qué relación necesita edificar la confianza? ¿Qué hará para fortalecer esa confianz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0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762120" y="61632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El principio d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IMIENT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 confianza es el fundamento de cualquier rel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2"/>
          <p:cNvGrpSpPr/>
          <p:nvPr/>
        </p:nvGrpSpPr>
        <p:grpSpPr>
          <a:xfrm>
            <a:off x="1371600" y="3124080"/>
            <a:ext cx="6324480" cy="3529080"/>
            <a:chOff x="1371600" y="3124080"/>
            <a:chExt cx="6324480" cy="3529080"/>
          </a:xfrm>
        </p:grpSpPr>
        <p:pic>
          <p:nvPicPr>
            <p:cNvPr id="53" name="Picture 7" descr="ttp://cdn.grid.fotosearch.com/CSP/CSP991/k12375165.jpg"/>
            <p:cNvPicPr/>
            <p:nvPr/>
          </p:nvPicPr>
          <p:blipFill>
            <a:blip r:embed="rId1"/>
            <a:srcRect l="0" t="12774" r="0" b="12141"/>
            <a:stretch/>
          </p:blipFill>
          <p:spPr>
            <a:xfrm>
              <a:off x="1371600" y="3124080"/>
              <a:ext cx="6324480" cy="352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Rectangle 1" descr=""/>
            <p:cNvPicPr/>
            <p:nvPr/>
          </p:nvPicPr>
          <p:blipFill>
            <a:blip r:embed="rId2"/>
            <a:stretch/>
          </p:blipFill>
          <p:spPr>
            <a:xfrm>
              <a:off x="1854000" y="4508280"/>
              <a:ext cx="3949560" cy="1739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6"/>
          <p:cNvSpPr/>
          <p:nvPr/>
        </p:nvSpPr>
        <p:spPr>
          <a:xfrm>
            <a:off x="1295280" y="617400"/>
            <a:ext cx="655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AS RESPUESTAS ESTÁN EN EL FIN DEL LIB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44520" y="3288960"/>
            <a:ext cx="845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PREGUNTA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MENTAR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Image result for trust fall"/>
          <p:cNvPicPr/>
          <p:nvPr/>
        </p:nvPicPr>
        <p:blipFill>
          <a:blip r:embed="rId1"/>
          <a:stretch/>
        </p:blipFill>
        <p:spPr>
          <a:xfrm>
            <a:off x="838080" y="257040"/>
            <a:ext cx="7931160" cy="6343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5"/>
          <p:cNvSpPr/>
          <p:nvPr/>
        </p:nvSpPr>
        <p:spPr>
          <a:xfrm>
            <a:off x="-208800" y="102960"/>
            <a:ext cx="88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uatr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verdades acerca de la confianz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27000" y="1588680"/>
            <a:ext cx="599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La confianza comienza co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O MISM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3886200" y="4983480"/>
            <a:ext cx="504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La confianza no puede se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MPARTIMENTAD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rcRect l="2003" t="0" r="11602" b="0"/>
          <a:stretch/>
        </p:blipFill>
        <p:spPr>
          <a:xfrm>
            <a:off x="6089760" y="1066680"/>
            <a:ext cx="2284200" cy="3171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ttp://www.careerealism.com/wp-content/uploads/2011/12/Several-Cabinets-Featured.png"/>
          <p:cNvPicPr/>
          <p:nvPr/>
        </p:nvPicPr>
        <p:blipFill>
          <a:blip r:embed="rId2"/>
          <a:srcRect l="18658" t="0" r="50" b="0"/>
          <a:stretch/>
        </p:blipFill>
        <p:spPr>
          <a:xfrm>
            <a:off x="66600" y="4238640"/>
            <a:ext cx="373392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-208800" y="102960"/>
            <a:ext cx="88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atro verdades acerca de la confianz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-165240" y="1343160"/>
            <a:ext cx="709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La confianza funciona como u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UENTA DE BANC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3382920" y="4727880"/>
            <a:ext cx="551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TEGRIDA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s el fundamento de la confian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ttp://newyear.phillipmartin.info/personal_finances.gif"/>
          <p:cNvPicPr/>
          <p:nvPr/>
        </p:nvPicPr>
        <p:blipFill>
          <a:blip r:embed="rId1"/>
          <a:stretch/>
        </p:blipFill>
        <p:spPr>
          <a:xfrm>
            <a:off x="6553080" y="687240"/>
            <a:ext cx="2519640" cy="3046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ttp://photos.gograph.com/thumbs/CSP/CSP991/k11740725.jpg"/>
          <p:cNvPicPr/>
          <p:nvPr/>
        </p:nvPicPr>
        <p:blipFill>
          <a:blip r:embed="rId2"/>
          <a:stretch/>
        </p:blipFill>
        <p:spPr>
          <a:xfrm>
            <a:off x="214200" y="3759120"/>
            <a:ext cx="2659320" cy="26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5"/>
          <p:cNvSpPr/>
          <p:nvPr/>
        </p:nvSpPr>
        <p:spPr>
          <a:xfrm>
            <a:off x="76320" y="781200"/>
            <a:ext cx="899136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l igual que Sansón, muchos líderes que están mermando el terreno de la confianza en sus relaciones y en su liderazgo, van a mostrar con frecuencia uno o más de los siguientes rasgo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1875240" y="3960"/>
            <a:ext cx="534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Estudio de un caso bíblico: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ansón (Jueces 13:1-16:3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76320" y="3392640"/>
            <a:ext cx="632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llar en lidiar con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bilidades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RÁCTE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76320" y="4535640"/>
            <a:ext cx="632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Usar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NGAÑ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ar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tegerse a sí mism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76320" y="5678640"/>
            <a:ext cx="647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U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EMPERAMENT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scontrol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ttp://static.comicvine.com/uploads/scale_small/11111/111118999/3113444-3751428663-samso.jpg"/>
          <p:cNvPicPr/>
          <p:nvPr/>
        </p:nvPicPr>
        <p:blipFill>
          <a:blip r:embed="rId1"/>
          <a:stretch/>
        </p:blipFill>
        <p:spPr>
          <a:xfrm>
            <a:off x="5867280" y="2743200"/>
            <a:ext cx="31053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5"/>
          <p:cNvSpPr/>
          <p:nvPr/>
        </p:nvSpPr>
        <p:spPr>
          <a:xfrm>
            <a:off x="1393560" y="1145520"/>
            <a:ext cx="32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1752480" y="2366640"/>
            <a:ext cx="701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Están presentes en su vi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gunos de estos rasgo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1752480" y="3727080"/>
            <a:ext cx="717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Qué medidas de correc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marí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5"/>
          <p:cNvSpPr/>
          <p:nvPr/>
        </p:nvSpPr>
        <p:spPr>
          <a:xfrm>
            <a:off x="76320" y="8136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l principio de l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ITUACIÓ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nca permita que la situación importe más qu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la relaci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711360" y="1620720"/>
            <a:ext cx="8224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regla clave a seguir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ermine siempre intentar valorar a la gen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mero más que a las situaciones, programa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s, etc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ttp://gpfarah.com/gpfarahcom/wp-content/uploads/2014/05/hands-in-the-middle-2.jpg"/>
          <p:cNvPicPr/>
          <p:nvPr/>
        </p:nvPicPr>
        <p:blipFill>
          <a:blip r:embed="rId1"/>
          <a:stretch/>
        </p:blipFill>
        <p:spPr>
          <a:xfrm>
            <a:off x="2362320" y="3681360"/>
            <a:ext cx="38462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4T04:31:37Z</dcterms:created>
  <dc:creator>montecyr@yahoo.com</dc:creator>
  <dc:description/>
  <dc:language>en-US</dc:language>
  <cp:lastModifiedBy>Monte Cyr</cp:lastModifiedBy>
  <dcterms:modified xsi:type="dcterms:W3CDTF">2021-02-20T13:45:20Z</dcterms:modified>
  <cp:revision>16</cp:revision>
  <dc:subject/>
  <dc:title>PowerPoint Presentation</dc:title>
</cp:coreProperties>
</file>