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0A17-2023-42C7-8E43-8B54EC70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72D-A4A9-42AB-AD72-749E26DA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505-8CF1-4E61-984C-5EE1CB9F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4B4-875C-4A80-AAB9-594BFB63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4538-01E0-45EB-8FD9-77C42B0D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1C3B-1353-4573-81BC-CA0117E5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DDF-82DD-4742-B6DF-17B523AF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7E5-52A7-4ED8-ABFF-81547F0E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8423-5B34-4F0A-B821-66AFB06F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A32-D131-4716-A935-6B835B51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BE6C-3904-47CE-A560-8E16455D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014-D41A-475E-AB7F-9578CAA2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A08C-5CCD-4AA9-A11F-B5CDF0D49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6320" y="19083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Abigail y el ejército de David (I Samuel 25:18-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14600" y="297504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beza de un líder: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TENDÍ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905120" y="4270680"/>
            <a:ext cx="45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El corazón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04920" y="575496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La mano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ttp://b-i.forbesimg.com/meghanbiro/files/2013/05/heart-of-a-coach5.jpeg"/>
          <p:cNvPicPr/>
          <p:nvPr/>
        </p:nvPicPr>
        <p:blipFill>
          <a:blip r:embed="rId2"/>
          <a:srcRect l="22472" t="1020" r="14913" b="20698"/>
          <a:stretch/>
        </p:blipFill>
        <p:spPr>
          <a:xfrm>
            <a:off x="228600" y="3417840"/>
            <a:ext cx="1657440" cy="222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ttp://www.cliparthut.com/clip-arts/1493/man-thinking-clip-art-1493316.png"/>
          <p:cNvPicPr/>
          <p:nvPr/>
        </p:nvPicPr>
        <p:blipFill>
          <a:blip r:embed="rId3"/>
          <a:stretch/>
        </p:blipFill>
        <p:spPr>
          <a:xfrm>
            <a:off x="7547040" y="2444760"/>
            <a:ext cx="1425600" cy="23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ttp://virginiasalvationarmy.org/hamptonva/files/2012/08/Helping-hand.jpg"/>
          <p:cNvPicPr/>
          <p:nvPr/>
        </p:nvPicPr>
        <p:blipFill>
          <a:blip r:embed="rId4"/>
          <a:stretch/>
        </p:blipFill>
        <p:spPr>
          <a:xfrm>
            <a:off x="5181480" y="5249880"/>
            <a:ext cx="1905120" cy="15811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455840" y="55080"/>
            <a:ext cx="55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practicar el principi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 intercamb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133720" y="20498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je “su lugar” y visite “el lugar de ellos” para ver así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NTO DE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733920" y="3926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amin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TU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987640" y="5754960"/>
            <a:ext cx="59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Pregúntele a otros qué harían ellos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238880" y="108000"/>
            <a:ext cx="1828800" cy="179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tp://www.northcornwallclusterofchurches.org.uk/wp-content/uploads/2014/03/LPV-cartoon.jpg"/>
          <p:cNvPicPr/>
          <p:nvPr/>
        </p:nvPicPr>
        <p:blipFill>
          <a:blip r:embed="rId2"/>
          <a:srcRect l="5526" t="10141" r="7110" b="2821"/>
          <a:stretch/>
        </p:blipFill>
        <p:spPr>
          <a:xfrm>
            <a:off x="50760" y="1219320"/>
            <a:ext cx="1967040" cy="223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tp://s3.amazonaws.com/rapgenius/1322715984_how-to-draw-gangster-spongebob.jpg"/>
          <p:cNvPicPr/>
          <p:nvPr/>
        </p:nvPicPr>
        <p:blipFill>
          <a:blip r:embed="rId3"/>
          <a:stretch/>
        </p:blipFill>
        <p:spPr>
          <a:xfrm>
            <a:off x="65530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4"/>
          <a:stretch/>
        </p:blipFill>
        <p:spPr>
          <a:xfrm>
            <a:off x="152280" y="4452840"/>
            <a:ext cx="27226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392120" y="114624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143000" y="241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esfuerzo por ver las co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de el punto de vista de l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52280" y="29520"/>
            <a:ext cx="88394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da persona que conocemos tiene el potencial de enseñarnos al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" y="16099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s líderes eficientes nunca dejan de crecer.  Que continuemos aprendiendo o no, no tiene que ver con quién nos está enseñando, pero sí tiene mucho que ver con lo dóciles que somos para ser enseñad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5000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127520" y="79560"/>
            <a:ext cx="70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amán y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vo (II Reyes 5:1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21200" y="1106640"/>
            <a:ext cx="756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unto es que no fue dócil ni educable,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ual que muchos líderes hoy en dí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34640" y="2088360"/>
            <a:ext cx="61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quería un cambio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90720" y="275436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esperó un trat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038960" y="3392640"/>
            <a:ext cx="758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tenía ciertas teorías acerca de 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99072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se enojó al recibir un trato inju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990720" y="56786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rechazó la solución al princi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rcRect l="15074" t="2520" r="17948" b="4472"/>
          <a:stretch/>
        </p:blipFill>
        <p:spPr>
          <a:xfrm>
            <a:off x="5562720" y="4064040"/>
            <a:ext cx="35049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81440" y="11772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ómo aprender de otro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447640" y="103788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N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895480" y="267372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ique las caracterís-ticas únicas y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TALEZ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la 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397320" y="5186160"/>
            <a:ext cx="315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g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EGUNT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ttp://images.clipartpanda.com/smiley-face-thumbs-up-Smiley-face-with-thumbs-up.jpg"/>
          <p:cNvPicPr/>
          <p:nvPr/>
        </p:nvPicPr>
        <p:blipFill>
          <a:blip r:embed="rId1"/>
          <a:stretch/>
        </p:blipFill>
        <p:spPr>
          <a:xfrm>
            <a:off x="6554880" y="531720"/>
            <a:ext cx="2208240" cy="190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ttp://www.talentinsights.com/wp-content/uploads/2014/12/Strength-Change.jpg"/>
          <p:cNvPicPr/>
          <p:nvPr/>
        </p:nvPicPr>
        <p:blipFill>
          <a:blip r:embed="rId2"/>
          <a:srcRect l="5661" t="-803" r="10249" b="3777"/>
          <a:stretch/>
        </p:blipFill>
        <p:spPr>
          <a:xfrm>
            <a:off x="304920" y="2103480"/>
            <a:ext cx="23778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3"/>
          <a:stretch/>
        </p:blipFill>
        <p:spPr>
          <a:xfrm>
            <a:off x="6664320" y="464184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1316160" y="117576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828800" y="25340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acerco a la gente con 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eo de aprender de ella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04920" y="44964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gente se interesa en la persona que se interesa en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ttp://2012books.lardbucket.org/books/a-primer-on-communication-studies/section_05/4b2a5b9106de73674acc95"/>
          <p:cNvPicPr/>
          <p:nvPr/>
        </p:nvPicPr>
        <p:blipFill>
          <a:blip r:embed="rId1"/>
          <a:stretch/>
        </p:blipFill>
        <p:spPr>
          <a:xfrm>
            <a:off x="4724280" y="2270160"/>
            <a:ext cx="3706920" cy="2469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0760" y="5181480"/>
            <a:ext cx="90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as personas no les importa qué tanto sepa, hasta que saben lo mucho que le importan a ust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990720" y="21348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at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6320" y="117180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  Jonatán estab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SPONI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I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6320" y="222264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  Jonatán e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SPONS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4572000" y="3346560"/>
            <a:ext cx="43988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152280" y="80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edificar su caris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320" y="689040"/>
            <a:ext cx="58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é verdaderamente interesado en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246760" y="2305080"/>
            <a:ext cx="35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ría a men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209680" y="314208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erde que el nombre de una persona es importante para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177280" y="491400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 un buen escuch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306440" y="5718240"/>
            <a:ext cx="61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ga sentir sinceramente importantes a las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ttp://www.cliparthut.com/clip-arts/20/effective-communication-clip-art-20367.png"/>
          <p:cNvPicPr/>
          <p:nvPr/>
        </p:nvPicPr>
        <p:blipFill>
          <a:blip r:embed="rId1"/>
          <a:stretch/>
        </p:blipFill>
        <p:spPr>
          <a:xfrm>
            <a:off x="5791320" y="279360"/>
            <a:ext cx="327816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ttp://cache4.asset-cache.net/gc/165671537-cute-smiling-girl-grilling-on-a-barbecue-gettyimages.jpg?v=1&amp;c"/>
          <p:cNvPicPr/>
          <p:nvPr/>
        </p:nvPicPr>
        <p:blipFill>
          <a:blip r:embed="rId2"/>
          <a:srcRect l="41769" t="2311" r="11869" b="46676"/>
          <a:stretch/>
        </p:blipFill>
        <p:spPr>
          <a:xfrm>
            <a:off x="220680" y="17524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3"/>
          <a:srcRect l="52312" t="1248" r="2690" b="68760"/>
          <a:stretch/>
        </p:blipFill>
        <p:spPr>
          <a:xfrm>
            <a:off x="6858000" y="2666880"/>
            <a:ext cx="2225520" cy="148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ttp://blog.chron.com/careerrescue/files/2012/08/blog.listenkid0820.jpg"/>
          <p:cNvPicPr/>
          <p:nvPr/>
        </p:nvPicPr>
        <p:blipFill>
          <a:blip r:embed="rId4"/>
          <a:stretch/>
        </p:blipFill>
        <p:spPr>
          <a:xfrm>
            <a:off x="103320" y="4114800"/>
            <a:ext cx="2295360" cy="153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ttp://www.infobuild.co.za/wp-content/uploads/lift_up_celebration.png"/>
          <p:cNvPicPr/>
          <p:nvPr/>
        </p:nvPicPr>
        <p:blipFill>
          <a:blip r:embed="rId5"/>
          <a:stretch/>
        </p:blipFill>
        <p:spPr>
          <a:xfrm>
            <a:off x="6934320" y="4416480"/>
            <a:ext cx="20462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109520" y="3439440"/>
            <a:ext cx="8202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ección 3: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¿Estamos dispuestos 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focarnos en los demá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36800" y="11505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244880" y="129780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08200" y="2399040"/>
            <a:ext cx="68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Usualmente me enfoco en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 y en sus intereses, o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oco en mí mis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88640" y="81360"/>
            <a:ext cx="729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lo mejor de la gente casi siem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ca a relucir lo mejor de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0" y="2228040"/>
            <a:ext cx="438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generalmente responden a las expectativas que sienten que los líderes tienen de ella. Los líderes deben poner un número “10” imaginario en la frente de todo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152280" y="2057400"/>
            <a:ext cx="4191120" cy="4724280"/>
            <a:chOff x="152280" y="2057400"/>
            <a:chExt cx="4191120" cy="4724280"/>
          </a:xfrm>
        </p:grpSpPr>
        <p:pic>
          <p:nvPicPr>
            <p:cNvPr id="138" name="Picture 2" descr="ttp://images.clipartpanda.com/friendship-clipart-9Tpeeop8c.jpeg"/>
            <p:cNvPicPr/>
            <p:nvPr/>
          </p:nvPicPr>
          <p:blipFill>
            <a:blip r:embed="rId1"/>
            <a:srcRect l="16640" t="407" r="17312" b="1335"/>
            <a:stretch/>
          </p:blipFill>
          <p:spPr>
            <a:xfrm>
              <a:off x="152280" y="2061360"/>
              <a:ext cx="4191120" cy="47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ttp://www.clker.com/cliparts/y/2/P/1/q/r/pink-tilted-tiara-and-number-10-hi.png"/>
            <p:cNvPicPr/>
            <p:nvPr/>
          </p:nvPicPr>
          <p:blipFill>
            <a:blip r:embed="rId2"/>
            <a:stretch/>
          </p:blipFill>
          <p:spPr>
            <a:xfrm>
              <a:off x="2995200" y="2057400"/>
              <a:ext cx="730800" cy="66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0" y="1219320"/>
            <a:ext cx="90518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rnabé era un gran líder en el Nuevo Testamento, de hecho su nombre significa: el hijo de consolación. Les daba su dinero, su tiempo, ánimo y creencias a los demás, aun cuando esas personas mostraran pequeñas señales de tener un gran potencial. Por ejemplo, Juan Marcos era un joven que andaba con Pablo y Bernabé en un viaje de misiones, pero debido al miedo y la inmadurez, Marcos se dio por vencido y regresó a casa. Pablo se rehusó a llevarlo en otro viaje, no quería darle a este hombre una segunda oportunidad. Sin embargo, Bernabé vio el potencial y tomó a Marcos bajo su tutela hasta que floreció. Años después, Pablo estaba en la prisión y se dio cuenta del valor de Juan Marcos, a tal punto que pidió que lo mandaran a la cárcel en que se encontraba para que le ayudara (II Timoteo 4:11).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60960" y="1495440"/>
            <a:ext cx="74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vio potencial que otros no veí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9480" y="2145600"/>
            <a:ext cx="72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mostró gracia cuando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ían que nadie la merec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82480" y="3228840"/>
            <a:ext cx="472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encontró oportunidades para que la gente experimentara resultados y éx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tp://childrenschapel.org/biblestories/graphics/002-paul-antioch-philippi300x225.jpg"/>
          <p:cNvPicPr/>
          <p:nvPr/>
        </p:nvPicPr>
        <p:blipFill>
          <a:blip r:embed="rId1"/>
          <a:srcRect l="13295" t="0" r="12794" b="0"/>
          <a:stretch/>
        </p:blipFill>
        <p:spPr>
          <a:xfrm>
            <a:off x="5486400" y="3178080"/>
            <a:ext cx="35654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68400" y="179280"/>
            <a:ext cx="90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dades acerca del principio del númer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52280" y="9936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est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EPCIÓ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en algunas personas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berían detenernos en creer en la gen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579840" y="2444400"/>
            <a:ext cx="4041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 corazón confiado está emocional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ALUD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No se convierta en un lí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52280" y="5064840"/>
            <a:ext cx="5410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s comportamos de acuerdo a nuestra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REENCIA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 Cultive una fe saludable y un optimismo en los demá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ttp://www.clipartbest.com/cliparts/4c9/KRA/4c9KRAgcE.gif"/>
          <p:cNvPicPr/>
          <p:nvPr/>
        </p:nvPicPr>
        <p:blipFill>
          <a:blip r:embed="rId1"/>
          <a:stretch/>
        </p:blipFill>
        <p:spPr>
          <a:xfrm>
            <a:off x="7772400" y="762120"/>
            <a:ext cx="129528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228600" y="2111400"/>
            <a:ext cx="3200400" cy="27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5537160" y="4854600"/>
            <a:ext cx="30733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3520" y="53352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Trate a un hombre como aparenta ser y lo hará peor persona. Pero trate a un hombre como si ya fuera lo que potencialmente puede llegar a ser, y lo hará el hombre que debiese ser»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ann Wolfgang Von Goe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1315080" y="117576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70640" y="28155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reo lo mejor de los de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04920" y="5886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arse en las personas debe prec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nfrontar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ttp://www.mccaonline.com/wp-content/uploads/Intervention.jpg"/>
          <p:cNvPicPr/>
          <p:nvPr/>
        </p:nvPicPr>
        <p:blipFill>
          <a:blip r:embed="rId1"/>
          <a:stretch/>
        </p:blipFill>
        <p:spPr>
          <a:xfrm>
            <a:off x="1585800" y="3048120"/>
            <a:ext cx="6034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-22320" y="77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tán y David (II Sam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52280" y="21445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án había estado escuchand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52280" y="275436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án conocía las circunstancias de Dav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2280" y="3392640"/>
            <a:ext cx="3657600" cy="3465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191120" y="3316320"/>
            <a:ext cx="478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Natán fue objetivo en su perspectiva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11480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Natán comprendía la raíz del asunto (v.9-1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14800" y="5478840"/>
            <a:ext cx="493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Natán vio la causa y el efecto máximo del pecado de David (v.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2840" y="700920"/>
            <a:ext cx="9078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endemos lo siguiente del profeta Natán mientras confrontaba al rey David después de que hubiera pecado con Betsabé: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84320" y="3060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a para la confrontación salud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2440" y="1161720"/>
            <a:ext cx="89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e a las personas con el cariño 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tiene, mostrando su interés por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04920" y="2487240"/>
            <a:ext cx="78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que primero el entendimiento,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cesariamente estar de acuer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3803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erden un plan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246640" y="3809880"/>
            <a:ext cx="38210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14200" y="201960"/>
            <a:ext cx="870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is principios sociales que responden la pregunta de la relación: ¿ESTAMOS DISPUESTOS A ENFOCARNOS EN LOS DEMÁ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1753920"/>
            <a:ext cx="75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3516840"/>
            <a:ext cx="489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 la población, con una pequeña excepción, está compuesta por los demás seres hu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rcRect l="7728" t="11849" r="8902" b="11358"/>
          <a:stretch/>
        </p:blipFill>
        <p:spPr>
          <a:xfrm>
            <a:off x="4952880" y="2700360"/>
            <a:ext cx="4052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1396080" y="122184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143000" y="2355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importa lo suficiente como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ar de la manera cor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9360" y="533520"/>
            <a:ext cx="90583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Toda la población, con una pequeña excepción, está compuesta por los demás seres huma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62000" y="0"/>
            <a:ext cx="9058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ios de Conne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1862640"/>
            <a:ext cx="89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Debemos ponernos nosotros en el lugar d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52280" y="281376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ada persona que conocemos tiene el potencial de enseñarnos al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76320" y="3846600"/>
            <a:ext cx="8915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La gente se interesa en la persona que se interesa en e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52280" y="4821120"/>
            <a:ext cx="906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reer lo mejor de la gente casi siempre saca a relucir lo mejor de la g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6320" y="59014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Interesarse en las personas debe preceder a confrontar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079280" y="10681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870920" y="1757880"/>
            <a:ext cx="69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de estos principios rel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ctica mej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cuál es usted más déb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990720" y="367740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2480" y="4383360"/>
            <a:ext cx="71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criba el paso que debería tomar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 su relación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52280" y="1548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la mayoría de la gente, incluyendo a los líderes, les resulta difícil vivir más allá de su mundo pequeñ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romper el molde, los líderes deben reunir tres recur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47960" y="3303360"/>
            <a:ext cx="36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4880" y="429408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99440" y="5437080"/>
            <a:ext cx="46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ONS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900680" y="2995560"/>
            <a:ext cx="4240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76320" y="11430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 ilustración clásica de un líder que falló en practicar este principio, es el rey Nabucodonosor. Después de que su ejército capturó a los ciudadanos de Israel, este rey escogió a los mejores jóvenes israelitas y comenzó a presionarlos para que cedieran a lo que él deseara. De hecho, la población entera de Babilonia se volvió arrogante y presuntuosa, reinaron esa porción del mundo por mucho años. El rey Nabucodonosor mostró ser uno de los reyes más arrogantes de la historia y Dios tuvo que tratar con él de la manera más inusual, lo llevó de su posición de rey a vivir como un animal en el campo. Permaneció allí hasta que reconoció completamente a Dios como el gobernante supremo del mundo. Tuvo que aprender a someterse, a renunciar a tener el control y volverse dócil. En Daniel 4:36-37, el rey Nabucodonosor fue un líder difer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74040" y="1146240"/>
            <a:ext cx="735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cómo desarrolló una perspectiv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dro compl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18240" y="228744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bra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16080" y="28972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erspectiv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Ó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54600" y="3446280"/>
            <a:ext cx="37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Corazó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UMIL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ttp://hispresenceonline.org/wp-content/uploads/2015/03/1-NEBUCHADNEZZAR-720x340.jpg"/>
          <p:cNvPicPr/>
          <p:nvPr/>
        </p:nvPicPr>
        <p:blipFill>
          <a:blip r:embed="rId1"/>
          <a:stretch/>
        </p:blipFill>
        <p:spPr>
          <a:xfrm>
            <a:off x="3505320" y="4119480"/>
            <a:ext cx="56386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091160" y="12978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478520" y="2507760"/>
            <a:ext cx="69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cuesta trabajo poner a 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44360" y="1962000"/>
            <a:ext cx="8991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éxito puede traer muchas cosas: poder, prestigio, fama y riqueza. Tristemente así como los líderes ascienden a su posición, se olvidan del lugar de dónde vinieron. Al viajar por el mundo, nuestro equipo de EQUIP ha observado que muchos líderes abusan de aquellos que están a su cargo, por lo que el liderazgo se convierte en una travesía de poder. Tanto es así que entre más pobreza haya en un país, más abuso, y esto no es un modelo bíblico de liderazgo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52280" y="152280"/>
            <a:ext cx="8991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ús, el líder supremo, nació en un establo, y jamás sintió que fuera demasiado importante como para servir a los pobres o discapacitados; de hecho, frecuentemente comía con las personas de clase más baja en la sociedad. A pesar de ser el líder perfecto, su meta no era poner a las personas en su lugar, recordándoles lo imperfectas que eran; por el contrario, se puso en su lugar, caminó por donde ellos caminaron, interactuó con ellos en su lenguaje cotidiano y sufrió lo que ellos sufrieron (Hebreos 4:15). ¿Por qué los líderes fallan en practicar esto? Es sencillo, por naturaleza no nos vemos a nosotros mismos y a los demás desde la misma perspectiva; cuando fallamos en ver las cosas desde la perspectiva de los demás, fallamos en nuestras relacion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41:50Z</dcterms:created>
  <dc:creator>montecyr@yahoo.com</dc:creator>
  <dc:description/>
  <dc:language>en-US</dc:language>
  <cp:lastModifiedBy>Monte Cyr</cp:lastModifiedBy>
  <dcterms:modified xsi:type="dcterms:W3CDTF">2021-02-19T21:20:20Z</dcterms:modified>
  <cp:revision>16</cp:revision>
  <dc:subject/>
  <dc:title>PowerPoint Presentation</dc:title>
</cp:coreProperties>
</file>