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6F12-091A-45C5-B98B-20A9C03B9128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8233-3E5B-4C81-85DF-53591028D399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DE0F-C0EC-47DD-BF7D-83BBEE83A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6F37-475B-48E7-AE96-7E170704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B9C4-ED1A-4D13-9271-F21101DAA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EDBC-792C-483B-906E-A77BD3741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7BBF-9F3E-4DA8-A998-BADB6316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64B0-2840-410C-B2F5-99693005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0EC4-52F1-4234-B590-48DFD602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5FCB-2526-4AF9-B4B7-520A734C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6D1A-6EE6-4BA4-90E2-D4D81EBD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FAF6-EDAA-4DBA-85DB-9AD48CAA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6F34-EF89-4BBE-A086-B147B442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829C-4B72-42C5-8056-C97BAFE5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C82D-D5D1-45F0-BF13-7CCCA831B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0" y="155520"/>
            <a:ext cx="9144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uando los líderes hurgan más profundo,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pueden descubrir por qué no los sigue más gent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228600" y="1410480"/>
            <a:ext cx="5867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uando la gente lo respeta como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amigo, lo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MA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3429000" y="365868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Cuando la gente lo respeta como persona, 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DMIR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228600" y="5420520"/>
            <a:ext cx="5410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. Cuando la gente lo respeta como líder, lo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SIGUE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6477120" y="1387440"/>
            <a:ext cx="2286000" cy="1957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ttp://diginomica.com/wp-content/uploads/2014/12/leader.jpg"/>
          <p:cNvPicPr/>
          <p:nvPr/>
        </p:nvPicPr>
        <p:blipFill>
          <a:blip r:embed="rId2"/>
          <a:stretch/>
        </p:blipFill>
        <p:spPr>
          <a:xfrm>
            <a:off x="85680" y="2743200"/>
            <a:ext cx="3191040" cy="2513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rcRect l="0" t="0" r="-2794" b="0"/>
          <a:stretch/>
        </p:blipFill>
        <p:spPr>
          <a:xfrm>
            <a:off x="5486400" y="4724280"/>
            <a:ext cx="324972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76320" y="80640"/>
            <a:ext cx="90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s razones por las cuales muchos líderes no se han ganado el respeto de la gent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133200" y="1405080"/>
            <a:ext cx="626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que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STAT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ÍTU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garantizan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4359240" y="3205440"/>
            <a:ext cx="4632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Piensa qu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PERIENCI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garantizan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133200" y="4914720"/>
            <a:ext cx="603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Su necesidad de s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CEPTADO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or los demás es más grande que su necesidad de ser respetado por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" descr=""/>
          <p:cNvPicPr/>
          <p:nvPr/>
        </p:nvPicPr>
        <p:blipFill>
          <a:blip r:embed="rId1"/>
          <a:srcRect l="-917" t="0" r="0" b="0"/>
          <a:stretch/>
        </p:blipFill>
        <p:spPr>
          <a:xfrm>
            <a:off x="7010280" y="1263600"/>
            <a:ext cx="1646280" cy="1736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ttp://1.bp.blogspot.com/-lKUc2tu8A3g/UA1UEYYUSnI/AAAAAAAAAQo/PkV7xN4EBwY/s1600/board_meet.gif"/>
          <p:cNvPicPr/>
          <p:nvPr/>
        </p:nvPicPr>
        <p:blipFill>
          <a:blip r:embed="rId2"/>
          <a:srcRect l="0" t="0" r="0" b="28705"/>
          <a:stretch/>
        </p:blipFill>
        <p:spPr>
          <a:xfrm>
            <a:off x="380880" y="2732040"/>
            <a:ext cx="3591000" cy="1916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6765840" y="4800600"/>
            <a:ext cx="176868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28600" y="151740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Respétese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 SÍ MISM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y a los demá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228600" y="3632040"/>
            <a:ext cx="830592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 intente ser siempre popular. No es posible agradarles a todos, por el contrario es mucho más importante agradarse a sí mismo. Cuando usted se respeta a sí mismo, curiosamente, tendrá más respeto que si lo buscara de otro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6324480" y="892080"/>
            <a:ext cx="2103480" cy="26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259200" y="1119240"/>
            <a:ext cx="553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peto a mí mismo signific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023480" y="214452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tiendo quién soy en Cris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990720" y="3087720"/>
            <a:ext cx="768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Aprecio y sé mis talentos y dones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Dios me ha d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1031040" y="4307040"/>
            <a:ext cx="711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Usualmente me desempeño bien en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1035000" y="5555160"/>
            <a:ext cx="7767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No tomo de manera personal cada frac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crí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7345440" y="927000"/>
            <a:ext cx="164628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267480" y="77760"/>
            <a:ext cx="757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 respeto a los demás significa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541440" y="1027440"/>
            <a:ext cx="585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y cuidadoso de no herir el respeto o la dignidad de na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533520" y="2673720"/>
            <a:ext cx="6286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edo ver a cada persona como alguien creado por Dios y talento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457200" y="4412880"/>
            <a:ext cx="860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33440" indent="-433440">
              <a:buClr>
                <a:srgbClr val="ffffff"/>
              </a:buClr>
              <a:buFont typeface="Arial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edo ver más allá de las fallas de otros, y ver sus necesidades y su poten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457200" y="570816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33440" indent="-433440">
              <a:buClr>
                <a:srgbClr val="ffffff"/>
              </a:buClr>
              <a:buFont typeface="Arial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nto tratar a todos los que conozco como si fueran muy import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6700680" y="914400"/>
            <a:ext cx="22910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324720" y="384480"/>
            <a:ext cx="383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888480" y="1758240"/>
            <a:ext cx="7913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uestra generalmente respeto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os demás o falla en mostrarl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Por qué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888480" y="4061880"/>
            <a:ext cx="773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é ejemplos de cómo le muest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speto a los demá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66600" y="952200"/>
            <a:ext cx="790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Exceda las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XPECTATIVA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 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38640" y="1668240"/>
            <a:ext cx="793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ómo exceder las expectativas de los demá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570240" y="2262240"/>
            <a:ext cx="678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blezca normas personales al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573480" y="2871720"/>
            <a:ext cx="71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Conozca la expectativas d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576360" y="3468240"/>
            <a:ext cx="783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Cumpla esas expectativas y vaya aún má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j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533520" y="4469040"/>
            <a:ext cx="4495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Termine cada tarea o proyecto y luego pregunte: ¿Qué más se puede hacer para sorprender a todos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ttp://www.callcentrehelper.com/images/stories/2010/exceed-expectations-510.jpg"/>
          <p:cNvPicPr/>
          <p:nvPr/>
        </p:nvPicPr>
        <p:blipFill>
          <a:blip r:embed="rId1"/>
          <a:stretch/>
        </p:blipFill>
        <p:spPr>
          <a:xfrm>
            <a:off x="5029200" y="4267080"/>
            <a:ext cx="3882960" cy="24098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273600" y="14616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1087200" y="87084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219320" y="213768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e qué manera excede las expectativas de los demás como líd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76320" y="651960"/>
            <a:ext cx="9067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. Manténgase firme en sus convicciones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RINCIPIO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52280" y="1182960"/>
            <a:ext cx="869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dades que los líderes eficientes saben cuando dirigen a la gent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28600" y="21733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ted debe aprender a separar las opiniones de las convic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228600" y="306504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No puede ser un líder eficiente si no sabe lo que cre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37960" y="3965760"/>
            <a:ext cx="890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Debe mostrar el camino y liderar a través del ejemplo para ganarse el resp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152280" y="4974120"/>
            <a:ext cx="5114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. Únicamente si está dispuesto a morir por algo, usted es realmente digno de viv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265680" y="62640"/>
            <a:ext cx="656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0" descr="Image result for estad firmes"/>
          <p:cNvPicPr/>
          <p:nvPr/>
        </p:nvPicPr>
        <p:blipFill>
          <a:blip r:embed="rId1"/>
          <a:stretch/>
        </p:blipFill>
        <p:spPr>
          <a:xfrm>
            <a:off x="5267160" y="4861080"/>
            <a:ext cx="373392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1163520" y="87084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1572840" y="1848240"/>
            <a:ext cx="727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Cuáles son sus conviccion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incipal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1568880" y="3810960"/>
            <a:ext cx="60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es lo que defien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46080" y="304920"/>
            <a:ext cx="909792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152280" y="983880"/>
            <a:ext cx="885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Posea un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DUREZ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que sea mucho mayor que su edad y experi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74600" y="2236680"/>
            <a:ext cx="523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nco signos de madure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22560" y="2998440"/>
            <a:ext cx="39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Responsabil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316440" y="3760560"/>
            <a:ext cx="268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Confianz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318240" y="4446360"/>
            <a:ext cx="29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Coheren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316800" y="5284440"/>
            <a:ext cx="23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Carác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317520" y="612288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Segur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1" descr="ttp://www.desmotivar.com/img/desmotivaciones/159731_la-madurez-esta-en-la-mente.jpg"/>
          <p:cNvPicPr/>
          <p:nvPr/>
        </p:nvPicPr>
        <p:blipFill>
          <a:blip r:embed="rId1"/>
          <a:stretch/>
        </p:blipFill>
        <p:spPr>
          <a:xfrm>
            <a:off x="5554800" y="2743200"/>
            <a:ext cx="3452760" cy="40006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263520" y="176760"/>
            <a:ext cx="745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1163520" y="947160"/>
            <a:ext cx="402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796040" y="2080800"/>
            <a:ext cx="625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señales de madur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muestra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752480" y="3546720"/>
            <a:ext cx="54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e cuáles care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76320" y="87804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ÉXI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su carrera, familia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152280" y="1983240"/>
            <a:ext cx="5334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definición de John Maxwell acerca del éxito es: “cuando aquellos que están más cerca de mí, son los que más me aman y me respetan”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ttp://careersuccess.typepad.com/.a/6a0105360968fe970b012876bca67f970c-800wi"/>
          <p:cNvPicPr/>
          <p:nvPr/>
        </p:nvPicPr>
        <p:blipFill>
          <a:blip r:embed="rId1"/>
          <a:stretch/>
        </p:blipFill>
        <p:spPr>
          <a:xfrm>
            <a:off x="5511960" y="3187800"/>
            <a:ext cx="3479760" cy="34797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273240" y="19188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22320" y="59544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ÉXI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su carrera, familia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35000" y="1893960"/>
            <a:ext cx="9088200" cy="27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 ganar el respeto como líder, el éxito debe…</a:t>
            </a:r>
            <a:br>
              <a:rPr sz="28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r en la familia, en la carrera y en la vida personal. </a:t>
            </a:r>
            <a:br>
              <a:rPr sz="28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 notado por los demás sin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líder llame la atención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ttp://careersuccess.typepad.com/.a/6a0105360968fe970b012876bca67f970c-800wi"/>
          <p:cNvPicPr/>
          <p:nvPr/>
        </p:nvPicPr>
        <p:blipFill>
          <a:blip r:embed="rId1"/>
          <a:stretch/>
        </p:blipFill>
        <p:spPr>
          <a:xfrm>
            <a:off x="6621480" y="4208400"/>
            <a:ext cx="2387520" cy="23893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255600" y="71280"/>
            <a:ext cx="76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4120" y="1154160"/>
            <a:ext cx="22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47840" y="1757880"/>
            <a:ext cx="869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dónde se encuentra más fuerte o más débil en las siguientes áreas: Vida personal / Vida familia / Carrera exitos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185040" y="772920"/>
            <a:ext cx="57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Contribuya al éxito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TRO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76320" y="144036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o existe más noble ocupación en el mundo que ayudar a otro ser humano a lograr el éxit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an Loy McGin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393840" y="3137040"/>
            <a:ext cx="5016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•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s agregamos valor a los demás cuando los valoramos verdaderamen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5715000" y="3614760"/>
            <a:ext cx="3259080" cy="32194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273240" y="7776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1155240" y="1479600"/>
            <a:ext cx="21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1023480" y="2136960"/>
            <a:ext cx="629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Qué hace específicament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para añadirles valor a los demá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179640" y="849240"/>
            <a:ext cx="64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Piens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ÁS ALLÁ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que los demá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273960" y="1449360"/>
            <a:ext cx="593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ganan el respe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63440" y="2395440"/>
            <a:ext cx="837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más en grande qu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106200" y="3278160"/>
            <a:ext cx="83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más allá que los demá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163440" y="4194360"/>
            <a:ext cx="433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nsan antes que otros lo hag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4724280" y="3959280"/>
            <a:ext cx="4292640" cy="28177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5"/>
          <p:cNvSpPr/>
          <p:nvPr/>
        </p:nvSpPr>
        <p:spPr>
          <a:xfrm>
            <a:off x="120960" y="1440"/>
            <a:ext cx="773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ificando el respeto en su liderazg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cont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1088280" y="1297800"/>
            <a:ext cx="325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102680" y="2747520"/>
            <a:ext cx="75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Qué le impide ver más allá y pens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 grande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185760" y="65160"/>
            <a:ext cx="857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aso de las siete características para edificar el respeto como lí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0" y="11462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Respétese a sí mismo y a los que trabajan con us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0" y="2058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xceda las expectativas de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0" y="2670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Manténgase firme en sus convicciones  y princip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0" y="366084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Posea una madurez que sea mucho mayor que su edad y experienc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0" y="465156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xperimente el éxito en su carrera, en su familia, y en su vid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0" y="5726160"/>
            <a:ext cx="659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Contribuya al éxito de otr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0" y="632628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Piense más allá que los demá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0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623520" y="94608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aluac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1108440" y="1608120"/>
            <a:ext cx="755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las siete características anteriores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 líder respetado, ¿cuáles cree que h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uralmente? ¿En cuáles neces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jor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623160" y="353700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licac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192320" y="4119840"/>
            <a:ext cx="706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lexione y escriba un paso de 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 puede tomar para crecer en s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luencia pers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0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344520" y="321300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Graphical user interface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2101680" y="380880"/>
            <a:ext cx="42991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6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876240" y="1075680"/>
            <a:ext cx="77342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rial"/>
              </a:rPr>
              <a:t>Cómo ganarse a la gente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1842480" y="3355200"/>
            <a:ext cx="583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olume 2, Manual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8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750960" y="1534320"/>
            <a:ext cx="8393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cción 1: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l derecho de tener seguido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228600" y="155880"/>
            <a:ext cx="877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s maneras frecuentes en las que los líd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quieren influencia con la g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28600" y="1558080"/>
            <a:ext cx="655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I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Se manifiesta cuando los líderes usan su título y posición para conseguir que los demás lo sig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3662280" y="3885120"/>
            <a:ext cx="5558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ERS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Se manifiesta cuando los líderes ejercitan sanamente sus capacidades relacionales para ganarse el derecho de lide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ttp://www.illustrationsof.com/royalty-free-authority-clipart-illustration-47628.jpg"/>
          <p:cNvPicPr/>
          <p:nvPr/>
        </p:nvPicPr>
        <p:blipFill>
          <a:blip r:embed="rId1"/>
          <a:stretch/>
        </p:blipFill>
        <p:spPr>
          <a:xfrm>
            <a:off x="6734160" y="914400"/>
            <a:ext cx="2266920" cy="2666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ttp://radhanathswamionline.com/wp-content/uploads/2012/04/Ideal-Leader.jpg"/>
          <p:cNvPicPr/>
          <p:nvPr/>
        </p:nvPicPr>
        <p:blipFill>
          <a:blip r:embed="rId2"/>
          <a:stretch/>
        </p:blipFill>
        <p:spPr>
          <a:xfrm>
            <a:off x="195120" y="4038480"/>
            <a:ext cx="33861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480240" y="115344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533520" y="22734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71680" indent="-57168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Puede pensar en un ejemplo de cómo la gente de influencia motiva y moviliza a los demás sin usar un títul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771480" y="306000"/>
            <a:ext cx="715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teniendo el respeto de los dem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152280" y="1147320"/>
            <a:ext cx="748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s preguntas silenciosas que cada seguidor le hace a su líder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538200" y="2973600"/>
            <a:ext cx="515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¿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CONFÍO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en usted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4572720" y="5716440"/>
            <a:ext cx="37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¿L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SPET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5943600" y="2293920"/>
            <a:ext cx="2438280" cy="2919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https://encrypted-tbn2.gstatic.com/images?q=tbn:ANd9GcTEkDdjym9_FubAYIxfatTX8A8dhvwHU_-uzbUcC5jRXxUopn8U"/>
          <p:cNvPicPr/>
          <p:nvPr/>
        </p:nvPicPr>
        <p:blipFill>
          <a:blip r:embed="rId2"/>
          <a:srcRect l="0" t="-837" r="0" b="0"/>
          <a:stretch/>
        </p:blipFill>
        <p:spPr>
          <a:xfrm>
            <a:off x="736560" y="4267080"/>
            <a:ext cx="353052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54:43Z</dcterms:created>
  <dc:creator>montecyr@yahoo.com</dc:creator>
  <dc:description/>
  <dc:language>en-US</dc:language>
  <cp:lastModifiedBy>Monte Cyr</cp:lastModifiedBy>
  <dcterms:modified xsi:type="dcterms:W3CDTF">2021-02-20T04:02:06Z</dcterms:modified>
  <cp:revision>13</cp:revision>
  <dc:subject/>
  <dc:title>PowerPoint Presentation</dc:title>
</cp:coreProperties>
</file>