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21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DF2C-AC78-41B7-9D20-8841E52C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2DA2-F32C-4039-8D1B-B7AA1F03D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808-DEA9-4B3B-86EC-FAA4B2FC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927-624E-4E76-99D7-205AB3DE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E0F-11DE-4AE5-BA7B-9B193031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0C0-9F7A-451F-883C-560838E1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EBF-F8A3-4AD5-BC0D-E57BF351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A56-2A71-4987-80C2-1FEC583E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E55-C799-4033-86CD-6B2F9ADD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FB7-C5AC-4070-934D-44CAF88B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163-2448-457C-8D20-4136D013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957-604C-414B-9236-F7567AE9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A4D-718B-40F0-8A9A-08CEDD5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826-06CF-4794-8044-19010E2B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9FDB-0B1D-42AF-ADFA-C24C0DB4A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1680" y="172584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¿Veo el cuadr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sólo el mal momen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26880" y="3069720"/>
            <a:ext cx="57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¿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UNI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cuadro completo junto al mal moment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889440" y="5070240"/>
            <a:ext cx="487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¿Es una situación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A VE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 algo que se repite con frecuencia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6168960" y="2243160"/>
            <a:ext cx="2594160" cy="217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ttp://www.weonlydothisonce.ritesite.us/wp-content/uploads/2013/02/repetition.png"/>
          <p:cNvPicPr/>
          <p:nvPr/>
        </p:nvPicPr>
        <p:blipFill>
          <a:blip r:embed="rId2"/>
          <a:srcRect l="51436" t="13028" r="7768" b="16098"/>
          <a:stretch/>
        </p:blipFill>
        <p:spPr>
          <a:xfrm rot="5400000">
            <a:off x="1241280" y="4365360"/>
            <a:ext cx="1708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46880" y="80280"/>
            <a:ext cx="872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¿Cómo puedo mantener la situación en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spectiva correcta durante tiempos difíci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140868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¿Convierto demasiadas situaciones en asuntos de vida 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UERT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733920" y="473112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¿Muestro mi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O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condicional durante situacione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ttp://fallibleblogma.com/wp-content/uploads/2009/08/grim_reaper-280x300.png"/>
          <p:cNvPicPr/>
          <p:nvPr/>
        </p:nvPicPr>
        <p:blipFill>
          <a:blip r:embed="rId1"/>
          <a:stretch/>
        </p:blipFill>
        <p:spPr>
          <a:xfrm>
            <a:off x="5867280" y="1401840"/>
            <a:ext cx="2667240" cy="2857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ttp://4.bp.blogspot.com/-sLklqQ8tWhs/UQ2H4yddydI/AAAAAAAAANo/VEKiZDom5NY/s1600/heart.png"/>
          <p:cNvPicPr/>
          <p:nvPr/>
        </p:nvPicPr>
        <p:blipFill>
          <a:blip r:embed="rId2"/>
          <a:stretch/>
        </p:blipFill>
        <p:spPr>
          <a:xfrm>
            <a:off x="533520" y="4017960"/>
            <a:ext cx="28573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380880" y="1523880"/>
            <a:ext cx="82296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Esta es la historia de un esclavo, Onésimo, que escapó de Filemón. Pablo guió a Onésimo a Cristo y deseaba que permaneciera con él. No obstante, decidió que su relación con Filemón era tan importante que no debería mantener a Onésimo consigo sin el consentimiento de Filemón. Además, Pablo creía que Filemón recibiría a Onésimo, no como esclavo sino como un hermano. Sus acciones eran motivadas por el amor que sentía por ambos hombre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92040" y="155880"/>
            <a:ext cx="772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udio de un caso bíblico: Pablo y Filem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lemón 1:1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88640" y="1260360"/>
            <a:ext cx="66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 amor de los cristianos funciona as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15360" y="1930320"/>
            <a:ext cx="83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sca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ENEST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0-1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04920" y="2801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rat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ONESTAMEN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n los demá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12-1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8440" y="4078440"/>
            <a:ext cx="519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leva la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GA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1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304920" y="54136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Cree 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J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los demás (v.2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ttp://images.sodahead.com/polls/000305453/polls_b161872053_5425_659791_poll_xlarge.jpeg"/>
          <p:cNvPicPr/>
          <p:nvPr/>
        </p:nvPicPr>
        <p:blipFill>
          <a:blip r:embed="rId1"/>
          <a:stretch/>
        </p:blipFill>
        <p:spPr>
          <a:xfrm>
            <a:off x="5715000" y="3562200"/>
            <a:ext cx="3333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939960" y="916920"/>
            <a:ext cx="38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838080" y="176184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circunstancias de la vida le hagan considerar que las relaciones son menos importantes de lo que debiesen s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62120" y="41518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Permite que las presiones de la vida lo lleven a descuidar la relación con su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52280" y="-195480"/>
            <a:ext cx="632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O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ndo Bob tiene u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problema con todos, cas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siempre Bob es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186480" y="3303360"/>
            <a:ext cx="80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Cómo se puede reconocer a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?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941040" y="3963960"/>
            <a:ext cx="69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ob es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RT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ttp://www.cliparthut.com/clip-arts/69/sad-person-clip-art-69783.png"/>
          <p:cNvPicPr/>
          <p:nvPr/>
        </p:nvPicPr>
        <p:blipFill>
          <a:blip r:embed="rId1"/>
          <a:stretch/>
        </p:blipFill>
        <p:spPr>
          <a:xfrm>
            <a:off x="6877080" y="57240"/>
            <a:ext cx="2057400" cy="2919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914400" y="45990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Bob es un experto e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NTRA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957600" y="5573520"/>
            <a:ext cx="72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NERAD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952560" y="618336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Bob es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CEPT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 problem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-76320" y="8316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des y el pueblo de Isra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12:1-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70640" y="1656000"/>
            <a:ext cx="82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É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TRATAB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 sus propios ciudadan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 ejecutar a gente inocente (v.1-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56600" y="3097440"/>
            <a:ext cx="864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mó decisiones basado en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PULA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v.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17360" y="4545000"/>
            <a:ext cx="3387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Actuó de maner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RACION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momentos difíciles (v.19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-279720" y="154080"/>
            <a:ext cx="90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Guardab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n contra de los demás (v.2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268920" y="992160"/>
            <a:ext cx="95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Buscaba el poder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SEGU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v.20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-275040" y="1830240"/>
            <a:ext cx="100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Aparentaba tener u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AG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fallible (v.21-22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2280" y="2600640"/>
            <a:ext cx="870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Estaba cegado po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G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l cual después lo mató (v.23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tp://cdn.superbook.cbn.com/sites/default/files/video/preview/570x320_16x9/108_KH_Preview.png"/>
          <p:cNvPicPr/>
          <p:nvPr/>
        </p:nvPicPr>
        <p:blipFill>
          <a:blip r:embed="rId1"/>
          <a:stretch/>
        </p:blipFill>
        <p:spPr>
          <a:xfrm>
            <a:off x="3697200" y="3809880"/>
            <a:ext cx="542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316160" y="15408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¿Qué hacer con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00560" y="991800"/>
            <a:ext cx="81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da con un comentario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09480" y="1833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Muestre su interés por la persona que está siendo crit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34680" y="3277800"/>
            <a:ext cx="85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28584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Pídale a Bob que piense antes de hab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09480" y="4336560"/>
            <a:ext cx="831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Motive a que se den pasos concretos hacia una solu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11280" y="5810040"/>
            <a:ext cx="83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Mantenga a Bob alejado de los demá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242360" y="10692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600920" y="2160360"/>
            <a:ext cx="46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yo un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523880" y="43365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no ser así, ¿cómo trató 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b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 organiza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3880" y="305244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ser así, ¿qué necesito hacer para camb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6 Imagen" descr="Fondo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01800" y="693360"/>
            <a:ext cx="63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ómo ganarse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g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14400" y="2882160"/>
            <a:ext cx="7940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ección 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¿Podemos desarrolla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a confianza mutu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152280" y="57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CESIBILIDA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Si estamos a gusto con nosotros mismos, otros se sentirán a gusto con noso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28600" y="2972880"/>
            <a:ext cx="579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hay más grande regalo que podamos dar a los demás que hacerlos sentir cómodos. Los buenos líderes son seguros y no proyectan una image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intocable»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ttp://www.standoutblogger.com/images/approachable.gif"/>
          <p:cNvPicPr/>
          <p:nvPr/>
        </p:nvPicPr>
        <p:blipFill>
          <a:blip r:embed="rId1"/>
          <a:stretch/>
        </p:blipFill>
        <p:spPr>
          <a:xfrm>
            <a:off x="6019920" y="2631960"/>
            <a:ext cx="293832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3"/>
          <p:cNvGrpSpPr/>
          <p:nvPr/>
        </p:nvGrpSpPr>
        <p:grpSpPr>
          <a:xfrm>
            <a:off x="1066680" y="0"/>
            <a:ext cx="6934320" cy="6693480"/>
            <a:chOff x="1066680" y="0"/>
            <a:chExt cx="6934320" cy="6693480"/>
          </a:xfrm>
        </p:grpSpPr>
        <p:pic>
          <p:nvPicPr>
            <p:cNvPr id="132" name="Picture 1" descr=""/>
            <p:cNvPicPr/>
            <p:nvPr/>
          </p:nvPicPr>
          <p:blipFill>
            <a:blip r:embed="rId1"/>
            <a:srcRect l="0" t="-1136" r="0" b="866"/>
            <a:stretch/>
          </p:blipFill>
          <p:spPr>
            <a:xfrm>
              <a:off x="1066680" y="0"/>
              <a:ext cx="6934320" cy="66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"/>
            <p:cNvSpPr/>
            <p:nvPr/>
          </p:nvSpPr>
          <p:spPr>
            <a:xfrm>
              <a:off x="1066680" y="6172920"/>
              <a:ext cx="69343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2800" spc="-1" strike="noStrike">
                  <a:solidFill>
                    <a:srgbClr val="000000"/>
                  </a:solidFill>
                  <a:latin typeface="Arial"/>
                </a:rPr>
                <a:t>Me siento un líder debe ser accesible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576600" y="1676520"/>
            <a:ext cx="5567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e pidió a su siervo que le encontrara una esposa a Isaac. El siervo viajó a Mesopotamia así como Abraham le había mandado hacer, al llegar sentó a sus camellos afuera de la cuidad junto a un pozo de agua, cuando la tarde caía. Esperaba que las mujeres de la ciudad vinieran a sacar agua, y oró para que tuviera una respuesta favorable cuando le pidiera de beber a una de ellas. Cuando él, un total extraño, se acercó a Rebeca y le pidió agua para beber, ella le respondió con amabilidad y generos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0" y="402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ca y el siervo de Abraham (Gén. 24:1-66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ttp://www.biblebookofgenesis.com/Limages/Rebekah_meets_Abrahams_Servant.jpg"/>
          <p:cNvPicPr/>
          <p:nvPr/>
        </p:nvPicPr>
        <p:blipFill>
          <a:blip r:embed="rId1"/>
          <a:stretch/>
        </p:blipFill>
        <p:spPr>
          <a:xfrm>
            <a:off x="228600" y="2286000"/>
            <a:ext cx="313704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3657600" y="1676520"/>
            <a:ext cx="5486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fácil hubiera sido para Rebeca ignorar la petición de agua de un extraño, o simplemente pudo haberle ofrecido una bebida con rapidez y haber continuado su camino. Sin embargo, ella le hizo conversación e hizo un esfuerzo extra al proveerle agua para su grupo de camellos sedientos. Como resultado de su accesibilidad, su vida cambió en una forma que jamás se hubiera podido imaginar; como esposa de Isaac, se convertiría en parte del linaje del Mesías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1012680" y="106920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4120" y="1906200"/>
            <a:ext cx="48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 usted accesi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2682360"/>
            <a:ext cx="7239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us compañeros se sienten con la libertad de traerle malas noticias, de estar en desacuerdo con su punto de vista, o de cuestionar algo que usted hizo m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279800" y="5894280"/>
            <a:ext cx="58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Tiende a la volubilida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28600" y="159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  El principio de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INCHER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 prepararse para la batalla, cave un hoyo en el que también quepa un am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4920" y="2007000"/>
            <a:ext cx="7924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rentamos muchas batallas en la vida, y la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«trincheras» en las cuales vivimos vienen en diferentes formas y tam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os son lugares donde desarrollamos relaciones cercanas con los demás, y cuando la vida se dificulta, tenem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os amigos que enfrentan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junto con nosotros eso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iempos difíc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127080" y="78480"/>
            <a:ext cx="8949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Hechos acerca de los amigos de trincher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7960" y="930960"/>
            <a:ext cx="44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pocos en núm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49120" y="1540440"/>
            <a:ext cx="70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Dan fuerzas antes y durante la bata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43720" y="2226240"/>
            <a:ext cx="79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Ven las cosas desde la misma perspec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52720" y="2912040"/>
            <a:ext cx="73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Hacen una diferencia en nuestras v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5520" y="359784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Nos aman incondicional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ttp://www.kmod.org/images/clipart/Foxhole12.gif"/>
          <p:cNvPicPr/>
          <p:nvPr/>
        </p:nvPicPr>
        <p:blipFill>
          <a:blip r:embed="rId1"/>
          <a:srcRect l="7358" t="21844" r="55459" b="12711"/>
          <a:stretch/>
        </p:blipFill>
        <p:spPr>
          <a:xfrm>
            <a:off x="5477040" y="4800600"/>
            <a:ext cx="34938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113760" y="4320"/>
            <a:ext cx="898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udio de un caso bíblico:  Pablo y Bernab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Hechos 9:26-2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632160" y="1328400"/>
            <a:ext cx="851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nabé fue un amigo de trinchera por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520" y="202104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yó en Pabl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e alguien más lo hicie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813200" y="3192840"/>
            <a:ext cx="425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PROB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l liderazgo de Pablo ante otros líd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88080" y="4958280"/>
            <a:ext cx="340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yudó a Pablo a alcanzar s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TENCI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3276720"/>
            <a:ext cx="46054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241280" y="122184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752480" y="20642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Soy un amigo del cual los demás dependen en tiempos difíc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676520" y="389304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He estado en un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«trinchera» con un amigo, un colega o con un miembro de la fami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154880" y="122040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18338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ado en estos cinco principios, ¿fomenta usted o reduce confianza en sus relac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153800" y="392076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lic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600200" y="45644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En qué relación necesita edificar la confianza? ¿Qué hará para fortalecer esa confia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762120" y="6163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El principio d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IMIENT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 confianza es el fundamento de cualquier re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"/>
          <p:cNvGrpSpPr/>
          <p:nvPr/>
        </p:nvGrpSpPr>
        <p:grpSpPr>
          <a:xfrm>
            <a:off x="1371600" y="3124080"/>
            <a:ext cx="6324480" cy="3529080"/>
            <a:chOff x="1371600" y="3124080"/>
            <a:chExt cx="6324480" cy="3529080"/>
          </a:xfrm>
        </p:grpSpPr>
        <p:pic>
          <p:nvPicPr>
            <p:cNvPr id="53" name="Picture 7" descr="ttp://cdn.grid.fotosearch.com/CSP/CSP991/k12375165.jpg"/>
            <p:cNvPicPr/>
            <p:nvPr/>
          </p:nvPicPr>
          <p:blipFill>
            <a:blip r:embed="rId1"/>
            <a:srcRect l="0" t="12774" r="0" b="12141"/>
            <a:stretch/>
          </p:blipFill>
          <p:spPr>
            <a:xfrm>
              <a:off x="1371600" y="3124080"/>
              <a:ext cx="63244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Rectangle 1" descr=""/>
            <p:cNvPicPr/>
            <p:nvPr/>
          </p:nvPicPr>
          <p:blipFill>
            <a:blip r:embed="rId2"/>
            <a:stretch/>
          </p:blipFill>
          <p:spPr>
            <a:xfrm>
              <a:off x="1854000" y="4508280"/>
              <a:ext cx="3949560" cy="17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1295280" y="61740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S RESPUESTAS ESTÁN EN EL FIN DEL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4520" y="3288960"/>
            <a:ext cx="845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PREGUNTA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MENTAR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Image result for trust fall"/>
          <p:cNvPicPr/>
          <p:nvPr/>
        </p:nvPicPr>
        <p:blipFill>
          <a:blip r:embed="rId1"/>
          <a:stretch/>
        </p:blipFill>
        <p:spPr>
          <a:xfrm>
            <a:off x="838080" y="257040"/>
            <a:ext cx="7931160" cy="6343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atr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000" y="1588680"/>
            <a:ext cx="599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La confianza comienza c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O MISM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86200" y="4983480"/>
            <a:ext cx="504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La confianza no puede s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ARTIMENTAD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003" t="0" r="11602" b="0"/>
          <a:stretch/>
        </p:blipFill>
        <p:spPr>
          <a:xfrm>
            <a:off x="6089760" y="1066680"/>
            <a:ext cx="2284200" cy="317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ttp://www.careerealism.com/wp-content/uploads/2011/12/Several-Cabinets-Featured.png"/>
          <p:cNvPicPr/>
          <p:nvPr/>
        </p:nvPicPr>
        <p:blipFill>
          <a:blip r:embed="rId2"/>
          <a:srcRect l="18658" t="0" r="50" b="0"/>
          <a:stretch/>
        </p:blipFill>
        <p:spPr>
          <a:xfrm>
            <a:off x="66600" y="4238640"/>
            <a:ext cx="37339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-208800" y="102960"/>
            <a:ext cx="88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atro verdades acerca de la confianz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165240" y="1343160"/>
            <a:ext cx="709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a confianza funciona como u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UENTA DE BANC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382920" y="472788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EGRIDA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s el fundamento de la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ttp://newyear.phillipmartin.info/personal_finances.gif"/>
          <p:cNvPicPr/>
          <p:nvPr/>
        </p:nvPicPr>
        <p:blipFill>
          <a:blip r:embed="rId1"/>
          <a:stretch/>
        </p:blipFill>
        <p:spPr>
          <a:xfrm>
            <a:off x="6553080" y="687240"/>
            <a:ext cx="2519640" cy="304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tp://photos.gograph.com/thumbs/CSP/CSP991/k11740725.jpg"/>
          <p:cNvPicPr/>
          <p:nvPr/>
        </p:nvPicPr>
        <p:blipFill>
          <a:blip r:embed="rId2"/>
          <a:stretch/>
        </p:blipFill>
        <p:spPr>
          <a:xfrm>
            <a:off x="214200" y="3759120"/>
            <a:ext cx="26593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76320" y="781200"/>
            <a:ext cx="899136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 igual que Sansón, muchos líderes que están mermando el terreno de la confianza en sus relaciones y en su liderazgo, van a mostrar con frecuencia uno o más de los siguientes rasg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875240" y="3960"/>
            <a:ext cx="5342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studio de un caso bíblico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nsón (Jueces 13:1-16:3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3392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r en lidiar c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ilidades d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RÁ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6320" y="453564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Usar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GAÑ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tegerse a sí mi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6320" y="567864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ERAMENTO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scontro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ttp://static.comicvine.com/uploads/scale_small/11111/111118999/3113444-3751428663-samso.jpg"/>
          <p:cNvPicPr/>
          <p:nvPr/>
        </p:nvPicPr>
        <p:blipFill>
          <a:blip r:embed="rId1"/>
          <a:stretch/>
        </p:blipFill>
        <p:spPr>
          <a:xfrm>
            <a:off x="5867280" y="2743200"/>
            <a:ext cx="3105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393560" y="11455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scusión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1752480" y="236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Están presentes en su v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gunos de estos rasg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52480" y="3727080"/>
            <a:ext cx="717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¿Qué medidas de cor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r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320" y="8136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l principio de l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ITUACIÓ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nca permita que la situación importe más q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la rel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711360" y="1620720"/>
            <a:ext cx="8224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regla clave a segui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siempre intentar valorar a la 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mero más que a las situaciones, progra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s, et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ttp://gpfarah.com/gpfarahcom/wp-content/uploads/2014/05/hands-in-the-middle-2.jpg"/>
          <p:cNvPicPr/>
          <p:nvPr/>
        </p:nvPicPr>
        <p:blipFill>
          <a:blip r:embed="rId1"/>
          <a:stretch/>
        </p:blipFill>
        <p:spPr>
          <a:xfrm>
            <a:off x="2362320" y="3681360"/>
            <a:ext cx="3846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4:31:37Z</dcterms:created>
  <dc:creator>montecyr@yahoo.com</dc:creator>
  <dc:description/>
  <dc:language>en-US</dc:language>
  <cp:lastModifiedBy>Monte Cyr</cp:lastModifiedBy>
  <dcterms:modified xsi:type="dcterms:W3CDTF">2021-02-20T13:45:20Z</dcterms:modified>
  <cp:revision>16</cp:revision>
  <dc:subject/>
  <dc:title>PowerPoint Presentation</dc:title>
</cp:coreProperties>
</file>