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21.png" ContentType="image/png"/>
  <Override PartName="/ppt/media/image1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97C3-471C-4726-8CD0-7B94F8CE9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6086-E684-408F-8A65-8CCE36121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7FC1-24BA-4B0A-86DF-BF6A4799C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C604-F5B0-4425-B743-AE21B4C7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7785-B6AD-4C8A-81D5-4D59C094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3684-A5B8-459E-A0B2-2E8B223C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EA27-73D4-4829-B99D-0BEF7659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DB81-7AE6-4A4A-95FC-D2F4AA58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A66B-BBCA-453C-B2D9-2956130A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B660-D4A6-4D50-87DF-F66D8E7A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F6CC-E282-45F6-BB6B-F9ACE3FC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2D39-5199-479B-B312-2E8EE224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4A10-80EC-4027-A095-901A9E9E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5A7E-EF1E-4D06-8692-9A66B474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6455-CF18-4992-BA07-B1B0040B2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146880" y="80280"/>
            <a:ext cx="872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¿Cómo puedo mantener la situación en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pectiva correcta durante tiempos difíci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01680" y="172584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¿Veo el cuadr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LE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sólo el mal moment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26880" y="3069720"/>
            <a:ext cx="576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¿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UNIC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l cuadro completo junto al mal momento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889440" y="5070240"/>
            <a:ext cx="487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¿Es una situación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A VE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algo que se repite con frecuencia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6168960" y="2243160"/>
            <a:ext cx="2594160" cy="2176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ttp://www.weonlydothisonce.ritesite.us/wp-content/uploads/2013/02/repetition.png"/>
          <p:cNvPicPr/>
          <p:nvPr/>
        </p:nvPicPr>
        <p:blipFill>
          <a:blip r:embed="rId2"/>
          <a:srcRect l="51436" t="13028" r="7768" b="16098"/>
          <a:stretch/>
        </p:blipFill>
        <p:spPr>
          <a:xfrm rot="5400000">
            <a:off x="1241280" y="4365360"/>
            <a:ext cx="1708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146880" y="80280"/>
            <a:ext cx="872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¿Cómo puedo mantener la situación en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pectiva correcta durante tiempos difíci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0" y="140868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¿Convierto demasiadas situaciones en asuntos de vida 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UERT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3733920" y="4731120"/>
            <a:ext cx="495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¿Muestro mi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M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ncondicional durante situaciones difíc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ttp://fallibleblogma.com/wp-content/uploads/2009/08/grim_reaper-280x300.png"/>
          <p:cNvPicPr/>
          <p:nvPr/>
        </p:nvPicPr>
        <p:blipFill>
          <a:blip r:embed="rId1"/>
          <a:stretch/>
        </p:blipFill>
        <p:spPr>
          <a:xfrm>
            <a:off x="5867280" y="1401840"/>
            <a:ext cx="2667240" cy="2857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ttp://4.bp.blogspot.com/-sLklqQ8tWhs/UQ2H4yddydI/AAAAAAAAANo/VEKiZDom5NY/s1600/heart.png"/>
          <p:cNvPicPr/>
          <p:nvPr/>
        </p:nvPicPr>
        <p:blipFill>
          <a:blip r:embed="rId2"/>
          <a:stretch/>
        </p:blipFill>
        <p:spPr>
          <a:xfrm>
            <a:off x="533520" y="4017960"/>
            <a:ext cx="28573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392040" y="155880"/>
            <a:ext cx="772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Pablo y Filem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ilemón 1:1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380880" y="1523880"/>
            <a:ext cx="822960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Esta es la historia de un esclavo, Onésimo, que escapó de Filemón. Pablo guió a Onésimo a Cristo y deseaba que permaneciera con él. No obstante, decidió que su relación con Filemón era tan importante que no debería mantener a Onésimo consigo sin el consentimiento de Filemón. Además, Pablo creía que Filemón recibiría a Onésimo, no como esclavo sino como un hermano. Sus acciones eran motivadas por el amor que sentía por ambos hombres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392040" y="155880"/>
            <a:ext cx="772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Pablo y Filem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ilemón 1:1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188640" y="1260360"/>
            <a:ext cx="66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amor de los cristianos funciona as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15360" y="1930320"/>
            <a:ext cx="83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ca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IENEST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10-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04920" y="28015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Trat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ONESTAM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on los demá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v.12-1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98440" y="4078440"/>
            <a:ext cx="519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leva la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G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304920" y="54136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Cree 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J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2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ttp://images.sodahead.com/polls/000305453/polls_b161872053_5425_659791_poll_xlarge.jpeg"/>
          <p:cNvPicPr/>
          <p:nvPr/>
        </p:nvPicPr>
        <p:blipFill>
          <a:blip r:embed="rId1"/>
          <a:stretch/>
        </p:blipFill>
        <p:spPr>
          <a:xfrm>
            <a:off x="5715000" y="3562200"/>
            <a:ext cx="333360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939960" y="916920"/>
            <a:ext cx="38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838080" y="176184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Permite que las circunstancias de la vida le hagan considerar que las relaciones son menos importantes de lo que debiesen ser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62120" y="41518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Permite que las presiones de la vida lo lleven a descuidar la relación con su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152280" y="-195480"/>
            <a:ext cx="6324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incipio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OB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ando Bob tiene u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problema con todos, cas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siempre Bob es el probl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86480" y="3303360"/>
            <a:ext cx="80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ómo se puede reconocer a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?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941040" y="3963960"/>
            <a:ext cx="69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Bob es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RTAD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ttp://www.cliparthut.com/clip-arts/69/sad-person-clip-art-69783.png"/>
          <p:cNvPicPr/>
          <p:nvPr/>
        </p:nvPicPr>
        <p:blipFill>
          <a:blip r:embed="rId1"/>
          <a:stretch/>
        </p:blipFill>
        <p:spPr>
          <a:xfrm>
            <a:off x="6877080" y="57240"/>
            <a:ext cx="2057400" cy="29192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914400" y="45990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Bob es un experto e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CONTR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957600" y="5573520"/>
            <a:ext cx="72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Bob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ENERAD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952560" y="6183360"/>
            <a:ext cx="70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Bob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CEPT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-76320" y="8316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odes y el pueblo de Isra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Hechos 12:1-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70640" y="1656000"/>
            <a:ext cx="82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É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LTRAT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sus propios ciudadan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 ejecutar a gente inocente (v.1-2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156600" y="3097440"/>
            <a:ext cx="864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Tomó decisiones basado en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PULA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v.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17360" y="4545000"/>
            <a:ext cx="3387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 Actuó de maner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RA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momentos difíciles (v.19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ttp://cdn.superbook.cbn.com/sites/default/files/video/preview/570x320_16x9/108_KH_Preview.png"/>
          <p:cNvPicPr/>
          <p:nvPr/>
        </p:nvPicPr>
        <p:blipFill>
          <a:blip r:embed="rId1"/>
          <a:stretch/>
        </p:blipFill>
        <p:spPr>
          <a:xfrm>
            <a:off x="3697200" y="3809880"/>
            <a:ext cx="5429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-279720" y="154080"/>
            <a:ext cx="903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Guardab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contra de los demás (v.2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268920" y="992160"/>
            <a:ext cx="95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Buscaba el poder po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SEGU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v.20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-275040" y="1830240"/>
            <a:ext cx="100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Aparentaba tener u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MAGE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nfallible (v.21-22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52280" y="2600640"/>
            <a:ext cx="870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Estaba cegado po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el cual después lo mató (v.23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ttp://cdn.superbook.cbn.com/sites/default/files/video/preview/570x320_16x9/108_KH_Preview.png"/>
          <p:cNvPicPr/>
          <p:nvPr/>
        </p:nvPicPr>
        <p:blipFill>
          <a:blip r:embed="rId1"/>
          <a:stretch/>
        </p:blipFill>
        <p:spPr>
          <a:xfrm>
            <a:off x="3697200" y="3809880"/>
            <a:ext cx="5429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1316160" y="15408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hacer con 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700560" y="991800"/>
            <a:ext cx="81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a con un comentario posi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609480" y="18331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Muestre su interés por la persona que está siendo critic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34680" y="3277800"/>
            <a:ext cx="85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Pídale a Bob que piense antes de hab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609480" y="4336560"/>
            <a:ext cx="831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Motive a que se den pasos concretos hacia una solu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611280" y="5810040"/>
            <a:ext cx="83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Mantenga a Bob alejado de los demá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1242360" y="106920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600920" y="2160360"/>
            <a:ext cx="46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oy yo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?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523880" y="433656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no ser así, ¿cómo trató 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 organiza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523880" y="305244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ser así, ¿qué necesito hacer para cambi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6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801800" y="69336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914400" y="2882160"/>
            <a:ext cx="79405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cción 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¿Podemos desarrolla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a confianza mutu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152280" y="575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CCESIBILIDA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Si estamos a gusto con nosotros mismos, otros se sentirán a gusto con nos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228600" y="2972880"/>
            <a:ext cx="5791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hay más grande regalo que podamos dar a los demás que hacerlos sentir cómodos. Los buenos líderes son seguros y no proyectan una imagen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«intocable»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ttp://www.standoutblogger.com/images/approachable.gif"/>
          <p:cNvPicPr/>
          <p:nvPr/>
        </p:nvPicPr>
        <p:blipFill>
          <a:blip r:embed="rId1"/>
          <a:stretch/>
        </p:blipFill>
        <p:spPr>
          <a:xfrm>
            <a:off x="6019920" y="2631960"/>
            <a:ext cx="2938320" cy="33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3"/>
          <p:cNvGrpSpPr/>
          <p:nvPr/>
        </p:nvGrpSpPr>
        <p:grpSpPr>
          <a:xfrm>
            <a:off x="1066680" y="0"/>
            <a:ext cx="6934320" cy="6693480"/>
            <a:chOff x="1066680" y="0"/>
            <a:chExt cx="6934320" cy="6693480"/>
          </a:xfrm>
        </p:grpSpPr>
        <p:pic>
          <p:nvPicPr>
            <p:cNvPr id="132" name="Picture 1" descr=""/>
            <p:cNvPicPr/>
            <p:nvPr/>
          </p:nvPicPr>
          <p:blipFill>
            <a:blip r:embed="rId1"/>
            <a:srcRect l="0" t="-1136" r="0" b="866"/>
            <a:stretch/>
          </p:blipFill>
          <p:spPr>
            <a:xfrm>
              <a:off x="1066680" y="0"/>
              <a:ext cx="6934320" cy="667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2"/>
            <p:cNvSpPr/>
            <p:nvPr/>
          </p:nvSpPr>
          <p:spPr>
            <a:xfrm>
              <a:off x="1066680" y="6172920"/>
              <a:ext cx="69343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Me siento un líder debe ser accesible.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0" y="402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ca y el siervo de Abraham (Gén. 24:1-6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ttp://www.biblebookofgenesis.com/Limages/Rebekah_meets_Abrahams_Servant.jpg"/>
          <p:cNvPicPr/>
          <p:nvPr/>
        </p:nvPicPr>
        <p:blipFill>
          <a:blip r:embed="rId1"/>
          <a:stretch/>
        </p:blipFill>
        <p:spPr>
          <a:xfrm>
            <a:off x="228600" y="2286000"/>
            <a:ext cx="3137040" cy="4076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"/>
          <p:cNvSpPr/>
          <p:nvPr/>
        </p:nvSpPr>
        <p:spPr>
          <a:xfrm>
            <a:off x="3576600" y="1676520"/>
            <a:ext cx="5567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raham le pidió a su siervo que le encontrara una esposa a Isaac. El siervo viajó a Mesopotamia así como Abraham le había mandado hacer, al llegar sentó a sus camellos afuera de la cuidad junto a un pozo de agua, cuando la tarde caía. Esperaba que las mujeres de la ciudad vinieran a sacar agua, y oró para que tuviera una respuesta favorable cuando le pidiera de beber a una de ellas. Cuando él, un total extraño, se acercó a Rebeca y le pidió agua para beber, ella le respondió con amabilidad y generos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0" y="402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ca y el siervo de Abraham (Gén. 24:1-6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ttp://www.biblebookofgenesis.com/Limages/Rebekah_meets_Abrahams_Servant.jpg"/>
          <p:cNvPicPr/>
          <p:nvPr/>
        </p:nvPicPr>
        <p:blipFill>
          <a:blip r:embed="rId1"/>
          <a:stretch/>
        </p:blipFill>
        <p:spPr>
          <a:xfrm>
            <a:off x="228600" y="2286000"/>
            <a:ext cx="3137040" cy="4076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"/>
          <p:cNvSpPr/>
          <p:nvPr/>
        </p:nvSpPr>
        <p:spPr>
          <a:xfrm>
            <a:off x="3657600" y="1676520"/>
            <a:ext cx="5486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é fácil hubiera sido para Rebeca ignorar la petición de agua de un extraño, o simplemente pudo haberle ofrecido una bebida con rapidez y haber continuado su camino. Sin embargo, ella le hizo conversación e hizo un esfuerzo extra al proveerle agua para su grupo de camellos sedientos. Como resultado de su accesibilidad, su vida cambió en una forma que jamás se hubiera podido imaginar; como esposa de Isaac, se convertiría en parte del linaje del Mesías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1012680" y="106920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374120" y="1906200"/>
            <a:ext cx="48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 usted accesi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295280" y="2682360"/>
            <a:ext cx="7239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us compañeros se sienten con la libertad de traerle malas noticias, de estar en desacuerdo con su punto de vista, o de cuestionar algo que usted hizo m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279800" y="5894280"/>
            <a:ext cx="58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Tiende a la volubilidad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228600" y="1591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 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INCHER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 prepararse para la batalla, cave un hoyo en el que también quepa un ami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04920" y="2007000"/>
            <a:ext cx="7924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frentamos muchas batallas en la vida, y las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«trincheras» en las cuales vivimos vienen en diferentes formas y tam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tos son lugares donde desarrollamos relaciones cercanas con los demás, y cuando la vida se dificulta, tenemo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os amigos que enfrentan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junto con nosotros eso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iempos difíc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ttp://www.kmod.org/images/clipart/Foxhole12.gif"/>
          <p:cNvPicPr/>
          <p:nvPr/>
        </p:nvPicPr>
        <p:blipFill>
          <a:blip r:embed="rId1"/>
          <a:srcRect l="7358" t="21844" r="55459" b="12711"/>
          <a:stretch/>
        </p:blipFill>
        <p:spPr>
          <a:xfrm>
            <a:off x="5477040" y="4800600"/>
            <a:ext cx="3493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127080" y="78480"/>
            <a:ext cx="8949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Hechos acerca de los amigos de trincher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37960" y="930960"/>
            <a:ext cx="44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pocos en núm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249120" y="1540440"/>
            <a:ext cx="70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Dan fuerzas antes y durante la bata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43720" y="2226240"/>
            <a:ext cx="795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Ven las cosas desde la misma perspecti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252720" y="2912040"/>
            <a:ext cx="73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Hacen una diferencia en nuestras v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245520" y="3597840"/>
            <a:ext cx="59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Nos aman incondicionalme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ttp://www.kmod.org/images/clipart/Foxhole12.gif"/>
          <p:cNvPicPr/>
          <p:nvPr/>
        </p:nvPicPr>
        <p:blipFill>
          <a:blip r:embed="rId1"/>
          <a:srcRect l="7358" t="21844" r="55459" b="12711"/>
          <a:stretch/>
        </p:blipFill>
        <p:spPr>
          <a:xfrm>
            <a:off x="5477040" y="4800600"/>
            <a:ext cx="3493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113760" y="4320"/>
            <a:ext cx="898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Pablo y Bernab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Hechos 9:26-2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632160" y="1328400"/>
            <a:ext cx="851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rnabé fue un amigo de trinchera por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33520" y="202104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yó en Pab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T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e alguien más lo hicie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4813200" y="3192840"/>
            <a:ext cx="425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PROB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l liderazgo de Pablo ante otros líde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888080" y="4958280"/>
            <a:ext cx="340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Ayudó a Pablo a alcanza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TENCI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0" y="3276720"/>
            <a:ext cx="460548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241280" y="122184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1752480" y="20642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oy un amigo del cual los demás dependen en tiempos difíc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1676520" y="38930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He estado en un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trinchera» con un amigo, un colega o con un miembro de la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1154880" y="122040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600200" y="18338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ado en estos cinco principios, ¿fomenta usted o reduce confianza en sus relacio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153800" y="392076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1600200" y="45644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qué relación necesita edificar la confianza? ¿Qué hará para fortalecer esa confianz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762120" y="6163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IMIEN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confianza es el fundamento de cualquier rel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"/>
          <p:cNvGrpSpPr/>
          <p:nvPr/>
        </p:nvGrpSpPr>
        <p:grpSpPr>
          <a:xfrm>
            <a:off x="1371600" y="3124080"/>
            <a:ext cx="6324480" cy="3529080"/>
            <a:chOff x="1371600" y="3124080"/>
            <a:chExt cx="6324480" cy="3529080"/>
          </a:xfrm>
        </p:grpSpPr>
        <p:pic>
          <p:nvPicPr>
            <p:cNvPr id="53" name="Picture 7" descr="ttp://cdn.grid.fotosearch.com/CSP/CSP991/k12375165.jpg"/>
            <p:cNvPicPr/>
            <p:nvPr/>
          </p:nvPicPr>
          <p:blipFill>
            <a:blip r:embed="rId1"/>
            <a:srcRect l="0" t="12774" r="0" b="12141"/>
            <a:stretch/>
          </p:blipFill>
          <p:spPr>
            <a:xfrm>
              <a:off x="1371600" y="3124080"/>
              <a:ext cx="6324480" cy="35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Rectangle 1" descr=""/>
            <p:cNvPicPr/>
            <p:nvPr/>
          </p:nvPicPr>
          <p:blipFill>
            <a:blip r:embed="rId2"/>
            <a:stretch/>
          </p:blipFill>
          <p:spPr>
            <a:xfrm>
              <a:off x="1854000" y="4508280"/>
              <a:ext cx="3949560" cy="1739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44520" y="328896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Image result for trust fall"/>
          <p:cNvPicPr/>
          <p:nvPr/>
        </p:nvPicPr>
        <p:blipFill>
          <a:blip r:embed="rId1"/>
          <a:stretch/>
        </p:blipFill>
        <p:spPr>
          <a:xfrm>
            <a:off x="838080" y="257040"/>
            <a:ext cx="7931160" cy="634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-208800" y="102960"/>
            <a:ext cx="88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atr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verdades acerca de la confian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7000" y="1588680"/>
            <a:ext cx="599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La confianza comienza co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O MISM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886200" y="4983480"/>
            <a:ext cx="504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La confianza no puede s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ARTIMENTAD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rcRect l="2003" t="0" r="11602" b="0"/>
          <a:stretch/>
        </p:blipFill>
        <p:spPr>
          <a:xfrm>
            <a:off x="6089760" y="1066680"/>
            <a:ext cx="2284200" cy="3171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ttp://www.careerealism.com/wp-content/uploads/2011/12/Several-Cabinets-Featured.png"/>
          <p:cNvPicPr/>
          <p:nvPr/>
        </p:nvPicPr>
        <p:blipFill>
          <a:blip r:embed="rId2"/>
          <a:srcRect l="18658" t="0" r="50" b="0"/>
          <a:stretch/>
        </p:blipFill>
        <p:spPr>
          <a:xfrm>
            <a:off x="66600" y="4238640"/>
            <a:ext cx="37339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-208800" y="102960"/>
            <a:ext cx="88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atro verdades acerca de la confian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-165240" y="1343160"/>
            <a:ext cx="709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a confianza funciona como u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UENTA DE BANC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382920" y="4727880"/>
            <a:ext cx="551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G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el fundamento de la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ttp://newyear.phillipmartin.info/personal_finances.gif"/>
          <p:cNvPicPr/>
          <p:nvPr/>
        </p:nvPicPr>
        <p:blipFill>
          <a:blip r:embed="rId1"/>
          <a:stretch/>
        </p:blipFill>
        <p:spPr>
          <a:xfrm>
            <a:off x="6553080" y="687240"/>
            <a:ext cx="2519640" cy="304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ttp://photos.gograph.com/thumbs/CSP/CSP991/k11740725.jpg"/>
          <p:cNvPicPr/>
          <p:nvPr/>
        </p:nvPicPr>
        <p:blipFill>
          <a:blip r:embed="rId2"/>
          <a:stretch/>
        </p:blipFill>
        <p:spPr>
          <a:xfrm>
            <a:off x="214200" y="3759120"/>
            <a:ext cx="265932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76320" y="781200"/>
            <a:ext cx="899136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 igual que Sansón, muchos líderes que están mermando el terreno de la confianza en sus relaciones y en su liderazgo, van a mostrar con frecuencia uno o más de los siguientes rasg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875240" y="3960"/>
            <a:ext cx="534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ansón (Jueces 13:1-16:3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6320" y="339264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llar en lidiar c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bilidades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ÁC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76320" y="453564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Usar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GAÑ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egerse a sí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76320" y="567864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ERAMEN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scontrol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ttp://static.comicvine.com/uploads/scale_small/11111/111118999/3113444-3751428663-samso.jpg"/>
          <p:cNvPicPr/>
          <p:nvPr/>
        </p:nvPicPr>
        <p:blipFill>
          <a:blip r:embed="rId1"/>
          <a:stretch/>
        </p:blipFill>
        <p:spPr>
          <a:xfrm>
            <a:off x="5867280" y="2743200"/>
            <a:ext cx="31053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1393560" y="114552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752480" y="236664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tán presentes en su vi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gunos de estos rasgo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752480" y="3727080"/>
            <a:ext cx="717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Qué medidas de correc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marí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76320" y="8136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permita que la situación importe más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la rel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711360" y="1620720"/>
            <a:ext cx="822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regla clave a segui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rmine siempre intentar valorar a la g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mero más que a las situaciones, programa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s, etc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ttp://gpfarah.com/gpfarahcom/wp-content/uploads/2014/05/hands-in-the-middle-2.jpg"/>
          <p:cNvPicPr/>
          <p:nvPr/>
        </p:nvPicPr>
        <p:blipFill>
          <a:blip r:embed="rId1"/>
          <a:stretch/>
        </p:blipFill>
        <p:spPr>
          <a:xfrm>
            <a:off x="2362320" y="3681360"/>
            <a:ext cx="38462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4T04:31:37Z</dcterms:created>
  <dc:creator>montecyr@yahoo.com</dc:creator>
  <dc:description/>
  <dc:language>en-US</dc:language>
  <cp:lastModifiedBy>Monte Cyr</cp:lastModifiedBy>
  <dcterms:modified xsi:type="dcterms:W3CDTF">2021-02-20T13:45:20Z</dcterms:modified>
  <cp:revision>16</cp:revision>
  <dc:subject/>
  <dc:title>PowerPoint Presentation</dc:title>
</cp:coreProperties>
</file>