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7.png" ContentType="image/png"/>
  <Override PartName="/ppt/media/image23.png" ContentType="image/png"/>
  <Override PartName="/ppt/media/image22.jpeg" ContentType="image/jpeg"/>
  <Override PartName="/ppt/media/image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29.jpeg" ContentType="image/jpeg"/>
  <Override PartName="/ppt/media/image13.png" ContentType="image/png"/>
  <Override PartName="/ppt/media/image12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6.jpeg" ContentType="image/jpeg"/>
  <Override PartName="/ppt/media/image2.jpeg" ContentType="image/jpeg"/>
  <Override PartName="/ppt/media/image14.jpeg" ContentType="image/jpeg"/>
  <Override PartName="/ppt/media/image15.jpeg" ContentType="image/jpeg"/>
  <Override PartName="/ppt/media/image16.png" ContentType="image/png"/>
  <Override PartName="/ppt/media/image17.jpeg" ContentType="image/jpeg"/>
  <Override PartName="/ppt/media/image18.jpeg" ContentType="image/jpeg"/>
  <Override PartName="/ppt/media/image19.png" ContentType="image/png"/>
  <Override PartName="/ppt/media/image20.jpeg" ContentType="image/jpeg"/>
  <Override PartName="/ppt/media/image2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0EF1-7ACB-4420-8E99-6186EC735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4E8C-C0D2-4E59-80BB-6B59043AE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40F4-D096-497D-BE00-19C693DCC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1C96-CD60-4CB2-B168-0FA783D4B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6E9E-7604-40C8-9C71-CEA06CB52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B562-AE47-4AF8-A5F5-4CF62F750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E6F1-0EF3-4938-90EB-1CB37E19C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AACA-6366-4494-9DC3-0ECBBB947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B34C-4EDA-4F6A-962B-FE0CFD649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79BC-FB34-48F4-AC80-168FFE0E6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3EDE-F8C1-4476-BF3E-E84C86814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8D6D-EDFC-4274-9560-91C019443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1FA8E-B526-4D84-AD40-0583F331E1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5"/>
          <p:cNvSpPr/>
          <p:nvPr/>
        </p:nvSpPr>
        <p:spPr>
          <a:xfrm>
            <a:off x="76320" y="157680"/>
            <a:ext cx="7230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El principio d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NTERCAMBI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En vez de poner a otros en su lugar, debemos ponernos nosotros en el lugar de ell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76320" y="1908360"/>
            <a:ext cx="883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udio de un caso bíblico: Abigail y el ejército de David (I Samuel 25:18-3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2514600" y="2975040"/>
            <a:ext cx="5105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Arial"/>
              <a:buAutoNum type="alphaL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 cabeza de un líder: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NTENDÍA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a las person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"/>
          <p:cNvSpPr/>
          <p:nvPr/>
        </p:nvSpPr>
        <p:spPr>
          <a:xfrm>
            <a:off x="1905120" y="4270680"/>
            <a:ext cx="452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. El corazón de un líder: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MAB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a las person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9"/>
          <p:cNvSpPr/>
          <p:nvPr/>
        </p:nvSpPr>
        <p:spPr>
          <a:xfrm>
            <a:off x="304920" y="5754960"/>
            <a:ext cx="5410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. La mano de un líder: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YUDAB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a las person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" descr=""/>
          <p:cNvPicPr/>
          <p:nvPr/>
        </p:nvPicPr>
        <p:blipFill>
          <a:blip r:embed="rId1"/>
          <a:stretch/>
        </p:blipFill>
        <p:spPr>
          <a:xfrm>
            <a:off x="7307280" y="12600"/>
            <a:ext cx="1828800" cy="1797120"/>
          </a:xfrm>
          <a:prstGeom prst="rect">
            <a:avLst/>
          </a:prstGeom>
          <a:ln w="0">
            <a:noFill/>
          </a:ln>
        </p:spPr>
      </p:pic>
      <p:sp>
        <p:nvSpPr>
          <p:cNvPr id="79" name="AutoShape 7"/>
          <p:cNvSpPr/>
          <p:nvPr/>
        </p:nvSpPr>
        <p:spPr>
          <a:xfrm>
            <a:off x="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9"/>
          <p:cNvSpPr/>
          <p:nvPr/>
        </p:nvSpPr>
        <p:spPr>
          <a:xfrm>
            <a:off x="152280" y="1522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11"/>
          <p:cNvSpPr/>
          <p:nvPr/>
        </p:nvSpPr>
        <p:spPr>
          <a:xfrm>
            <a:off x="304920" y="3049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3" descr="ttp://b-i.forbesimg.com/meghanbiro/files/2013/05/heart-of-a-coach5.jpeg"/>
          <p:cNvPicPr/>
          <p:nvPr/>
        </p:nvPicPr>
        <p:blipFill>
          <a:blip r:embed="rId2"/>
          <a:srcRect l="22472" t="1020" r="14913" b="20698"/>
          <a:stretch/>
        </p:blipFill>
        <p:spPr>
          <a:xfrm>
            <a:off x="228600" y="3417840"/>
            <a:ext cx="1657440" cy="22208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5" descr="ttp://www.cliparthut.com/clip-arts/1493/man-thinking-clip-art-1493316.png"/>
          <p:cNvPicPr/>
          <p:nvPr/>
        </p:nvPicPr>
        <p:blipFill>
          <a:blip r:embed="rId3"/>
          <a:stretch/>
        </p:blipFill>
        <p:spPr>
          <a:xfrm>
            <a:off x="7547040" y="2444760"/>
            <a:ext cx="1425600" cy="23004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7" descr="ttp://virginiasalvationarmy.org/hamptonva/files/2012/08/Helping-hand.jpg"/>
          <p:cNvPicPr/>
          <p:nvPr/>
        </p:nvPicPr>
        <p:blipFill>
          <a:blip r:embed="rId4"/>
          <a:stretch/>
        </p:blipFill>
        <p:spPr>
          <a:xfrm>
            <a:off x="5181480" y="5249880"/>
            <a:ext cx="1905120" cy="1581120"/>
          </a:xfrm>
          <a:prstGeom prst="rect">
            <a:avLst/>
          </a:prstGeom>
          <a:ln w="3168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5"/>
          <p:cNvSpPr/>
          <p:nvPr/>
        </p:nvSpPr>
        <p:spPr>
          <a:xfrm>
            <a:off x="1455840" y="55080"/>
            <a:ext cx="555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ómo practicar el principio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l intercambi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2133720" y="2049840"/>
            <a:ext cx="6858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je “su lugar” y visite “el lugar de ellos” para ver así su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UNTO DE VIS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3733920" y="3926160"/>
            <a:ext cx="2666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Examine su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CTITU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987640" y="5754960"/>
            <a:ext cx="5927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Pregúntele a otros qué harían ellos en su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ITUACIÓ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" descr=""/>
          <p:cNvPicPr/>
          <p:nvPr/>
        </p:nvPicPr>
        <p:blipFill>
          <a:blip r:embed="rId1"/>
          <a:stretch/>
        </p:blipFill>
        <p:spPr>
          <a:xfrm>
            <a:off x="7238880" y="108000"/>
            <a:ext cx="1828800" cy="17971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ttp://www.northcornwallclusterofchurches.org.uk/wp-content/uploads/2014/03/LPV-cartoon.jpg"/>
          <p:cNvPicPr/>
          <p:nvPr/>
        </p:nvPicPr>
        <p:blipFill>
          <a:blip r:embed="rId2"/>
          <a:srcRect l="5526" t="10141" r="7110" b="2821"/>
          <a:stretch/>
        </p:blipFill>
        <p:spPr>
          <a:xfrm>
            <a:off x="50760" y="1219320"/>
            <a:ext cx="1967040" cy="22381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8" descr="ttp://s3.amazonaws.com/rapgenius/1322715984_how-to-draw-gangster-spongebob.jpg"/>
          <p:cNvPicPr/>
          <p:nvPr/>
        </p:nvPicPr>
        <p:blipFill>
          <a:blip r:embed="rId3"/>
          <a:stretch/>
        </p:blipFill>
        <p:spPr>
          <a:xfrm>
            <a:off x="6553080" y="3200400"/>
            <a:ext cx="2362320" cy="23623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" descr=""/>
          <p:cNvPicPr/>
          <p:nvPr/>
        </p:nvPicPr>
        <p:blipFill>
          <a:blip r:embed="rId4"/>
          <a:stretch/>
        </p:blipFill>
        <p:spPr>
          <a:xfrm>
            <a:off x="152280" y="4452840"/>
            <a:ext cx="2722680" cy="22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0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5"/>
          <p:cNvSpPr/>
          <p:nvPr/>
        </p:nvSpPr>
        <p:spPr>
          <a:xfrm>
            <a:off x="1392120" y="1146240"/>
            <a:ext cx="406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Discusión: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6"/>
          <p:cNvSpPr/>
          <p:nvPr/>
        </p:nvSpPr>
        <p:spPr>
          <a:xfrm>
            <a:off x="1143000" y="2412000"/>
            <a:ext cx="754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Me esfuerzo por ver las cosa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esde el punto de vista de la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gent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5"/>
          <p:cNvSpPr/>
          <p:nvPr/>
        </p:nvSpPr>
        <p:spPr>
          <a:xfrm>
            <a:off x="152280" y="29520"/>
            <a:ext cx="8839440" cy="15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El principio d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PRENDIZAJ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da persona que conocemos tiene el potencial de enseñarnos alg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228600" y="1609920"/>
            <a:ext cx="87631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Los líderes eficientes nunca dejan de crecer.  Que continuemos aprendiendo o no, no tiene que ver con quién nos está enseñando, pero sí tiene mucho que ver con lo dóciles que somos para ser enseñados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" descr=""/>
          <p:cNvPicPr/>
          <p:nvPr/>
        </p:nvPicPr>
        <p:blipFill>
          <a:blip r:embed="rId1"/>
          <a:stretch/>
        </p:blipFill>
        <p:spPr>
          <a:xfrm>
            <a:off x="2209680" y="4114800"/>
            <a:ext cx="500076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0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5"/>
          <p:cNvSpPr/>
          <p:nvPr/>
        </p:nvSpPr>
        <p:spPr>
          <a:xfrm>
            <a:off x="1127520" y="79560"/>
            <a:ext cx="709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udio de un caso bíblico: Naamán y s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ervo (II Reyes 5:1-1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421200" y="1106640"/>
            <a:ext cx="7566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l punto es que no fue dócil ni educable, 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gual que muchos líderes hoy en día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1034640" y="2088360"/>
            <a:ext cx="613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aamán quería un cambio rápi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990720" y="2754360"/>
            <a:ext cx="61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aamán esperó un trato especi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9"/>
          <p:cNvSpPr/>
          <p:nvPr/>
        </p:nvSpPr>
        <p:spPr>
          <a:xfrm>
            <a:off x="1038960" y="3392640"/>
            <a:ext cx="7588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aamán tenía ciertas teorías acerca de la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lu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0"/>
          <p:cNvSpPr/>
          <p:nvPr/>
        </p:nvSpPr>
        <p:spPr>
          <a:xfrm>
            <a:off x="990720" y="445932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aamán se enojó al recibir un trato injust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990720" y="567864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aamán rechazó la solución al principi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" descr=""/>
          <p:cNvPicPr/>
          <p:nvPr/>
        </p:nvPicPr>
        <p:blipFill>
          <a:blip r:embed="rId1"/>
          <a:srcRect l="15074" t="2520" r="17948" b="4472"/>
          <a:stretch/>
        </p:blipFill>
        <p:spPr>
          <a:xfrm>
            <a:off x="5562720" y="4064040"/>
            <a:ext cx="3504960" cy="27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0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5"/>
          <p:cNvSpPr/>
          <p:nvPr/>
        </p:nvSpPr>
        <p:spPr>
          <a:xfrm>
            <a:off x="181440" y="117720"/>
            <a:ext cx="560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ómo aprender de otros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2447640" y="1037880"/>
            <a:ext cx="420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alore a l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GENTE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7"/>
          <p:cNvSpPr/>
          <p:nvPr/>
        </p:nvSpPr>
        <p:spPr>
          <a:xfrm>
            <a:off x="2895480" y="2673720"/>
            <a:ext cx="556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dentifique las caracterís-ticas únicas y la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FORTALEZAS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de la gent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8"/>
          <p:cNvSpPr/>
          <p:nvPr/>
        </p:nvSpPr>
        <p:spPr>
          <a:xfrm>
            <a:off x="3397320" y="5186160"/>
            <a:ext cx="3155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ag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REGUNTA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9" descr="ttp://images.clipartpanda.com/smiley-face-thumbs-up-Smiley-face-with-thumbs-up.jpg"/>
          <p:cNvPicPr/>
          <p:nvPr/>
        </p:nvPicPr>
        <p:blipFill>
          <a:blip r:embed="rId1"/>
          <a:stretch/>
        </p:blipFill>
        <p:spPr>
          <a:xfrm>
            <a:off x="6554880" y="531720"/>
            <a:ext cx="2208240" cy="19065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1" descr="ttp://www.talentinsights.com/wp-content/uploads/2014/12/Strength-Change.jpg"/>
          <p:cNvPicPr/>
          <p:nvPr/>
        </p:nvPicPr>
        <p:blipFill>
          <a:blip r:embed="rId2"/>
          <a:srcRect l="5661" t="-803" r="10249" b="3777"/>
          <a:stretch/>
        </p:blipFill>
        <p:spPr>
          <a:xfrm>
            <a:off x="304920" y="2103480"/>
            <a:ext cx="2377800" cy="27432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" descr=""/>
          <p:cNvPicPr/>
          <p:nvPr/>
        </p:nvPicPr>
        <p:blipFill>
          <a:blip r:embed="rId3"/>
          <a:stretch/>
        </p:blipFill>
        <p:spPr>
          <a:xfrm>
            <a:off x="6664320" y="4641840"/>
            <a:ext cx="2098800" cy="20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0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5"/>
          <p:cNvSpPr/>
          <p:nvPr/>
        </p:nvSpPr>
        <p:spPr>
          <a:xfrm>
            <a:off x="1316160" y="1175760"/>
            <a:ext cx="406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Discusión: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1828800" y="253404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Me acerco a la gente con el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eseo de aprender de ellas?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0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5"/>
          <p:cNvSpPr/>
          <p:nvPr/>
        </p:nvSpPr>
        <p:spPr>
          <a:xfrm>
            <a:off x="304920" y="449640"/>
            <a:ext cx="8305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El principio d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ARISM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 gente se interesa en la persona que se interesa en el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7" descr="ttp://2012books.lardbucket.org/books/a-primer-on-communication-studies/section_05/4b2a5b9106de73674acc95"/>
          <p:cNvPicPr/>
          <p:nvPr/>
        </p:nvPicPr>
        <p:blipFill>
          <a:blip r:embed="rId1"/>
          <a:stretch/>
        </p:blipFill>
        <p:spPr>
          <a:xfrm>
            <a:off x="4724280" y="2270160"/>
            <a:ext cx="3706920" cy="246996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1"/>
          <p:cNvSpPr/>
          <p:nvPr/>
        </p:nvSpPr>
        <p:spPr>
          <a:xfrm>
            <a:off x="50760" y="5181480"/>
            <a:ext cx="9040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las personas no les importa qué tanto sepa, hasta que saben lo mucho que le importan a usted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0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6"/>
          <p:cNvSpPr/>
          <p:nvPr/>
        </p:nvSpPr>
        <p:spPr>
          <a:xfrm>
            <a:off x="990720" y="213480"/>
            <a:ext cx="698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udio de un caso bíblico: Jonatá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76320" y="1171800"/>
            <a:ext cx="850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1.  Jonatán estaba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DISPONIBLE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y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CONFIABLE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76320" y="2222640"/>
            <a:ext cx="850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2.  Jonatán era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VULNERABLE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 y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RESPONSABLE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1" descr=""/>
          <p:cNvPicPr/>
          <p:nvPr/>
        </p:nvPicPr>
        <p:blipFill>
          <a:blip r:embed="rId1"/>
          <a:stretch/>
        </p:blipFill>
        <p:spPr>
          <a:xfrm>
            <a:off x="4572000" y="3346560"/>
            <a:ext cx="4398840" cy="32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0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5"/>
          <p:cNvSpPr/>
          <p:nvPr/>
        </p:nvSpPr>
        <p:spPr>
          <a:xfrm>
            <a:off x="152280" y="80640"/>
            <a:ext cx="65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ómo edificar su carism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76320" y="689040"/>
            <a:ext cx="5856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é verdaderamente interesado en otras person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8"/>
          <p:cNvSpPr/>
          <p:nvPr/>
        </p:nvSpPr>
        <p:spPr>
          <a:xfrm>
            <a:off x="2246760" y="2305080"/>
            <a:ext cx="350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nría a menud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2209680" y="3142080"/>
            <a:ext cx="4724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cuerde que el nombre de una persona es importante para ell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0"/>
          <p:cNvSpPr/>
          <p:nvPr/>
        </p:nvSpPr>
        <p:spPr>
          <a:xfrm>
            <a:off x="2177280" y="4914000"/>
            <a:ext cx="472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a un buen escuchad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1"/>
          <p:cNvSpPr/>
          <p:nvPr/>
        </p:nvSpPr>
        <p:spPr>
          <a:xfrm>
            <a:off x="1306440" y="5718240"/>
            <a:ext cx="6161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aga sentir sinceramente importantes a las otras person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" descr="ttp://www.cliparthut.com/clip-arts/20/effective-communication-clip-art-20367.png"/>
          <p:cNvPicPr/>
          <p:nvPr/>
        </p:nvPicPr>
        <p:blipFill>
          <a:blip r:embed="rId1"/>
          <a:stretch/>
        </p:blipFill>
        <p:spPr>
          <a:xfrm>
            <a:off x="5791320" y="279360"/>
            <a:ext cx="3278160" cy="1467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" descr="ttp://cache4.asset-cache.net/gc/165671537-cute-smiling-girl-grilling-on-a-barbecue-gettyimages.jpg?v=1&amp;c"/>
          <p:cNvPicPr/>
          <p:nvPr/>
        </p:nvPicPr>
        <p:blipFill>
          <a:blip r:embed="rId2"/>
          <a:srcRect l="41769" t="2311" r="11869" b="46676"/>
          <a:stretch/>
        </p:blipFill>
        <p:spPr>
          <a:xfrm>
            <a:off x="220680" y="1752480"/>
            <a:ext cx="1828800" cy="20113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" descr=""/>
          <p:cNvPicPr/>
          <p:nvPr/>
        </p:nvPicPr>
        <p:blipFill>
          <a:blip r:embed="rId3"/>
          <a:srcRect l="52312" t="1248" r="2690" b="68760"/>
          <a:stretch/>
        </p:blipFill>
        <p:spPr>
          <a:xfrm>
            <a:off x="6858000" y="2666880"/>
            <a:ext cx="2225520" cy="14828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ttp://blog.chron.com/careerrescue/files/2012/08/blog.listenkid0820.jpg"/>
          <p:cNvPicPr/>
          <p:nvPr/>
        </p:nvPicPr>
        <p:blipFill>
          <a:blip r:embed="rId4"/>
          <a:stretch/>
        </p:blipFill>
        <p:spPr>
          <a:xfrm>
            <a:off x="103320" y="4114800"/>
            <a:ext cx="2295360" cy="15303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0" descr="ttp://www.infobuild.co.za/wp-content/uploads/lift_up_celebration.png"/>
          <p:cNvPicPr/>
          <p:nvPr/>
        </p:nvPicPr>
        <p:blipFill>
          <a:blip r:embed="rId5"/>
          <a:stretch/>
        </p:blipFill>
        <p:spPr>
          <a:xfrm>
            <a:off x="6934320" y="4416480"/>
            <a:ext cx="2046240" cy="25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0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9 Imagen" descr="Fondo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7"/>
          <p:cNvSpPr/>
          <p:nvPr/>
        </p:nvSpPr>
        <p:spPr>
          <a:xfrm>
            <a:off x="1109520" y="3439440"/>
            <a:ext cx="820296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Lección 3: 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¿Estamos dispuestos a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enfocarnos en los demás?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1936800" y="1150560"/>
            <a:ext cx="6319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Cómo ganarse a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la gent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5"/>
          <p:cNvSpPr/>
          <p:nvPr/>
        </p:nvSpPr>
        <p:spPr>
          <a:xfrm>
            <a:off x="1244880" y="1297800"/>
            <a:ext cx="3800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iscusión: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6"/>
          <p:cNvSpPr/>
          <p:nvPr/>
        </p:nvSpPr>
        <p:spPr>
          <a:xfrm>
            <a:off x="1708200" y="2399040"/>
            <a:ext cx="6837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Usualmente me enfoco en l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más y en sus intereses, o 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nfoco en mí mism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nodeType="clickEffect" fill="hold">
                      <p:stCondLst>
                        <p:cond delay="0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5"/>
          <p:cNvSpPr/>
          <p:nvPr/>
        </p:nvSpPr>
        <p:spPr>
          <a:xfrm>
            <a:off x="188640" y="81360"/>
            <a:ext cx="7299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 El principio d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NÚMERO 10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eer lo mejor de la gente casi siemp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aca a relucir lo mejor de la g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4572000" y="2228040"/>
            <a:ext cx="43815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s personas generalmente responden a las expectativas que sienten que los líderes tienen de ella. Los líderes deben poner un número “10” imaginario en la frente de todo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Group 4"/>
          <p:cNvGrpSpPr/>
          <p:nvPr/>
        </p:nvGrpSpPr>
        <p:grpSpPr>
          <a:xfrm>
            <a:off x="152280" y="2057400"/>
            <a:ext cx="4191120" cy="4724280"/>
            <a:chOff x="152280" y="2057400"/>
            <a:chExt cx="4191120" cy="4724280"/>
          </a:xfrm>
        </p:grpSpPr>
        <p:pic>
          <p:nvPicPr>
            <p:cNvPr id="138" name="Picture 2" descr="ttp://images.clipartpanda.com/friendship-clipart-9Tpeeop8c.jpeg"/>
            <p:cNvPicPr/>
            <p:nvPr/>
          </p:nvPicPr>
          <p:blipFill>
            <a:blip r:embed="rId1"/>
            <a:srcRect l="16640" t="407" r="17312" b="1335"/>
            <a:stretch/>
          </p:blipFill>
          <p:spPr>
            <a:xfrm>
              <a:off x="152280" y="2061360"/>
              <a:ext cx="4191120" cy="4720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Picture 6" descr="ttp://www.clker.com/cliparts/y/2/P/1/q/r/pink-tilted-tiara-and-number-10-hi.png"/>
            <p:cNvPicPr/>
            <p:nvPr/>
          </p:nvPicPr>
          <p:blipFill>
            <a:blip r:embed="rId2"/>
            <a:stretch/>
          </p:blipFill>
          <p:spPr>
            <a:xfrm>
              <a:off x="2995200" y="2057400"/>
              <a:ext cx="730800" cy="666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nodeType="clickEffect" fill="hold">
                      <p:stCondLst>
                        <p:cond delay="0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8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6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9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5"/>
          <p:cNvSpPr/>
          <p:nvPr/>
        </p:nvSpPr>
        <p:spPr>
          <a:xfrm>
            <a:off x="451440" y="155880"/>
            <a:ext cx="8061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udio de un caso bíblico: Bernabé y Marc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Hechos 15:36-39; II Timoteo 4: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"/>
          <p:cNvSpPr/>
          <p:nvPr/>
        </p:nvSpPr>
        <p:spPr>
          <a:xfrm>
            <a:off x="0" y="1219320"/>
            <a:ext cx="9051840" cy="54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Bernabé era un gran líder en el Nuevo Testamento, de hecho su nombre significa: el hijo de consolación. Les daba su dinero, su tiempo, ánimo y creencias a los demás, aun cuando esas personas mostraran pequeñas señales de tener un gran potencial. Por ejemplo, Juan Marcos era un joven que andaba con Pablo y Bernabé en un viaje de misiones, pero debido al miedo y la inmadurez, Marcos se dio por vencido y regresó a casa. Pablo se rehusó a llevarlo en otro viaje, no quería darle a este hombre una segunda oportunidad. Sin embargo, Bernabé vio el potencial y tomó a Marcos bajo su tutela hasta que floreció. Años después, Pablo estaba en la prisión y se dio cuenta del valor de Juan Marcos, a tal punto que pidió que lo mandaran a la cárcel en que se encontraba para que le ayudara (II Timoteo 4:11). 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0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5"/>
          <p:cNvSpPr/>
          <p:nvPr/>
        </p:nvSpPr>
        <p:spPr>
          <a:xfrm>
            <a:off x="451440" y="155880"/>
            <a:ext cx="8061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udio de un caso bíblico: Bernabé y Marc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Hechos 15:36-39; II Timoteo 4: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6"/>
          <p:cNvSpPr/>
          <p:nvPr/>
        </p:nvSpPr>
        <p:spPr>
          <a:xfrm>
            <a:off x="660960" y="1495440"/>
            <a:ext cx="747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rnabé vio potencial que otros no veí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7"/>
          <p:cNvSpPr/>
          <p:nvPr/>
        </p:nvSpPr>
        <p:spPr>
          <a:xfrm>
            <a:off x="609480" y="2145600"/>
            <a:ext cx="7210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rnabé mostró gracia cuando o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tían que nadie la merecí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8"/>
          <p:cNvSpPr/>
          <p:nvPr/>
        </p:nvSpPr>
        <p:spPr>
          <a:xfrm>
            <a:off x="582480" y="3228840"/>
            <a:ext cx="4724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rnabé encontró oportunidades para que la gente experimentara resultados y éxit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ttp://childrenschapel.org/biblestories/graphics/002-paul-antioch-philippi300x225.jpg"/>
          <p:cNvPicPr/>
          <p:nvPr/>
        </p:nvPicPr>
        <p:blipFill>
          <a:blip r:embed="rId1"/>
          <a:srcRect l="13295" t="0" r="12794" b="0"/>
          <a:stretch/>
        </p:blipFill>
        <p:spPr>
          <a:xfrm>
            <a:off x="5486400" y="3178080"/>
            <a:ext cx="3565440" cy="36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nodeType="clickEffect" fill="hold">
                      <p:stCondLst>
                        <p:cond delay="0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5"/>
          <p:cNvSpPr/>
          <p:nvPr/>
        </p:nvSpPr>
        <p:spPr>
          <a:xfrm>
            <a:off x="68400" y="179280"/>
            <a:ext cx="907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dades acerca del principio del número 10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152280" y="993600"/>
            <a:ext cx="87631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Nuestra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DECEPCIÓN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en algunas personas no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deberían detenernos en creer en la gente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7"/>
          <p:cNvSpPr/>
          <p:nvPr/>
        </p:nvSpPr>
        <p:spPr>
          <a:xfrm>
            <a:off x="3579840" y="2444400"/>
            <a:ext cx="404172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Un corazón confiado está emocionalment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SALUDABLE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. No se convierta en un líder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desconfiad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8"/>
          <p:cNvSpPr/>
          <p:nvPr/>
        </p:nvSpPr>
        <p:spPr>
          <a:xfrm>
            <a:off x="152280" y="5064840"/>
            <a:ext cx="541044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Nos comportamos de acuerdo a nuestras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CREENCIAS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.  Cultive una fe saludable y un optimismo en los demá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2" descr="ttp://www.clipartbest.com/cliparts/4c9/KRA/4c9KRAgcE.gif"/>
          <p:cNvPicPr/>
          <p:nvPr/>
        </p:nvPicPr>
        <p:blipFill>
          <a:blip r:embed="rId1"/>
          <a:stretch/>
        </p:blipFill>
        <p:spPr>
          <a:xfrm>
            <a:off x="7772400" y="762120"/>
            <a:ext cx="1295280" cy="22096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" descr=""/>
          <p:cNvPicPr/>
          <p:nvPr/>
        </p:nvPicPr>
        <p:blipFill>
          <a:blip r:embed="rId2"/>
          <a:stretch/>
        </p:blipFill>
        <p:spPr>
          <a:xfrm>
            <a:off x="228600" y="2111400"/>
            <a:ext cx="3200400" cy="27399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" descr=""/>
          <p:cNvPicPr/>
          <p:nvPr/>
        </p:nvPicPr>
        <p:blipFill>
          <a:blip r:embed="rId3"/>
          <a:stretch/>
        </p:blipFill>
        <p:spPr>
          <a:xfrm>
            <a:off x="5537160" y="4854600"/>
            <a:ext cx="3073320" cy="19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nodeType="clickEffect" fill="hold">
                      <p:stCondLst>
                        <p:cond delay="0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2"/>
          <p:cNvSpPr/>
          <p:nvPr/>
        </p:nvSpPr>
        <p:spPr>
          <a:xfrm>
            <a:off x="533520" y="533520"/>
            <a:ext cx="81532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«Trate a un hombre como aparenta ser y lo hará peor persona. Pero trate a un hombre como si ya fuera lo que potencialmente puede llegar a ser, y lo hará el hombre que debiese ser».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ohann Wolfgang Von Goet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5"/>
          <p:cNvSpPr/>
          <p:nvPr/>
        </p:nvSpPr>
        <p:spPr>
          <a:xfrm>
            <a:off x="1315080" y="1175760"/>
            <a:ext cx="3876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Discusión: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6"/>
          <p:cNvSpPr/>
          <p:nvPr/>
        </p:nvSpPr>
        <p:spPr>
          <a:xfrm>
            <a:off x="1970640" y="2815560"/>
            <a:ext cx="70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Creo lo mejor de los demá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nodeType="clickEffect" fill="hold">
                      <p:stCondLst>
                        <p:cond delay="0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04920" y="588600"/>
            <a:ext cx="8610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. El principio de l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ONFRONTACIÓ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resarse en las personas debe prece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confrontarl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2" descr="ttp://www.mccaonline.com/wp-content/uploads/Intervention.jpg"/>
          <p:cNvPicPr/>
          <p:nvPr/>
        </p:nvPicPr>
        <p:blipFill>
          <a:blip r:embed="rId1"/>
          <a:stretch/>
        </p:blipFill>
        <p:spPr>
          <a:xfrm>
            <a:off x="1585800" y="3048120"/>
            <a:ext cx="6034320" cy="35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nodeType="clickEffect" fill="hold">
                      <p:stCondLst>
                        <p:cond delay="0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1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6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9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6"/>
          <p:cNvSpPr/>
          <p:nvPr/>
        </p:nvSpPr>
        <p:spPr>
          <a:xfrm>
            <a:off x="-22320" y="777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udio de un caso bíblico: Natán y David (II Sam 1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152280" y="2144520"/>
            <a:ext cx="88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tán había estado escuchando de Di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8"/>
          <p:cNvSpPr/>
          <p:nvPr/>
        </p:nvSpPr>
        <p:spPr>
          <a:xfrm>
            <a:off x="152280" y="2754360"/>
            <a:ext cx="88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Natán conocía las circunstancias de Davi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" descr=""/>
          <p:cNvPicPr/>
          <p:nvPr/>
        </p:nvPicPr>
        <p:blipFill>
          <a:blip r:embed="rId1"/>
          <a:stretch/>
        </p:blipFill>
        <p:spPr>
          <a:xfrm>
            <a:off x="152280" y="3392640"/>
            <a:ext cx="3657600" cy="346536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5"/>
          <p:cNvSpPr/>
          <p:nvPr/>
        </p:nvSpPr>
        <p:spPr>
          <a:xfrm>
            <a:off x="4191120" y="3316320"/>
            <a:ext cx="4784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 Natán fue objetivo en su perspectiva (v.7-8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6"/>
          <p:cNvSpPr/>
          <p:nvPr/>
        </p:nvSpPr>
        <p:spPr>
          <a:xfrm>
            <a:off x="4114800" y="445932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 Natán comprendía la raíz del asunto (v.9-12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4114800" y="5478840"/>
            <a:ext cx="4937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 Natán vio la causa y el efecto máximo del pecado de David (v.14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42840" y="700920"/>
            <a:ext cx="90788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Aprendemos lo siguiente del profeta Natán mientras confrontaba al rey David después de que hubiera pecado con Betsabé: 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nodeType="clickEffect" fill="hold">
                      <p:stCondLst>
                        <p:cond delay="0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5"/>
          <p:cNvSpPr/>
          <p:nvPr/>
        </p:nvSpPr>
        <p:spPr>
          <a:xfrm>
            <a:off x="184320" y="306000"/>
            <a:ext cx="758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pa para la confrontación saludab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52440" y="1161720"/>
            <a:ext cx="8903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ronte a las personas con el cariño qu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e tiene, mostrando su interés por ell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7"/>
          <p:cNvSpPr/>
          <p:nvPr/>
        </p:nvSpPr>
        <p:spPr>
          <a:xfrm>
            <a:off x="304920" y="2487240"/>
            <a:ext cx="7800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sque primero el entendimiento, n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cesariamente estar de acuerdo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304920" y="3803400"/>
            <a:ext cx="45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erden un plan de ac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2" descr=""/>
          <p:cNvPicPr/>
          <p:nvPr/>
        </p:nvPicPr>
        <p:blipFill>
          <a:blip r:embed="rId1"/>
          <a:stretch/>
        </p:blipFill>
        <p:spPr>
          <a:xfrm>
            <a:off x="5246640" y="3809880"/>
            <a:ext cx="3821040" cy="29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nodeType="clickEffect" fill="hold">
                      <p:stCondLst>
                        <p:cond delay="0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5"/>
          <p:cNvSpPr/>
          <p:nvPr/>
        </p:nvSpPr>
        <p:spPr>
          <a:xfrm>
            <a:off x="214200" y="201960"/>
            <a:ext cx="8701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is principios sociales que responden la pregunta de la relación: ¿ESTAMOS DISPUESTOS A ENFOCARNOS EN LOS DEMÁ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228600" y="1753920"/>
            <a:ext cx="75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. El principio de l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ERSPECTIVA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0" y="3516840"/>
            <a:ext cx="48909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da la población, con una pequeña excepción, está compuesta por los demás seres human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" descr=""/>
          <p:cNvPicPr/>
          <p:nvPr/>
        </p:nvPicPr>
        <p:blipFill>
          <a:blip r:embed="rId1"/>
          <a:srcRect l="7728" t="11849" r="8902" b="11358"/>
          <a:stretch/>
        </p:blipFill>
        <p:spPr>
          <a:xfrm>
            <a:off x="4952880" y="2700360"/>
            <a:ext cx="405288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5"/>
          <p:cNvSpPr/>
          <p:nvPr/>
        </p:nvSpPr>
        <p:spPr>
          <a:xfrm>
            <a:off x="1396080" y="1221840"/>
            <a:ext cx="3630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iscusión: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6"/>
          <p:cNvSpPr/>
          <p:nvPr/>
        </p:nvSpPr>
        <p:spPr>
          <a:xfrm>
            <a:off x="1143000" y="235548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Me importa lo suficiente como pa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rontar de la manera correc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nodeType="clickEffect" fill="hold">
                      <p:stCondLst>
                        <p:cond delay="0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6"/>
          <p:cNvSpPr/>
          <p:nvPr/>
        </p:nvSpPr>
        <p:spPr>
          <a:xfrm>
            <a:off x="9360" y="533520"/>
            <a:ext cx="9058320" cy="15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l principio de la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ERSPECTIVA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: Toda la población, con una pequeña excepción, está compuesta por los demás seres human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162000" y="0"/>
            <a:ext cx="9058320" cy="6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incipios de Conne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76320" y="1862640"/>
            <a:ext cx="89913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2. El principio del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INTERCAMBI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: Debemos ponernos nosotros en el lugar de otr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152280" y="2813760"/>
            <a:ext cx="89154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3. El principio del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PRENDIZAJE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: Cada persona que conocemos tiene el potencial de enseñarnos alg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76320" y="3846600"/>
            <a:ext cx="8915400" cy="9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4. El principio del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CARISMA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: La gente se interesa en la persona que se interesa en ell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152280" y="4821120"/>
            <a:ext cx="90680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5. El principio del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NÚMERO 10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: Creer lo mejor de la gente casi siempre saca a relucir lo mejor de la gent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5"/>
          <p:cNvSpPr/>
          <p:nvPr/>
        </p:nvSpPr>
        <p:spPr>
          <a:xfrm>
            <a:off x="76320" y="5901480"/>
            <a:ext cx="86104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6. El principio de la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CONFRONTACIÓN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: Interesarse en las personas debe preceder a confrontarl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nodeType="clickEffect" fill="hold">
                      <p:stCondLst>
                        <p:cond delay="0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5"/>
          <p:cNvSpPr/>
          <p:nvPr/>
        </p:nvSpPr>
        <p:spPr>
          <a:xfrm>
            <a:off x="1079280" y="1068120"/>
            <a:ext cx="268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valuación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6"/>
          <p:cNvSpPr/>
          <p:nvPr/>
        </p:nvSpPr>
        <p:spPr>
          <a:xfrm>
            <a:off x="1870920" y="1757880"/>
            <a:ext cx="6906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¿Cuál de estos principios relacion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actica mejor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¿En cuál es usted más débi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7"/>
          <p:cNvSpPr/>
          <p:nvPr/>
        </p:nvSpPr>
        <p:spPr>
          <a:xfrm>
            <a:off x="990720" y="3677400"/>
            <a:ext cx="290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plicación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8"/>
          <p:cNvSpPr/>
          <p:nvPr/>
        </p:nvSpPr>
        <p:spPr>
          <a:xfrm>
            <a:off x="1752480" y="4383360"/>
            <a:ext cx="711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criba el paso que debería tomar par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jorar su relación con los demá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nodeType="clickEffect" fill="hold">
                      <p:stCondLst>
                        <p:cond delay="0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8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1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6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6"/>
          <p:cNvSpPr/>
          <p:nvPr/>
        </p:nvSpPr>
        <p:spPr>
          <a:xfrm>
            <a:off x="1295280" y="617400"/>
            <a:ext cx="6553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LAS RESPUESTAS ESTÁN EN EL FIN DEL LIBR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6"/>
          <p:cNvSpPr/>
          <p:nvPr/>
        </p:nvSpPr>
        <p:spPr>
          <a:xfrm>
            <a:off x="344520" y="3288960"/>
            <a:ext cx="8454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PREGUNTAS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O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COMENTARI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5"/>
          <p:cNvSpPr/>
          <p:nvPr/>
        </p:nvSpPr>
        <p:spPr>
          <a:xfrm>
            <a:off x="152280" y="15480"/>
            <a:ext cx="8839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la mayoría de la gente, incluyendo a los líderes, les resulta difícil vivir más allá de su mundo pequeñ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ra romper el molde, los líderes deben reunir tres recurs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147960" y="3303360"/>
            <a:ext cx="361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AutoNum type="alphaL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ERSPECTIVA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164880" y="4294080"/>
            <a:ext cx="280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.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MADUREZ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99440" y="5437080"/>
            <a:ext cx="467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.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RESPONSABILIDA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4900680" y="2995560"/>
            <a:ext cx="4240080" cy="36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5"/>
          <p:cNvSpPr/>
          <p:nvPr/>
        </p:nvSpPr>
        <p:spPr>
          <a:xfrm>
            <a:off x="111600" y="4320"/>
            <a:ext cx="8692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studio de un caso bíblico: Nabudocono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y el imperio babilónico (Daniel 4:1-37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"/>
          <p:cNvSpPr/>
          <p:nvPr/>
        </p:nvSpPr>
        <p:spPr>
          <a:xfrm>
            <a:off x="76320" y="1143000"/>
            <a:ext cx="9144000" cy="54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Una ilustración clásica de un líder que falló en practicar este principio, es el rey Nabucodonosor. Después de que su ejército capturó a los ciudadanos de Israel, este rey escogió a los mejores jóvenes israelitas y comenzó a presionarlos para que cedieran a lo que él deseara. De hecho, la población entera de Babilonia se volvió arrogante y presuntuosa, reinaron esa porción del mundo por mucho años. El rey Nabucodonosor mostró ser uno de los reyes más arrogantes de la historia y Dios tuvo que tratar con él de la manera más inusual, lo llevó de su posición de rey a vivir como un animal en el campo. Permaneció allí hasta que reconoció completamente a Dios como el gobernante supremo del mundo. Tuvo que aprender a someterse, a renunciar a tener el control y volverse dócil. En Daniel 4:36-37, el rey Nabucodonosor fue un líder diferente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5"/>
          <p:cNvSpPr/>
          <p:nvPr/>
        </p:nvSpPr>
        <p:spPr>
          <a:xfrm>
            <a:off x="111600" y="4320"/>
            <a:ext cx="8692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studio de un caso bíblico: Nabudocono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y el imperio babilónico (Daniel 4:1-37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374040" y="1146240"/>
            <a:ext cx="7352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e cómo desarrolló una perspectiva 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uadro completo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318240" y="2287440"/>
            <a:ext cx="450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labras d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GRATIT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8"/>
          <p:cNvSpPr/>
          <p:nvPr/>
        </p:nvSpPr>
        <p:spPr>
          <a:xfrm>
            <a:off x="316080" y="2897280"/>
            <a:ext cx="377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Perspectiv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ÓC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9"/>
          <p:cNvSpPr/>
          <p:nvPr/>
        </p:nvSpPr>
        <p:spPr>
          <a:xfrm>
            <a:off x="354600" y="3446280"/>
            <a:ext cx="371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Corazón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HUMIL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9" descr="ttp://hispresenceonline.org/wp-content/uploads/2015/03/1-NEBUCHADNEZZAR-720x340.jpg"/>
          <p:cNvPicPr/>
          <p:nvPr/>
        </p:nvPicPr>
        <p:blipFill>
          <a:blip r:embed="rId1"/>
          <a:stretch/>
        </p:blipFill>
        <p:spPr>
          <a:xfrm>
            <a:off x="3505320" y="4119480"/>
            <a:ext cx="5638680" cy="26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5"/>
          <p:cNvSpPr/>
          <p:nvPr/>
        </p:nvSpPr>
        <p:spPr>
          <a:xfrm>
            <a:off x="1091160" y="1297800"/>
            <a:ext cx="3630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iscusión: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1478520" y="2507760"/>
            <a:ext cx="6936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Me cuesta trabajo poner a otr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imero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5"/>
          <p:cNvSpPr/>
          <p:nvPr/>
        </p:nvSpPr>
        <p:spPr>
          <a:xfrm>
            <a:off x="76320" y="157680"/>
            <a:ext cx="7230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El principio d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NTERCAMBI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En vez de poner a otros en su lugar, debemos ponernos nosotros en el lugar de ell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" descr=""/>
          <p:cNvPicPr/>
          <p:nvPr/>
        </p:nvPicPr>
        <p:blipFill>
          <a:blip r:embed="rId1"/>
          <a:stretch/>
        </p:blipFill>
        <p:spPr>
          <a:xfrm>
            <a:off x="7307280" y="12600"/>
            <a:ext cx="1828800" cy="1797120"/>
          </a:xfrm>
          <a:prstGeom prst="rect">
            <a:avLst/>
          </a:prstGeom>
          <a:ln w="0">
            <a:noFill/>
          </a:ln>
        </p:spPr>
      </p:pic>
      <p:sp>
        <p:nvSpPr>
          <p:cNvPr id="65" name="AutoShape 7"/>
          <p:cNvSpPr/>
          <p:nvPr/>
        </p:nvSpPr>
        <p:spPr>
          <a:xfrm>
            <a:off x="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9"/>
          <p:cNvSpPr/>
          <p:nvPr/>
        </p:nvSpPr>
        <p:spPr>
          <a:xfrm>
            <a:off x="152280" y="1522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11"/>
          <p:cNvSpPr/>
          <p:nvPr/>
        </p:nvSpPr>
        <p:spPr>
          <a:xfrm>
            <a:off x="304920" y="3049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"/>
          <p:cNvSpPr/>
          <p:nvPr/>
        </p:nvSpPr>
        <p:spPr>
          <a:xfrm>
            <a:off x="144360" y="1962000"/>
            <a:ext cx="8991720" cy="46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l éxito puede traer muchas cosas: poder, prestigio, fama y riqueza. Tristemente así como los líderes ascienden a su posición, se olvidan del lugar de dónde vinieron. Al viajar por el mundo, nuestro equipo de EQUIP ha observado que muchos líderes abusan de aquellos que están a su cargo, por lo que el liderazgo se convierte en una travesía de poder. Tanto es así que entre más pobreza haya en un país, más abuso, y esto no es un modelo bíblico de liderazgo.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AutoShape 7"/>
          <p:cNvSpPr/>
          <p:nvPr/>
        </p:nvSpPr>
        <p:spPr>
          <a:xfrm>
            <a:off x="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9"/>
          <p:cNvSpPr/>
          <p:nvPr/>
        </p:nvSpPr>
        <p:spPr>
          <a:xfrm>
            <a:off x="152280" y="1522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11"/>
          <p:cNvSpPr/>
          <p:nvPr/>
        </p:nvSpPr>
        <p:spPr>
          <a:xfrm>
            <a:off x="304920" y="3049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"/>
          <p:cNvSpPr/>
          <p:nvPr/>
        </p:nvSpPr>
        <p:spPr>
          <a:xfrm>
            <a:off x="152280" y="152280"/>
            <a:ext cx="899172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sús, el líder supremo, nació en un establo, y jamás sintió que fuera demasiado importante como para servir a los pobres o discapacitados; de hecho, frecuentemente comía con las personas de clase más baja en la sociedad. A pesar de ser el líder perfecto, su meta no era poner a las personas en su lugar, recordándoles lo imperfectas que eran; por el contrario, se puso en su lugar, caminó por donde ellos caminaron, interactuó con ellos en su lenguaje cotidiano y sufrió lo que ellos sufrieron (Hebreos 4:15). ¿Por qué los líderes fallan en practicar esto? Es sencillo, por naturaleza no nos vemos a nosotros mismos y a los demás desde la misma perspectiva; cuando fallamos en ver las cosas desde la perspectiva de los demás, fallamos en nuestras relaciones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20T00:41:50Z</dcterms:created>
  <dc:creator>montecyr@yahoo.com</dc:creator>
  <dc:description/>
  <dc:language>en-US</dc:language>
  <cp:lastModifiedBy>Monte Cyr</cp:lastModifiedBy>
  <dcterms:modified xsi:type="dcterms:W3CDTF">2021-02-19T21:20:20Z</dcterms:modified>
  <cp:revision>16</cp:revision>
  <dc:subject/>
  <dc:title>PowerPoint Presentation</dc:title>
</cp:coreProperties>
</file>