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E9A-FA13-491E-ABD5-B5D91FCE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4BE9-78C3-4FAF-AFC7-725C580C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2805-8950-465A-B2D6-A952B46F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1A9-2B3E-40C1-87A9-3B9609BF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120-7049-444F-941D-E2C6C346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86D4-207D-4172-B963-25218308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858C-4FF9-4D38-8241-FAD59C07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21B-304A-4727-B8B3-8460C08D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A6E-AB51-4F44-82AD-2CB5D582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DB4-57BC-437B-B3D8-7978AAFD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CB6B-FD4C-47DE-AD20-A691E800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DF34-C1F1-4559-BCD7-A47E94A5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E28B-0B43-4E22-B556-0ACB71AF8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981080"/>
            <a:ext cx="8839080" cy="4648320"/>
            <a:chOff x="304920" y="1981080"/>
            <a:chExt cx="8839080" cy="4648320"/>
          </a:xfrm>
        </p:grpSpPr>
        <p:sp>
          <p:nvSpPr>
            <p:cNvPr id="42" name=""/>
            <p:cNvSpPr/>
            <p:nvPr/>
          </p:nvSpPr>
          <p:spPr>
            <a:xfrm>
              <a:off x="304920" y="1981080"/>
              <a:ext cx="8839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Usando el Cubo Evangelístico</a:t>
              </a:r>
              <a:r>
                <a:rPr b="1" lang="es-MX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 para Guiar a una Persona a Jesucristo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3244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mpreso por el Ministerio de la Película JESUS Harvest Partners de la Iglesia del Nazareno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l Cubo Evangelístico y los gráficos usados  por permiso de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9312120" cy="6858000"/>
            <a:chOff x="-15840" y="0"/>
            <a:chExt cx="931212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0"/>
              <a:ext cx="5943600" cy="68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REE en Jesú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o tu Salv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Romanos 10:9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castigo del pecado es muerte, mas la vida eterna por medio de Jesús es un regalo gratuit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salvación es un regalo de Dios a la persona que pone su fe en Jesú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2: 8-9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¿Qué elegirás? ¿Confiarás en Jesucristo para el perdón y para tener vida eterna? ¿O rechazarás a Jesucristo y sufrirás el castigo eterno?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Pregunte: “¿Quieres confiar en Jesús ahora mismo para ser tu Salvador?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la respuesta es “sí”, continúe con este proceso. De otro modo, revise los conceptos apropriados de arriba para contestar las preguntas que la persona t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381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Oración del Pe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os, gracias por am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he pecado cont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o que tu Hijo, Jesús, murió en la cruz para pagar por mis pecados y que lo resucitaste de la mu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ngo mi fe en Jesús por el perdón de mis pecado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Jesús es mi Sal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cias por tu regalo de la vida e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o en el nombre de Jesús. Amé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Llegaste a ser HI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e Dios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1:1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llegaste a ser un hij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ayudará a fortelecer nuestra relación con Jesucrist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Vive cada día en la luz de Dios y gózate de la bendición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HAS PASADO de l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muerte a la vid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5:24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pasaste de la muerte a l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-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Jesús resucitado nos d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álata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vida que da Jesús es abundante y eternal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380160"/>
            <a:ext cx="8800920" cy="5563440"/>
            <a:chOff x="343080" y="380160"/>
            <a:chExt cx="8800920" cy="5563440"/>
          </a:xfrm>
        </p:grpSpPr>
        <p:sp>
          <p:nvSpPr>
            <p:cNvPr id="81" name=""/>
            <p:cNvSpPr/>
            <p:nvPr/>
          </p:nvSpPr>
          <p:spPr>
            <a:xfrm>
              <a:off x="343080" y="380160"/>
              <a:ext cx="8800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Pasos para los Nuevos Discípulos de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1972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1448640"/>
              <a:ext cx="3772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el Cubo Evangelístico está en la primera posición, esta imagen está en el lado opuesto. Úselo para ayudar al nuevo creyente crecer en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943600"/>
            <a:chOff x="228600" y="457200"/>
            <a:chExt cx="8763120" cy="5943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600" y="457200"/>
              <a:ext cx="41911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MA a Dios y a toda la gente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Mateo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Respondemos al amor de Dios por nosotros amándole a El y a todos los demá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7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ESTUDIA la Biblia cada día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omanos 15:4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Biblia nos dice cómo Dios quiere que vivam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Timoteo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533520"/>
              <a:ext cx="4267080" cy="49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ORA a Dios continuamente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Filipenses 4:6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quiere tener conversación constante con nosotr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Tesalonicense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Habla con Dios acerca de los gozos y las preocupacione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6:18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04920"/>
            <a:ext cx="8763120" cy="6097320"/>
            <a:chOff x="228600" y="304920"/>
            <a:chExt cx="8763120" cy="6097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304920"/>
              <a:ext cx="4114800" cy="42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REÚNETE regularmente con otros cristian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Hebreos 10:25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presencia de Jesús es evidente especialmente cuando los creyentes están junt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18: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457200"/>
            <a:ext cx="8991720" cy="5943600"/>
            <a:chOff x="152280" y="457200"/>
            <a:chExt cx="8991720" cy="5943600"/>
          </a:xfrm>
        </p:grpSpPr>
        <p:sp>
          <p:nvSpPr>
            <p:cNvPr id="45" name=""/>
            <p:cNvSpPr/>
            <p:nvPr/>
          </p:nvSpPr>
          <p:spPr>
            <a:xfrm>
              <a:off x="4343400" y="457200"/>
              <a:ext cx="4800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te am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3:16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luz representa a Di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s perfecto y sin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Salmo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nos ama!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 quiere que nos perdamos sino que tengamos vida eter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382680"/>
            <a:ext cx="8915400" cy="6475320"/>
            <a:chOff x="228600" y="382680"/>
            <a:chExt cx="8915400" cy="647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52880" y="382680"/>
              <a:ext cx="4191120" cy="64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PARTE las Buenas Nuevas de Jesús con otr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1 Pedro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3:15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tés siempre listo para compartir las Buenas Nuevas de Jesús con otros.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yuda a difundir el mensaje de Jesús por todo el mun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19-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457200"/>
            <a:ext cx="8839440" cy="5476680"/>
            <a:chOff x="152280" y="457200"/>
            <a:chExt cx="8839440" cy="54766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43400" y="457200"/>
              <a:ext cx="4648320" cy="54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 eres pec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3:23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figura representa a cada perso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obscuridad representa nuestro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es transgresión voluntaria de la ley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nos separa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9: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43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US murió p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s pecad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5:8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s amó tanto que envió a Jesús al mundo en forma de homb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nos amó tanto que El pagó el precio por nuestros pecad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3:1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733080"/>
            <a:chOff x="0" y="0"/>
            <a:chExt cx="9144000" cy="67330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fue SEPULTADO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</a:t>
              </a: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os hombres sepultaron a Jesús en una tumb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593760"/>
            <a:chOff x="0" y="0"/>
            <a:chExt cx="9144000" cy="65937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los pusieron una enorme piedra para cerrar el sepulcr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Soldados lo vigilaba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5-6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228600"/>
            <a:ext cx="8991720" cy="6462360"/>
            <a:chOff x="0" y="228600"/>
            <a:chExt cx="8991720" cy="6462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04920"/>
              <a:ext cx="5105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RESUCIT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 Jesú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228600"/>
              <a:ext cx="4419720" cy="64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nvió a un ángel para remover la gran piedra y los soldados huyero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 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resucitó a Jesús de la muerte!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co después, Dios llevó a Jesús de regreso al ciel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Lucas 24: 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pagó el precio por nuestro pecado y venció la muert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5:3-4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8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r>
                <a:rPr b="0" lang="es-MX" sz="3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Juan 14:6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es el único camino por el cual podemos llegar a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r medio de Jesús podemos tener perdón de nuestros pecados y estar con Dios por siemp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Conocer estas verdades no es suficiente! Debemos poner nuestra fe en Jesús, y confiar en Jesús para salvarnos del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5:1-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4:0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4693547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Spanish E-cube PPT</vt:lpwstr>
  </property>
</Properties>
</file>