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146F-65EF-45FB-B3E7-0EC52DE2B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DA86-C1D6-448E-BD9E-18CDFC97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42C1-FA58-47BD-8527-6009D7032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05D2-C2DB-493C-9B1A-E5AC48973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5B0C-06AA-4A66-B762-4F931C55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B987-12E2-4417-ABCD-E62CC3AB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3FFA-78A8-465F-A6BE-FC5AE03B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D42E-ACC0-43B8-83AF-B5967026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846B-AF01-4C1F-9A21-DA88AA47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CB50-33F7-4416-B8DD-79841C35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2A38-01D5-4062-9409-F4962AE4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517F-9E14-4D31-9495-D39016AE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4D16-C30B-42CA-963C-B6C8A728F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1981080"/>
            <a:ext cx="8839080" cy="4648320"/>
            <a:chOff x="304920" y="1981080"/>
            <a:chExt cx="8839080" cy="4648320"/>
          </a:xfrm>
        </p:grpSpPr>
        <p:sp>
          <p:nvSpPr>
            <p:cNvPr id="42" name=""/>
            <p:cNvSpPr/>
            <p:nvPr/>
          </p:nvSpPr>
          <p:spPr>
            <a:xfrm>
              <a:off x="304920" y="1981080"/>
              <a:ext cx="883908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4800" spc="-1" strike="noStrike">
                  <a:solidFill>
                    <a:srgbClr val="000099"/>
                  </a:solidFill>
                  <a:latin typeface="Arial"/>
                </a:rPr>
                <a:t>Usando el Cubo Evangelístico</a:t>
              </a:r>
              <a:r>
                <a:rPr b="1" lang="es-MX" sz="1800" spc="-1" strike="noStrike">
                  <a:solidFill>
                    <a:srgbClr val="000099"/>
                  </a:solidFill>
                  <a:latin typeface="Arial"/>
                </a:rPr>
                <a:t>™</a:t>
              </a:r>
              <a:r>
                <a:rPr b="1" lang="es-MX" sz="4800" spc="-1" strike="noStrike">
                  <a:solidFill>
                    <a:srgbClr val="000099"/>
                  </a:solidFill>
                  <a:latin typeface="Arial"/>
                </a:rPr>
                <a:t> para Guiar a una Persona a Jesucristo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105520" y="6324480"/>
              <a:ext cx="3886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Impreso por el Ministerio de la Película JESUS Harvest Partners de la Iglesia del Nazareno.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El Cubo Evangelístico y los gráficos usados  por permiso de Evangecube International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840" y="0"/>
            <a:ext cx="9312120" cy="6858000"/>
            <a:chOff x="-15840" y="0"/>
            <a:chExt cx="9312120" cy="685800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-1584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352680" y="0"/>
              <a:ext cx="5943600" cy="68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REE en Jesú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omo tu Salvador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ff0000"/>
                  </a:solidFill>
                  <a:latin typeface="Arial"/>
                </a:rPr>
                <a:t>Romanos 10:9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castigo del pecado es muerte, mas la vida eterna por medio de Jesús es un regalo gratuito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6:2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salvación es un regalo de Dios a la persona que pone su fe en Jesú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Efesios 2: 8-9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¿Qué elegirás? ¿Confiarás en Jesucristo para el perdón y para tener vida eterna? ¿O rechazarás a Jesucristo y sufrirás el castigo eterno?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990720"/>
            <a:ext cx="8381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99"/>
                </a:solidFill>
                <a:latin typeface="Arial"/>
              </a:rPr>
              <a:t>Pregunte: “¿Quieres confiar en Jesús ahora mismo para ser tu Salvador?”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i la respuesta es “sí”, continúe con este proceso. De otro modo, revise los conceptos apropriados de arriba para contestar las preguntas que la persona teng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152280"/>
            <a:ext cx="838188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99"/>
                </a:solidFill>
                <a:latin typeface="Arial"/>
              </a:rPr>
              <a:t>Oración del Pec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ios, gracias por amar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fieso que he pecado contra 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reo que tu Hijo, Jesús, murió en la cruz para pagar por mis pecados y que lo resucitaste de la muer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ongo mi fe en Jesús por el perdón de mis pecados.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fieso que Jesús es mi Salv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Gracias por tu regalo de la vida eter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ro en el nombre de Jesús. Amé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505320" y="76320"/>
              <a:ext cx="5181480" cy="63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Llegaste a ser HIJ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e Dios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1:12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confiaste en Jesús como tu Salvador, llegaste a ser un hijo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ayudará a fortelecer nuestra relación con Jesucrist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Corintios 1: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Vive cada día en la luz de Dios y gózate de la bendición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0"/>
            <a:ext cx="8991720" cy="6858000"/>
            <a:chOff x="0" y="0"/>
            <a:chExt cx="8991720" cy="685800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581280" y="152280"/>
              <a:ext cx="5410440" cy="50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HAS PASADO de l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muerte a la vida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5:24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confiaste en Jesús como tu Salvador, pasaste de la muerte a la vid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1-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Jesús resucitado nos da vid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Gálatas 2:2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vida que da Jesús es abundante y eternal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43080" y="380160"/>
            <a:ext cx="8800920" cy="5563440"/>
            <a:chOff x="343080" y="380160"/>
            <a:chExt cx="8800920" cy="5563440"/>
          </a:xfrm>
        </p:grpSpPr>
        <p:sp>
          <p:nvSpPr>
            <p:cNvPr id="81" name=""/>
            <p:cNvSpPr/>
            <p:nvPr/>
          </p:nvSpPr>
          <p:spPr>
            <a:xfrm>
              <a:off x="343080" y="380160"/>
              <a:ext cx="8800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000099"/>
                  </a:solidFill>
                  <a:latin typeface="Arial"/>
                </a:rPr>
                <a:t>Pasos para los Nuevos Discípulos de Cristo.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evancube7" descr=""/>
            <p:cNvPicPr/>
            <p:nvPr/>
          </p:nvPicPr>
          <p:blipFill>
            <a:blip r:embed="rId1"/>
            <a:stretch/>
          </p:blipFill>
          <p:spPr>
            <a:xfrm>
              <a:off x="4419720" y="13716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80880" y="1448640"/>
              <a:ext cx="377208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el Cubo Evangelístico está en la primera posición, esta imagen está en el lado opuesto. Úselo para ayudar al nuevo creyente crecer en Cristo.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228600" y="457200"/>
            <a:ext cx="8763120" cy="5943600"/>
            <a:chOff x="228600" y="457200"/>
            <a:chExt cx="8763120" cy="594360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1981080" y="457200"/>
              <a:ext cx="10573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4800600" y="457200"/>
              <a:ext cx="419112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AMA a Dios y a toda la gente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Mateo 22:37-3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Respondemos al amor de Dios por nosotros amándole a El y a todos los demá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4:7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28600" y="533520"/>
            <a:ext cx="8778960" cy="5867280"/>
            <a:chOff x="228600" y="533520"/>
            <a:chExt cx="8778960" cy="586728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876920" y="609480"/>
              <a:ext cx="413064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ESTUDIA la Biblia cada día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Romanos 15:4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Biblia nos dice cómo Dios quiere que vivam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2 Timoteo 3:16-17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9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28600" y="533520"/>
            <a:ext cx="8915400" cy="5867280"/>
            <a:chOff x="228600" y="533520"/>
            <a:chExt cx="8915400" cy="58672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876920" y="533520"/>
              <a:ext cx="4267080" cy="49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ORA a Dios continuamente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Filipenses 4:6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quiere tener conversación constante con nosotros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Tesalonicenses 5:17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Habla con Dios acerca de los gozos y las preocupacione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Efesios 6:18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7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228600" y="304920"/>
            <a:ext cx="8763120" cy="6097320"/>
            <a:chOff x="228600" y="304920"/>
            <a:chExt cx="8763120" cy="60973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876920" y="304920"/>
              <a:ext cx="4114800" cy="42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REÚNETE regularmente con otros cristian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Hebreos 10:25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presencia de Jesús es evidente especialmente cuando los creyentes están junt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18:20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52280" y="457200"/>
            <a:ext cx="8991720" cy="5943600"/>
            <a:chOff x="152280" y="457200"/>
            <a:chExt cx="8991720" cy="5943600"/>
          </a:xfrm>
        </p:grpSpPr>
        <p:sp>
          <p:nvSpPr>
            <p:cNvPr id="45" name=""/>
            <p:cNvSpPr/>
            <p:nvPr/>
          </p:nvSpPr>
          <p:spPr>
            <a:xfrm>
              <a:off x="4343400" y="457200"/>
              <a:ext cx="4800600" cy="59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IOS te ama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3:16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luz representa a Dios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Juan 1:5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es perfecto y sin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Salmo 18:3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Dios nos ama!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Juan 4:9,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no quiere que nos perdamos sino que tengamos vida etern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2 Peter 3:9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52280" y="1295280"/>
              <a:ext cx="4176720" cy="438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28600" y="382680"/>
            <a:ext cx="8915400" cy="6475320"/>
            <a:chOff x="228600" y="382680"/>
            <a:chExt cx="8915400" cy="647532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952880" y="382680"/>
              <a:ext cx="4191120" cy="64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OMPARTE las Buenas Nuevas de Jesús con otr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1 Pedro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3:15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stés siempre listo para compartir las Buenas Nuevas de Jesús con otros.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Hechos 1: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Ayuda a difundir el mensaje de Jesús por todo el mun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19-20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52280" y="457200"/>
            <a:ext cx="8839440" cy="5476680"/>
            <a:chOff x="152280" y="457200"/>
            <a:chExt cx="8839440" cy="547668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152280" y="1219320"/>
              <a:ext cx="417672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343400" y="457200"/>
              <a:ext cx="4648320" cy="54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TU eres pecador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Romanos 3:23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figura representa a cada person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saías 53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obscuridad representa nuestro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3:1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pecado es transgresión voluntaria de la ley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5-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pecado nos separa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saías 59:2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28600" y="304920"/>
            <a:ext cx="8686800" cy="6248160"/>
            <a:chOff x="228600" y="304920"/>
            <a:chExt cx="8686800" cy="624816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3193920" cy="62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657600" y="304920"/>
              <a:ext cx="5257800" cy="438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US murió por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tus pecad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Romanos 5:8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nos amó tanto que envió a Jesús al mundo en forma de hombr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4: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nos amó tanto que El pagó el precio por nuestros pecad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3:16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733080"/>
            <a:chOff x="0" y="0"/>
            <a:chExt cx="9144000" cy="673308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80880" y="4915080"/>
              <a:ext cx="822960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ús fue SEPULTADO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1 Corintios 15:3-4</a:t>
              </a:r>
              <a:r>
                <a:rPr b="0" i="1" lang="es-MX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os hombres sepultaron a Jesús en una tumb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5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593760"/>
            <a:chOff x="0" y="0"/>
            <a:chExt cx="9144000" cy="659376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80880" y="4915080"/>
              <a:ext cx="822960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los pusieron una enorme piedra para cerrar el sepulcr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6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Soldados lo vigilaban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65-66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0" y="228600"/>
            <a:ext cx="8991720" cy="6462360"/>
            <a:chOff x="0" y="228600"/>
            <a:chExt cx="8991720" cy="646236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0" y="304920"/>
              <a:ext cx="5105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ios RESUCITÓ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a Jesú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1 Corintios 15:3-4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72000" y="228600"/>
              <a:ext cx="4419720" cy="64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envió a un ángel para remover la gran piedra y los soldados huyeron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 2,1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Dios resucitó a Jesús de la muerte! 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Poco después, Dios llevó a Jesús de regreso al ciel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Lucas 24: 50-5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pagó el precio por nuestro pecado y venció la muert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Corintios 15:3-4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067680" cy="6858000"/>
            <a:chOff x="0" y="0"/>
            <a:chExt cx="9067680" cy="685800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809880" y="114480"/>
              <a:ext cx="5257800" cy="48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000" spc="-1" strike="noStrike">
                  <a:solidFill>
                    <a:srgbClr val="ff0000"/>
                  </a:solidFill>
                  <a:latin typeface="Arial"/>
                </a:rPr>
                <a:t>Jesús es el único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000" spc="-1" strike="noStrike">
                  <a:solidFill>
                    <a:srgbClr val="ff0000"/>
                  </a:solidFill>
                  <a:latin typeface="Arial"/>
                </a:rPr>
                <a:t>CAMINO a Dios.</a:t>
              </a:r>
              <a:r>
                <a:rPr b="0" lang="es-MX" sz="3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ff0000"/>
                  </a:solidFill>
                  <a:latin typeface="Arial"/>
                </a:rPr>
                <a:t>Juan 14:6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es el único camino por el cual podemos llegar a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Hechos 4:1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Por medio de Jesús podemos tener perdón de nuestros pecados y estar con Dios por siempr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6:4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067320" cy="6858000"/>
            <a:chOff x="0" y="0"/>
            <a:chExt cx="9067320" cy="68580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49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809880" y="114120"/>
              <a:ext cx="5257440" cy="34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ús es el únic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AMINO a Dio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Conocer estas verdades no es suficiente! Debemos poner nuestra fe en Jesús, y confiar en Jesús para salvarnos del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5:1-2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9:33:55Z</dcterms:created>
  <dc:creator>Gloria Wittmer</dc:creator>
  <dc:description/>
  <dc:language>en-US</dc:language>
  <cp:lastModifiedBy>Alissa Monterroso</cp:lastModifiedBy>
  <dcterms:modified xsi:type="dcterms:W3CDTF">2003-11-24T21:24:05Z</dcterms:modified>
  <cp:revision>2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64693547</vt:r8>
  </property>
  <property fmtid="{D5CDD505-2E9C-101B-9397-08002B2CF9AE}" pid="3" name="_AuthorEmail">
    <vt:lpwstr>amonterroso@jfhp.org</vt:lpwstr>
  </property>
  <property fmtid="{D5CDD505-2E9C-101B-9397-08002B2CF9AE}" pid="4" name="_AuthorEmailDisplayName">
    <vt:lpwstr>Alissa Monterroso</vt:lpwstr>
  </property>
  <property fmtid="{D5CDD505-2E9C-101B-9397-08002B2CF9AE}" pid="5" name="_EmailSubject">
    <vt:lpwstr>Spanish E-cube PPT</vt:lpwstr>
  </property>
</Properties>
</file>