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A9B7-3720-4CE3-8A95-855F446CD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542C-498A-4386-95AF-C3EF5FEEB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75DA-1728-4FA7-AE19-181A38F3E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E4FF-B4A5-4F24-8F58-C1791C759C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E634-F4AC-475F-9299-C8C34CCB53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9A6D-29F6-430E-8919-E40B7EB99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96C4-E86F-45C8-BA84-46BB2C1E1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6B11-A538-433D-BF6E-ED34ACE8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158D-0068-4842-9755-AF7072B74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425A-9F96-4058-8936-E1C71FB89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95EB-53BA-4B75-AD51-D0319546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4858-0975-4852-AD37-4F871811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7C25-AC23-4432-9599-AFFDB921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18FE-4A59-438A-AB02-00C77C74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C549-6548-401A-8090-9AE9A115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0559-0BFF-41E6-8D48-00D2B6C7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4173-FC2D-4D29-817F-C14ECD6C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0A28-0C88-4D1E-A4E4-A26B2C82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13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BA52-2C7A-4332-9859-5113C390F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4920" y="34286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dership and Relationships: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Make Me or Break 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esson 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ffff00"/>
                </a:solidFill>
                <a:latin typeface="Times New Roman"/>
              </a:rPr>
              <a:t>Million Leaders Mandate</a:t>
            </a:r>
            <a:br>
              <a:rPr sz="5200"/>
            </a:br>
            <a:br>
              <a:rPr sz="54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otebook 6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198360"/>
            <a:ext cx="9144000" cy="62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GARBAGE COLLECTO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surrounds himself/herself with negative people; they gossip and spread rumors that poi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6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Garbage Collect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9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ront them with the people about whom they are talking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9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llenge their statements with objective truth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9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exposure to destro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ir credibility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9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se them to the churc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ers and warn of what’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ppe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5489640" y="4160880"/>
            <a:ext cx="3578040" cy="2620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228600"/>
            <a:ext cx="9144000" cy="70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CONTROL FREA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This person is unable to let go and trust both God and people. They have to be in contr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Control Frea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give them highly visible positions of authority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ind them of Scriptura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ands to trust God and oth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e that control is 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th - no human is ever really i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of lif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 with them the many time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came through and provided for them in the past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6553080" y="3309840"/>
            <a:ext cx="2237040" cy="278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185760"/>
            <a:ext cx="9144000" cy="70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MAVERICK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frustrates others by living in their own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Maveri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't evaluate your leadership by the maverick's respons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't put them into a team ministry position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't give them a leadership rol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il they can see beyo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mselves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 what motivates them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encourage them to see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gger pictur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6172200" y="3919680"/>
            <a:ext cx="2664000" cy="263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76320" y="152280"/>
            <a:ext cx="8991360" cy="20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BACKSTABB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This person is irrespressibly two-faced and hypocrit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Back Stabb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6781680" y="3008160"/>
            <a:ext cx="2286000" cy="3773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Strangling Stock Illustrations – 71 Strangling Stock Illustrations, Vectors  &amp;amp; Clipart - Dreamstime"/>
          <p:cNvPicPr/>
          <p:nvPr/>
        </p:nvPicPr>
        <p:blipFill>
          <a:blip r:embed="rId2"/>
          <a:stretch/>
        </p:blipFill>
        <p:spPr>
          <a:xfrm>
            <a:off x="1981080" y="2286000"/>
            <a:ext cx="2901960" cy="426708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1828800" y="1600200"/>
            <a:ext cx="327672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3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76320" y="152280"/>
            <a:ext cx="8991360" cy="64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BACKSTABB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This person is irrespressibly two-faced and hypocrit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Back Stabb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et with them and communicate your desire to trust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tly confront them with specific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 of their hypocris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olve others who hav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enced their two-faced ways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concrete evidenc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't give them authority until you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 them change their w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6781680" y="3008160"/>
            <a:ext cx="2286000" cy="377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331920"/>
            <a:ext cx="9144000" cy="63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ff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COLD SHOULD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disengages and avoids cont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Cold Shoulder:</a:t>
            </a: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reward childish behavior by running after them each time they distance themselves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meet with them 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if you've don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to hurt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 deep to discover th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 issues that caus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m to avoid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5410080" y="3416400"/>
            <a:ext cx="3578400" cy="3279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325440"/>
            <a:ext cx="9144000" cy="62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0080" indent="-730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10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VOLCANO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builds steam and often erupts; they are explos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Volcan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ve them from the crow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ain calm. Ask them to sit 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them to repeat detail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 clear on issues; remov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rsay and exaggeration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a soft, clear answer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ld them accou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6019920" y="3678120"/>
            <a:ext cx="3047760" cy="306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152280"/>
            <a:ext cx="9144000" cy="65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0080" indent="-730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SPONG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is constantly in need, but gives nothing back. They use peo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Bef>
                <a:spcPts val="2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Spong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limitations on your ability to help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let them manipulate you 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tuation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 responsibility; challeng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m that maturity means giving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receiving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feel obligated or guilty b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demand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6858000" y="2816280"/>
            <a:ext cx="2054160" cy="388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0" y="87480"/>
            <a:ext cx="9144000" cy="69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0080" indent="-73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ff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COMPETITO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This person keeps score on everything. They want to beat others and often feel that life is unf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Competito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ind them that a Christian's role is to "complete" others not to compete with others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them know that keepi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ore will destine them to 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 of mise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in them in finding positiv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ys their competitive spirit can be used by God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730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5611680" y="3505320"/>
            <a:ext cx="3456000" cy="230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0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2280" y="1558800"/>
            <a:ext cx="89917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ve the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God for wisdom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y healthy yourself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give special positions to help people get bett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honest with God, yourself and them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healthy people in leadership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2541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General Rules When Handling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228600" y="13939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 I se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MYSELF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The Power of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2630520" y="2593800"/>
            <a:ext cx="3882960" cy="388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2"/>
          <p:cNvSpPr/>
          <p:nvPr/>
        </p:nvSpPr>
        <p:spPr>
          <a:xfrm>
            <a:off x="304920" y="378000"/>
            <a:ext cx="8534160" cy="60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"/>
              </a:rPr>
              <a:t>QUESTION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nswers on </a:t>
            </a: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page 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0" y="38088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28600" y="114300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THER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see m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 I se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THER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The Power of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2319480" y="3200400"/>
            <a:ext cx="4505040" cy="3505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76320" y="914400"/>
            <a:ext cx="9144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The Role of Responsi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04920" y="2286000"/>
            <a:ext cx="853416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mans 12:18 tells us: “If possible, so far as it depends on you, be at peace with all me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he key to successful relationships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SPONS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047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eaders Must Affirm the Following Stat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0" y="1657440"/>
            <a:ext cx="9144000" cy="57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am responsible for how I trea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THER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am not always responsible for how others trea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will take the high road and lead people well b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HO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not re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mus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E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myself and others the way God sees 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 a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SPONSIBI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for how I respond to those who are difficu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The Role of Responsi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0" y="690480"/>
            <a:ext cx="9144000" cy="61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CRITIC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constantly complains and gives unwanted adv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Critic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e you care b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ening to them, bu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llenge them to offe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n your top leaders of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son they may sprea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ugh critic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k the critic to be part of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ving the problems they bring 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 the High Road with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5365800" y="2438280"/>
            <a:ext cx="3549600" cy="383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76320" y="450720"/>
            <a:ext cx="9067680" cy="44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 startAt="2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MARTY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feels like the victim and swims in a pool of self-p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Marty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them aware that attitude is a cho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y are a leader, teach them that a leader is responsible to be "up" for those they lead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ver reward self-pit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5486400" y="4316400"/>
            <a:ext cx="3543480" cy="236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287280"/>
            <a:ext cx="9144000" cy="61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WET BLANKET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is always pessimistic and is a drain on the relation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3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ys to Handle the Wet Blanke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honest with them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expect them to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as long as the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er excuses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int to past successe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they thought would fail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let them dampen your enthusiasm.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5410080" y="2514600"/>
            <a:ext cx="3556080" cy="266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304920"/>
            <a:ext cx="9144000" cy="60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STEAMROLL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erson rolls over others and enjoys intimidating people; they are aggressive and can be host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Handle the Steamroll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the influence they have before you act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 to reason with them,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se them to their insensitivity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issue they a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ing for or against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a stand when it clearly is a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vious right and wrong issue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6021360" y="3689280"/>
            <a:ext cx="3046320" cy="301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7T20:12:50Z</dcterms:created>
  <dc:creator>INJOY</dc:creator>
  <dc:description/>
  <dc:language>en-US</dc:language>
  <cp:lastModifiedBy>Monte Cyr</cp:lastModifiedBy>
  <dcterms:modified xsi:type="dcterms:W3CDTF">2022-02-19T19:52:14Z</dcterms:modified>
  <cp:revision>119</cp:revision>
  <dc:subject/>
  <dc:title>Million Leaders Mandate Notebook Six</dc:title>
</cp:coreProperties>
</file>