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C6AA-6522-41A4-90FF-B922BA065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2419-6F4F-4864-BCC4-FA64D70D8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42C7-3351-4BFB-9688-313247C2F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4786-DD61-480F-B9E5-10F217F48E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B058-F1A3-4DDA-ACC0-E9C677191E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78C3-AF50-4BB1-B7A9-26F635CAC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440-60E3-4DA5-A754-F2CA6AE2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7E9-649B-4909-A14C-5C0453ED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0E2-9604-4C1A-8CF1-A8137B60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6AE-974A-46B8-B618-7066C5B0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15C-009F-4476-ABFC-79F4559E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573C-D4FB-419B-AC5F-201F8E01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268-FCF9-4181-A89C-8A354FCD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C6B-8C2F-481D-B18F-916BB613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555-FA8F-4E16-AB84-8A546CFD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DEBA-518E-4357-8ACE-AEA029B0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536-6D0F-42BF-A141-95C47DBF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090-17A5-4BAD-866D-867FF6A0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3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E991-6359-4C8C-8D32-75599F57F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3428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hip and Relationships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Make Me or Break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esson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</a:rPr>
              <a:t>Million Leaders Mandate</a:t>
            </a:r>
            <a:br>
              <a:rPr sz="5200"/>
            </a:br>
            <a:br>
              <a:rPr sz="5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tebook 6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198360"/>
            <a:ext cx="9144000" cy="62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GARBAGE COLLEC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surrounds himself/herself with negative people; they gossip and spread rumors that po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6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Garbage Collec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ront them with the people about whom they are talking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ir statements with objective truth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exposure to destro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credibil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 chur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 and warn of what’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5489640" y="4160880"/>
            <a:ext cx="3578040" cy="262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22860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NTROL FR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This person is unable to let go and trust both God and people. They have to be in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ntrol Fre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give them highly visible positions of author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of Scriptur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to trust God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that control is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 - no human is ever really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of lif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with them the many tim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came through and provided for them in the pa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6553080" y="3309840"/>
            <a:ext cx="223704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18576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VERIC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rustrates others by living in their own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Maveri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evaluate your leadership by the maverick's respons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put them into a team ministry position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 leadership rol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y can see beyo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selve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 what motivates them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encourage them to see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pictur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6172200" y="3919680"/>
            <a:ext cx="2664000" cy="263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76320" y="152280"/>
            <a:ext cx="899136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Strangling Stock Illustrations – 71 Strangling Stock Illustrations, Vectors  &amp;amp; Clipart - Dreamstime"/>
          <p:cNvPicPr/>
          <p:nvPr/>
        </p:nvPicPr>
        <p:blipFill>
          <a:blip r:embed="rId2"/>
          <a:stretch/>
        </p:blipFill>
        <p:spPr>
          <a:xfrm>
            <a:off x="1981080" y="2286000"/>
            <a:ext cx="2901960" cy="4267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1828800" y="1600200"/>
            <a:ext cx="3276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6320" y="152280"/>
            <a:ext cx="8991360" cy="64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with them and communicate your desire to trust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ly confront them with specif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their hypocri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others who ha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their two-faced way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ncrete evidenc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uthority until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m change their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331920"/>
            <a:ext cx="91440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LD SHOULD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disengages and avoids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Cold Shoulder: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reward childish behavior by running after them each time they distance themselv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meet with them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if you've do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o hur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 deep to discover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ssues that cau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o avoid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5410080" y="3416400"/>
            <a:ext cx="3578400" cy="327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325440"/>
            <a:ext cx="9144000" cy="62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0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VOLCAN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builds steam and often erupts; they are explo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Volc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them from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 calm. Ask them to sit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em to repeat detai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clear on issues; remo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say and exagger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soft, clear answer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them ac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019920" y="3678120"/>
            <a:ext cx="304776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152280"/>
            <a:ext cx="914400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PONG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constantly in need, but gives nothing back. They us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Spong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limitations on your ability to hel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manipulate you 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u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responsibility; challeng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hat maturity means giv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ceiving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feel obligated or guilty 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eman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6858000" y="2816280"/>
            <a:ext cx="20541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0" y="87480"/>
            <a:ext cx="9144000" cy="69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MPETI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keeps score on everything. They want to beat others and often feel that life is unf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mpetit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that a Christian's role is to "complete" others not to compete with other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em know that keep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e will destine them to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of mis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 them in finding positi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heir competitive spirit can be used by God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5611680" y="35053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1558800"/>
            <a:ext cx="8991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God for wisdo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 healthy yourself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give special positions to help people get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God, yourself and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healthy people in leadershi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254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General Rules When Handling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228600" y="1393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SEL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630520" y="2593800"/>
            <a:ext cx="3882960" cy="388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304920" y="378000"/>
            <a:ext cx="8534160" cy="60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swers on 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age 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11430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see 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319480" y="3200400"/>
            <a:ext cx="45050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6320" y="91440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86000"/>
            <a:ext cx="853416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 12:18 tells us: “If possible, so far as it depends on you, be at peace with all m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key to successful relationship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04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aders Must Affirm the Following 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1657440"/>
            <a:ext cx="914400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responsible for how I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THE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always responsible for how others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will take the high road and lead people well b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not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mu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yself and others the way God sees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r how I respond to those who are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90480"/>
            <a:ext cx="9144000" cy="61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RITI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constantly complains and gives unwanted ad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rit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you care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ing to them,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m to off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your top leaders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 they may sprea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critic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the critic to be part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ing the problems they bring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 the High Road with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365800" y="2438280"/>
            <a:ext cx="3549600" cy="38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6320" y="450720"/>
            <a:ext cx="906768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RTY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eels like the victim and swims in a pool of self-p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Marty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m aware that attitude is a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are a leader, teach them that a leader is responsible to be "up" for those they lead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ward self-p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5486400" y="4316400"/>
            <a:ext cx="354348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287280"/>
            <a:ext cx="91440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WET BLANKE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always pessimistic and is a drain on the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Wet Blanke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expect them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as long as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excus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to past success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y thought would fail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dampen your enthusias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304920"/>
            <a:ext cx="91440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TEAMROLL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rolls over others and enjoys intimidating people; they are aggressive and can be host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Steamrol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the influence they have before you ac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reason with them,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ir insensitiv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issue they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ing for or again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stand when it clearly is 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 right and wrong issu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021360" y="3689280"/>
            <a:ext cx="3046320" cy="30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20:12:50Z</dcterms:created>
  <dc:creator>INJOY</dc:creator>
  <dc:description/>
  <dc:language>en-US</dc:language>
  <cp:lastModifiedBy>Monte Cyr</cp:lastModifiedBy>
  <dcterms:modified xsi:type="dcterms:W3CDTF">2022-02-19T19:52:14Z</dcterms:modified>
  <cp:revision>119</cp:revision>
  <dc:subject/>
  <dc:title>Million Leaders Mandate Notebook Six</dc:title>
</cp:coreProperties>
</file>