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F0DE9-E7D1-4C55-871A-4098A39D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65410-AE90-4F72-B987-75F5D9A3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64F79-1F64-4355-83F1-09DD873A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D157B-5E1B-421D-A0CF-D3E27E37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6BFD-677D-4FDD-94D1-75746E97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CDD6-A6EC-4E10-ADC6-1DFA6CDF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B420-B91E-4492-B937-29833068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26F1-F8C2-4BBA-8871-429C07DD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3D1D-C776-4F7A-A3B9-88DB0600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0370-6725-448D-85FC-CCE8F0AF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8489-DFD7-4CBC-A440-E8B1463E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671E-4905-43B6-9E89-6DD3C5B4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AE20-D2AA-4DEB-8D09-473E829B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A72C-0B6D-4724-9975-F96B2393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8659-CD65-49BB-879E-ECA1687C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9C22-9F6A-4ED1-890E-CE33795E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8BBC-ADD1-4C73-80CB-378FCC0D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23384-06FC-40A4-97F9-5B08383B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663F-655A-4339-A912-5340F531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77B79-4C09-4F14-BF57-16DF62D7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8628A-52FE-4EE2-BE68-A12CD049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D88AC-4719-404B-876B-88E4336A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B3847-CE75-4B4C-9BEB-0CF84244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CCA15-E7A1-4F77-8799-D090D126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4536-4B26-4404-A7CF-F38341829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63BC-D24D-4940-9634-9B5B626BDE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362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Principles for Getting the Job Don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ing Yourself and Your Organiz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ch Its Potent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152280" y="487440"/>
            <a:ext cx="8839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9067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726"/>
              </a:spcBef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lways giv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110%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. The Cop Outs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. The Hold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c. The Drop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. The All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on’t just fix things up temporarily, but make things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RIGH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evote yourself to what you do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BES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ccept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PRESSURE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of the moment or the position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CONSISTEN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in your lifestyle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Work as unto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LORD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7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ALKED ABOU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to Help People Remember What We S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ationsh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peti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ev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372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RAINED FO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asons Why People Fail to Perform Effective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A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are supposed to d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H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o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should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are obstacle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BEYOND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ir contro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s For Training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elect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Relate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Give them the tools they need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how them how to use the tool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Let them know your expectation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Watch them and give them specific feedback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tay with them until they experience succes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Check on them systematic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Affirm and encourage them continu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Together select someone for the trainee to train</a:t>
            </a:r>
            <a:r>
              <a:rPr b="1" lang="en-US" sz="3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220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r Goals Should B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ECIFI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LEV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ANSFE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BL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RON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as soon as possib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separate the person from the wrong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only what the person can chan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give the benefit of the doub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2962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.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s I specif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id I avoid sarcas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void words like “always” and “never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tell them how I felt about what they did wro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offer a plan to remedy the proble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ffirm them as a person and a frie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-4082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WARD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08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inters on Praising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genu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ok for opportun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y it fir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rivate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ublic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specifi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o back up your words with ac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t it in wr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lu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XCELLEN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n’t settle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VERAG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y attentio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TAI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velop a dee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IT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xcell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sses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GR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w Genui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ON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i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ver sto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PROVING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57:01Z</dcterms:modified>
  <cp:revision>58</cp:revision>
  <dc:subject/>
  <dc:title>Million Leaders Mandate</dc:title>
</cp:coreProperties>
</file>