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EE3B6-4DBF-4BEA-923B-295A0327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62134-0B41-436D-AA86-9C667D1F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48515-12C8-4023-B736-74FBAF97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063B-45DE-4665-A387-5060D3E7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263BD-97BC-4404-9366-669AE3E2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CE81C-498F-4C19-85C0-75FF4A8D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8B6A1-CDC1-4C07-B0E3-FBEA8574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3FBE-27F2-4A52-B4D8-095A49D2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775D-F8CF-49D5-A8C2-AA6EC1EC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F4B1-26BF-42AE-A734-241AD353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D906-BFAA-48AC-95E1-4634AC99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5399-A52D-4010-8884-BA0A28F9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273C-3704-4729-8947-AB5745D5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484A-CB8F-4C1A-8D37-B1A8851B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C9BB-1EB2-483B-B4CE-4E113BD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8F9FE-FE8D-4A8D-B6AA-6CEBA3A5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CECE-FE1E-4EA4-9609-86616784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F9BA8-57D3-4E68-99D6-3EF4B426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0E153-1F3E-4C29-A543-78DFB4CA8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DFEA-1D8E-4AE4-9019-71123F25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AE4F2-D7C4-493D-B056-B4CBBC32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E0F4F-879D-47AC-A074-7BF0D471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686B6-B9F1-451E-B9F7-2D37344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4FFF-B647-4224-8505-187C914D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B24A-08D6-4C8C-A62C-B5DF379AE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F6BA-A8F5-412B-8FC0-F70C010CC2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971800"/>
            <a:ext cx="91440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he Power of Partnership</a:t>
            </a:r>
            <a:br>
              <a:rPr sz="5400"/>
            </a:b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oving from Isolation to Cooperation in Your Ministry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3"/>
          <p:cNvSpPr/>
          <p:nvPr/>
        </p:nvSpPr>
        <p:spPr>
          <a:xfrm>
            <a:off x="152280" y="423720"/>
            <a:ext cx="8915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become secure in their call and their role in marketplace leaders’ liv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itiate relationship and partnership with marketplace lead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create places for marketplace leaders to use their gif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allow marketplace leaders to own the ministry by making decis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know and communicate their principles (core values) and vis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challenge marketplace leaders to God’s call on their lives as wel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-505800"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inistry Leaders must equip marketplace leaders to become spiritual leaders in their own aren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05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D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bout These Partnerships</a:t>
            </a:r>
            <a:br>
              <a:rPr sz="24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067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marL="377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The Law of Significance – One is too small a number to achieve something great. </a:t>
            </a:r>
            <a:br>
              <a:rPr sz="7200"/>
            </a:b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(John Maxwell)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onathan and David</a:t>
            </a:r>
            <a:br>
              <a:rPr sz="4000"/>
            </a:b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(1 Samuel 18 - 20)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295280"/>
            <a:ext cx="89913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AVAIL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have any ministry partner for whom I am completely availabl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DEPEND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Am I dependable within the partnerships and relationships I am involv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VULNERA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How vulnerable am I willing to become for someone else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566640" indent="-566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y wer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RESPONSIBL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: Do I act responsibly and in the best interests of others in my leadership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6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-22860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are built 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US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openness and mutual concer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need a facilitator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ORDINAT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develop in order to accomplish a specific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AS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levant partnerships begin by identify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NEED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mong the people to be serv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tnerships are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CES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 not a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-152280"/>
            <a:ext cx="8839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e Truth about Partnership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365040" indent="-3650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eat partnerships are even more challenging to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AINTAI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an to st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ruitful partnerships are made up of ministries who each have a clea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DENT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ffective partnership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ELEBRA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 differences between the ministr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ting partnerships sta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OCUS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n the ultimate goals, not immediate proble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-365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mart partnerships expect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BLEM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plan ahead for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65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speak into Saul’s life because he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U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is call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FFIR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aul’s complementary role and honor him for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took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ITIA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anointed Saul for the ministry role he was to fulfil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instrumental in Saul receiving a new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EA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erve peo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-4568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KE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in helping Saul use his spiritual gif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Every Ministry Leader Can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Lear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5410080"/>
            <a:ext cx="8839080" cy="129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not intimidated 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VIOU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f Saul’s conquest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lnSpc>
                <a:spcPct val="8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was able to speak words of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REC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AY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UR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Saul when he fail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could confront Saul when he sinned and provide hi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PECTIV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-4874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muel possessed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REDIBIL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call for repentance from Sau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87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aul and Samuel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Ministry Leader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MUE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’s role is illustrated b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AUL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inistry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ECURIT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issue marketplace leaders must settle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PERSONAL SUBMIS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Ministry Leader often envies the layman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CCES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e layman often envies the Ministry Leader’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IGNIFICANC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295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br>
              <a:rPr sz="2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432720" indent="-432720">
              <a:lnSpc>
                <a:spcPct val="90000"/>
              </a:lnSpc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IS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big enough to attract successful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develop 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GENEROUS SPIRI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nable pastors to fulfill i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include laymen i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CISION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so they can own the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include pastors in both their finances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ALEND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32720" indent="-432720">
              <a:lnSpc>
                <a:spcPct val="80000"/>
              </a:lnSpc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must give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HURCH’S MINISTR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laym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must give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IRITUAL GIFT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the church’s minist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327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838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067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IMIDA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fail in this partnership because they ar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DEPEND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-578880"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inistry Leaders can offer one thing that laymen want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ULFILL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ymen can offer one thing that Ministry Leaders need most –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OURCE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c7d6d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What Every Ministry Leader Should </a:t>
            </a:r>
            <a:r>
              <a:rPr b="1" i="1" lang="en-US" sz="2700" spc="-1" strike="noStrike">
                <a:solidFill>
                  <a:srgbClr val="ffffff"/>
                </a:solidFill>
                <a:latin typeface="Garamond"/>
              </a:rPr>
              <a:t>Know</a:t>
            </a:r>
            <a:r>
              <a:rPr b="1" lang="en-US" sz="2700" spc="-1" strike="noStrike">
                <a:solidFill>
                  <a:srgbClr val="ffffff"/>
                </a:solidFill>
                <a:latin typeface="Garamond"/>
              </a:rPr>
              <a:t> About These Partnerships</a:t>
            </a:r>
            <a:endParaRPr b="1" lang="en-US" sz="27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1T00:06:01Z</dcterms:modified>
  <cp:revision>69</cp:revision>
  <dc:subject/>
  <dc:title>Million Leaders Mandate</dc:title>
</cp:coreProperties>
</file>