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5EA33-ABF7-44C7-BC21-92945D1AF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AF6F3-4FF3-4F0D-9F10-2958B2FB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0542-6BDB-4BC8-A72B-7443B17D2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98CB-8258-4D2D-A9C3-29DAFD41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4931-B8AA-40B5-8C52-74BBA7D3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67FE-FE61-42D5-A2E5-38CF7F68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EB26-A581-4798-A904-4613CCEB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F9BE-80F0-4BCD-BB03-3012D0AA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C3C6-26BD-48D9-85E3-B77D0062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89C4-5E9E-4CA2-881D-F8934AC1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36C9-CE11-4268-9B89-549E9F77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DA38-31CA-417D-96DA-8671A461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6071-E717-410C-A52C-52D19812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26D12-651C-45E0-B8ED-ED82E95C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1A7C-3D73-41E6-B0A5-AECCB40B2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04DA-9F8A-4F78-827F-3EF057FB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CB4FD-E086-4387-AD04-48083A6E6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DDE0-0DA0-4B61-BFEB-79B64264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6871-A6B7-42F1-95B3-9A35B00B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F77C-D694-4932-A0F4-BFC9D4C3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7F56-C13B-4CCD-B8FE-F6FBCDB7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1672-4D09-43AB-9632-0CF848AC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17233-5387-4B09-AEEF-84DD8A84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4412-4EE4-48DA-8795-47CBB018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1AEB-4626-4F29-9F62-E2C73B4B9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EC8A-6473-4A36-83FB-D686FC71F7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0"/>
          <p:cNvSpPr/>
          <p:nvPr/>
        </p:nvSpPr>
        <p:spPr>
          <a:xfrm>
            <a:off x="0" y="2362320"/>
            <a:ext cx="9144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7d6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inciples for Getting the Job Done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ing Yourself and Your Organization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ch Its Potenti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(Lesson 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Text Box 24"/>
          <p:cNvSpPr/>
          <p:nvPr/>
        </p:nvSpPr>
        <p:spPr>
          <a:xfrm>
            <a:off x="152280" y="487440"/>
            <a:ext cx="883944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tebook 5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-305280"/>
            <a:ext cx="9067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90000"/>
              </a:lnSpc>
              <a:spcBef>
                <a:spcPts val="726"/>
              </a:spcBef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lways giv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110%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. The Cop Outs 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. The Hold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. The Drop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. The All Outs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on’t just fix things up temporarily, but make things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RIGH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Devote yourself to what you do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BES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Accept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PRESSURE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of the moment or the position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B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CONSISTENT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 in your lifestyle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26"/>
              </a:spcBef>
              <a:spcAft>
                <a:spcPts val="300"/>
              </a:spcAft>
              <a:buClr>
                <a:srgbClr val="ffff00"/>
              </a:buClr>
              <a:buSzPct val="70000"/>
              <a:buFont typeface="Garamond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Work as unto the </a:t>
            </a:r>
            <a:r>
              <a:rPr b="1" lang="en-US" sz="2900" spc="-1" strike="noStrike" u="sng">
                <a:solidFill>
                  <a:srgbClr val="ffffff"/>
                </a:solidFill>
                <a:uFillTx/>
                <a:latin typeface="Garamond"/>
              </a:rPr>
              <a:t>LORD</a:t>
            </a: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0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7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2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7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ALKED ABOU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ow to Help People Remember What We Sa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ationship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petitio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levanc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s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-7632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372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RAINED FO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sons Why People Fail to Perform Effectively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AT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are supposed to d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HOW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o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don’t know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H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y should do i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085760" indent="-43416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re are obstacle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EYOND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their contro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ips For Training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7617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elect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Relate well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Give them the tools they need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how them how to use the tool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Let them know your expectation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Watch them and give them specific feedback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Stay with them until they experience success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heck on them systematic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ffirm and encourage them continually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spcBef>
                <a:spcPts val="601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Together select someone for the trainee to train</a:t>
            </a:r>
            <a:r>
              <a:rPr b="1" lang="en-US" sz="3000" spc="-1" strike="noStrike">
                <a:solidFill>
                  <a:srgbClr val="ffff00"/>
                </a:solidFill>
                <a:latin typeface="Garamond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-7668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220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456840" indent="-45684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r Goals Should B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PECIFI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ASU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CHIEV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LEV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RANSFER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71280" indent="-28548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BIBLIC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6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90720"/>
            <a:ext cx="9067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RONT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as soon as possibl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separate the person from the wrong acti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confront only what the person can chang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799"/>
              </a:spcBef>
              <a:spcAft>
                <a:spcPts val="601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give the benefit of the doub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2962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Checklist for Confrontation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e.</a:t>
            </a: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as I specific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spcBef>
                <a:spcPts val="7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Garamond"/>
              </a:rPr>
              <a:t>f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id I avoid sarcas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void words like “always” and “never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tell them how I felt about what they did wrong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offer a plan to remedy the problem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id I affirm them as a person and a frien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1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inciples and Practices for Getting the Job Don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408240" indent="-40824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at Get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WARDE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Gets Do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08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inters on Praising Peop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genui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ook for opportun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y it firs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rivatel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it public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e specific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member to back up your words with action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3480" indent="-35712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lphaL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ut it in wri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22860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Times New Roman"/>
              </a:rPr>
              <a:t>Keys to Excellence in Your Organization</a:t>
            </a:r>
            <a:endParaRPr b="1" lang="en-US" sz="31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Valu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XCELLEN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settle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VERAG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y attentio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ETAI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 a dee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MMITMEN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o excellen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osses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GR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how Genuin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for othe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o th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CON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i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-47520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Never stop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PROVING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75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5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0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5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5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0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5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57:01Z</dcterms:modified>
  <cp:revision>58</cp:revision>
  <dc:subject/>
  <dc:title>Million Leaders Mandate</dc:title>
</cp:coreProperties>
</file>