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08CAE-970F-457C-AE66-45FAC3048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463C4-7F58-4F61-BA52-7F314F1A4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6BDBF-150B-427E-96A7-E64387CD9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0A4F3-4E94-451A-9911-7D6D56366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595DA-5227-4FA7-AB5E-495620203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03979-7FCE-4393-BB79-A8E32B84D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7AF5B-809B-4548-B37E-1060CCA97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39C9E-9038-44EC-8540-087C65B93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59ADA-0C04-469D-B61A-39F55061A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70E50-FBCC-47ED-8CC8-ECB822D81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652AF-1C7F-43C0-B770-47FAA21E6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F594A-BC47-4B95-B045-BA474D3D4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17418-8239-484A-BEE1-30023B9B3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A02CC-432A-4D2B-B941-B59BBECFF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00BC4-9A29-478A-8D3A-940754B2C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6B461-2375-4E7F-B5B9-947BD6A0B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95DFE-2A12-4022-B34E-E609C1E05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E481F-EDDA-4DC5-86EA-791EFB34B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FD412-F192-4792-8AAF-A07A60D96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917C6-9FC1-436B-9B44-E5EFA7E03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83C39-C378-4388-BA1F-6B6A1DBDD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4DA71-4488-496A-8125-931B8364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0F38C-1A42-4955-9642-DD1A9487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918D1-C710-4324-958A-9099702F5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D2789-A737-438A-8C77-2EF7AEAA0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b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d8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A1BDA-908A-43DF-B6D0-9D91B950F83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1920" y="-22860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Connecting with These Personality Types</a:t>
            </a:r>
            <a:endParaRPr b="1" lang="en-US" sz="3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Sanguine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Give them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TTENTIO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PPROVAL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Melancholy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ecognize their emotional need fo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NSITIVITY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Choleric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mmunicate you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APPRECIATE THEM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and their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WORK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Phlegmatic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earn to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SPECT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the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52280" y="83808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469080" indent="-46908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ich ones are the most natural leader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628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holeric and Melancho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628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ich ones are the most natural follower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6284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hlegmatic and Sangui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628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ich ones cause the most problems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elancholy and Choler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ich one is the most loyal, naturally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hlegmat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628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76320" y="-15264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Questions and Answers about Personality Types</a:t>
            </a: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9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4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7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2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7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2" dur="500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7" dur="500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28240" y="914400"/>
            <a:ext cx="88390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426600" indent="-42660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ich one is the most naturally gifted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elancho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-42660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ich one is the most loved naturally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anguin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-4266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hich one influences most naturally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holer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-42660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0000"/>
              <a:buFont typeface="Garamond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o some have a mix of personality types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Yes. Most people do have a mix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26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76320" y="-7668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Questions and Answers about Personality Types</a:t>
            </a: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4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9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4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9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4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9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4" dur="5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9" dur="500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960" y="-22860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How to Effectively Lead Different Personalities</a:t>
            </a:r>
            <a:endParaRPr b="1" lang="en-US" sz="3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469080" indent="-469080">
              <a:lnSpc>
                <a:spcPct val="80000"/>
              </a:lnSpc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Know you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W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ersonality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lnSpc>
                <a:spcPct val="80000"/>
              </a:lnSpc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cognize the personality of you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MINISTRY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lnSpc>
                <a:spcPct val="80000"/>
              </a:lnSpc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earn the different personalities of you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TEAM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lnSpc>
                <a:spcPct val="80000"/>
              </a:lnSpc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Fill team positions by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ERSONALITY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69080" indent="-469080">
              <a:lnSpc>
                <a:spcPct val="80000"/>
              </a:lnSpc>
              <a:spcBef>
                <a:spcPts val="9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lace the team members closest to you according to you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WEAKNESSE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69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0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-152280"/>
            <a:ext cx="8991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How to Effectively Lead Different Personalities</a:t>
            </a:r>
            <a:endParaRPr b="1" lang="en-US" sz="3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280" y="1066320"/>
            <a:ext cx="88394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80000"/>
              </a:lnSpc>
              <a:spcBef>
                <a:spcPts val="850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ffffff"/>
                </a:solidFill>
                <a:uFillTx/>
                <a:latin typeface="Garamond"/>
              </a:rPr>
              <a:t>MOTIVATE</a:t>
            </a: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 your team members according to their personality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523800" indent="-523800">
              <a:lnSpc>
                <a:spcPct val="80000"/>
              </a:lnSpc>
              <a:spcBef>
                <a:spcPts val="850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Be careful not to </a:t>
            </a:r>
            <a:r>
              <a:rPr b="1" lang="en-US" sz="3400" spc="-1" strike="noStrike" u="sng">
                <a:solidFill>
                  <a:srgbClr val="ffffff"/>
                </a:solidFill>
                <a:uFillTx/>
                <a:latin typeface="Garamond"/>
              </a:rPr>
              <a:t>LABEL</a:t>
            </a: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 people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523800" indent="-523800">
              <a:lnSpc>
                <a:spcPct val="90000"/>
              </a:lnSpc>
              <a:spcBef>
                <a:spcPts val="850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Teach your </a:t>
            </a:r>
            <a:r>
              <a:rPr b="1" lang="en-US" sz="3400" spc="-1" strike="noStrike" u="sng">
                <a:solidFill>
                  <a:srgbClr val="ffffff"/>
                </a:solidFill>
                <a:uFillTx/>
                <a:latin typeface="Garamond"/>
              </a:rPr>
              <a:t>TEAM</a:t>
            </a: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 about the different personalities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523800" indent="-523800">
              <a:lnSpc>
                <a:spcPct val="90000"/>
              </a:lnSpc>
              <a:spcBef>
                <a:spcPts val="850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Form ministry teams with complementary </a:t>
            </a:r>
            <a:r>
              <a:rPr b="1" lang="en-US" sz="3400" spc="-1" strike="noStrike" u="sng">
                <a:solidFill>
                  <a:srgbClr val="ffffff"/>
                </a:solidFill>
                <a:uFillTx/>
                <a:latin typeface="Garamond"/>
              </a:rPr>
              <a:t>STRENGTHS</a:t>
            </a: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 and personalities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marL="523800" indent="-523800">
              <a:lnSpc>
                <a:spcPct val="90000"/>
              </a:lnSpc>
              <a:spcBef>
                <a:spcPts val="850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Lead others from their </a:t>
            </a:r>
            <a:r>
              <a:rPr b="1" lang="en-US" sz="3400" spc="-1" strike="noStrike" u="sng">
                <a:solidFill>
                  <a:srgbClr val="ffffff"/>
                </a:solidFill>
                <a:uFillTx/>
                <a:latin typeface="Garamond"/>
              </a:rPr>
              <a:t>PERSONALITY</a:t>
            </a: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 style.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0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-152280"/>
            <a:ext cx="89917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ummary Chart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3581280"/>
            <a:ext cx="9067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320" y="538200"/>
          <a:ext cx="9067680" cy="5937120"/>
        </p:xfrm>
        <a:graphic>
          <a:graphicData uri="http://schemas.openxmlformats.org/drawingml/2006/table">
            <a:tbl>
              <a:tblPr/>
              <a:tblGrid>
                <a:gridCol w="1812960"/>
                <a:gridCol w="1814400"/>
                <a:gridCol w="1812960"/>
                <a:gridCol w="1814400"/>
                <a:gridCol w="1812960"/>
              </a:tblGrid>
              <a:tr h="452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holeri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ngu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hlegmati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elanchol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990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1067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960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</a:tbl>
          </a:graphicData>
        </a:graphic>
      </p:graphicFrame>
      <p:sp>
        <p:nvSpPr>
          <p:cNvPr id="127" name="Text Box 82"/>
          <p:cNvSpPr/>
          <p:nvPr/>
        </p:nvSpPr>
        <p:spPr>
          <a:xfrm>
            <a:off x="76320" y="121932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escrip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Text Box 83"/>
          <p:cNvSpPr/>
          <p:nvPr/>
        </p:nvSpPr>
        <p:spPr>
          <a:xfrm>
            <a:off x="1905120" y="121932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eople mov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84"/>
          <p:cNvSpPr/>
          <p:nvPr/>
        </p:nvSpPr>
        <p:spPr>
          <a:xfrm>
            <a:off x="3733920" y="121932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ecognition seek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Text Box 85"/>
          <p:cNvSpPr/>
          <p:nvPr/>
        </p:nvSpPr>
        <p:spPr>
          <a:xfrm>
            <a:off x="5562720" y="1219320"/>
            <a:ext cx="167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ooperative group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ext Box 87"/>
          <p:cNvSpPr/>
          <p:nvPr/>
        </p:nvSpPr>
        <p:spPr>
          <a:xfrm>
            <a:off x="7391520" y="121932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Reserved perfectionis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88"/>
          <p:cNvSpPr/>
          <p:nvPr/>
        </p:nvSpPr>
        <p:spPr>
          <a:xfrm>
            <a:off x="76320" y="39625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Under Pressur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ext Box 89"/>
          <p:cNvSpPr/>
          <p:nvPr/>
        </p:nvSpPr>
        <p:spPr>
          <a:xfrm>
            <a:off x="1981080" y="388620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oss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mpatien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Text Box 90"/>
          <p:cNvSpPr/>
          <p:nvPr/>
        </p:nvSpPr>
        <p:spPr>
          <a:xfrm>
            <a:off x="3809880" y="388620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motiona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ptimistic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ext Box 91"/>
          <p:cNvSpPr/>
          <p:nvPr/>
        </p:nvSpPr>
        <p:spPr>
          <a:xfrm>
            <a:off x="5562720" y="388620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lows dow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ulk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Text Box 92"/>
          <p:cNvSpPr/>
          <p:nvPr/>
        </p:nvSpPr>
        <p:spPr>
          <a:xfrm>
            <a:off x="7391520" y="3886200"/>
            <a:ext cx="1676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verly critica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ric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Text Box 93"/>
          <p:cNvSpPr/>
          <p:nvPr/>
        </p:nvSpPr>
        <p:spPr>
          <a:xfrm>
            <a:off x="228600" y="308304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asic Styl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Text Box 94"/>
          <p:cNvSpPr/>
          <p:nvPr/>
        </p:nvSpPr>
        <p:spPr>
          <a:xfrm>
            <a:off x="2082960" y="310824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irect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Text Box 95"/>
          <p:cNvSpPr/>
          <p:nvPr/>
        </p:nvSpPr>
        <p:spPr>
          <a:xfrm>
            <a:off x="3848040" y="312120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teract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Text Box 96"/>
          <p:cNvSpPr/>
          <p:nvPr/>
        </p:nvSpPr>
        <p:spPr>
          <a:xfrm>
            <a:off x="5715000" y="3121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abiliz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Text Box 97"/>
          <p:cNvSpPr/>
          <p:nvPr/>
        </p:nvSpPr>
        <p:spPr>
          <a:xfrm>
            <a:off x="7404120" y="31240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autiou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Text Box 98"/>
          <p:cNvSpPr/>
          <p:nvPr/>
        </p:nvSpPr>
        <p:spPr>
          <a:xfrm>
            <a:off x="76320" y="217188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Work Trai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Text Box 99"/>
          <p:cNvSpPr/>
          <p:nvPr/>
        </p:nvSpPr>
        <p:spPr>
          <a:xfrm>
            <a:off x="1905120" y="201780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Goal oriented Acts quickl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Text Box 100"/>
          <p:cNvSpPr/>
          <p:nvPr/>
        </p:nvSpPr>
        <p:spPr>
          <a:xfrm>
            <a:off x="3695760" y="2004840"/>
            <a:ext cx="1828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eople oriente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nergetic; inspiring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Text Box 101"/>
          <p:cNvSpPr/>
          <p:nvPr/>
        </p:nvSpPr>
        <p:spPr>
          <a:xfrm>
            <a:off x="5486400" y="2001960"/>
            <a:ext cx="1828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eam oriente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eady work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Text Box 102"/>
          <p:cNvSpPr/>
          <p:nvPr/>
        </p:nvSpPr>
        <p:spPr>
          <a:xfrm>
            <a:off x="7315200" y="2004840"/>
            <a:ext cx="1828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Numbers oriente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lans, organiz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Text Box 42"/>
          <p:cNvSpPr/>
          <p:nvPr/>
        </p:nvSpPr>
        <p:spPr>
          <a:xfrm>
            <a:off x="152280" y="472428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onflict Respons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Text Box 43"/>
          <p:cNvSpPr/>
          <p:nvPr/>
        </p:nvSpPr>
        <p:spPr>
          <a:xfrm>
            <a:off x="1981080" y="472428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Attack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44"/>
          <p:cNvSpPr/>
          <p:nvPr/>
        </p:nvSpPr>
        <p:spPr>
          <a:xfrm>
            <a:off x="3733920" y="4724280"/>
            <a:ext cx="182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ries to sell,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en backs off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Text Box 45"/>
          <p:cNvSpPr/>
          <p:nvPr/>
        </p:nvSpPr>
        <p:spPr>
          <a:xfrm>
            <a:off x="5638680" y="4724280"/>
            <a:ext cx="152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ends to authorit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Text Box 46"/>
          <p:cNvSpPr/>
          <p:nvPr/>
        </p:nvSpPr>
        <p:spPr>
          <a:xfrm>
            <a:off x="7315200" y="472428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Withdraws to prepar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Text Box 57"/>
          <p:cNvSpPr/>
          <p:nvPr/>
        </p:nvSpPr>
        <p:spPr>
          <a:xfrm>
            <a:off x="152280" y="563868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avorite Biblical Wor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58"/>
          <p:cNvSpPr/>
          <p:nvPr/>
        </p:nvSpPr>
        <p:spPr>
          <a:xfrm>
            <a:off x="1905120" y="56707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ruitfu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59"/>
          <p:cNvSpPr/>
          <p:nvPr/>
        </p:nvSpPr>
        <p:spPr>
          <a:xfrm>
            <a:off x="3809880" y="56707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Jo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Text Box 60"/>
          <p:cNvSpPr/>
          <p:nvPr/>
        </p:nvSpPr>
        <p:spPr>
          <a:xfrm>
            <a:off x="5638680" y="56707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eac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Text Box 61"/>
          <p:cNvSpPr/>
          <p:nvPr/>
        </p:nvSpPr>
        <p:spPr>
          <a:xfrm>
            <a:off x="7467480" y="56707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ruth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0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5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0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5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6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1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9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4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4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9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2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7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5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8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3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6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1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6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1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4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9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4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9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4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9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4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9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ummary Chart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3581280"/>
            <a:ext cx="9067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76320" y="1009800"/>
          <a:ext cx="9067680" cy="5024160"/>
        </p:xfrm>
        <a:graphic>
          <a:graphicData uri="http://schemas.openxmlformats.org/drawingml/2006/table">
            <a:tbl>
              <a:tblPr/>
              <a:tblGrid>
                <a:gridCol w="1812960"/>
                <a:gridCol w="1814400"/>
                <a:gridCol w="1812960"/>
                <a:gridCol w="1814400"/>
                <a:gridCol w="1812960"/>
              </a:tblGrid>
              <a:tr h="438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holeri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ngu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hlegmati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elanchol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914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</a:tr>
              <a:tr h="1006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10512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</a:tr>
              <a:tr h="1614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2098d"/>
                    </a:solidFill>
                  </a:tcPr>
                </a:tc>
              </a:tr>
            </a:tbl>
          </a:graphicData>
        </a:graphic>
      </p:graphicFrame>
      <p:sp>
        <p:nvSpPr>
          <p:cNvPr id="160" name="Text Box 42"/>
          <p:cNvSpPr/>
          <p:nvPr/>
        </p:nvSpPr>
        <p:spPr>
          <a:xfrm>
            <a:off x="114480" y="24922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dea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43"/>
          <p:cNvSpPr/>
          <p:nvPr/>
        </p:nvSpPr>
        <p:spPr>
          <a:xfrm>
            <a:off x="1905120" y="2432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Generates idea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44"/>
          <p:cNvSpPr/>
          <p:nvPr/>
        </p:nvSpPr>
        <p:spPr>
          <a:xfrm>
            <a:off x="3809880" y="243216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alks about idea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Text Box 45"/>
          <p:cNvSpPr/>
          <p:nvPr/>
        </p:nvSpPr>
        <p:spPr>
          <a:xfrm>
            <a:off x="5638680" y="241632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oes the work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Text Box 46"/>
          <p:cNvSpPr/>
          <p:nvPr/>
        </p:nvSpPr>
        <p:spPr>
          <a:xfrm>
            <a:off x="7391520" y="2492280"/>
            <a:ext cx="190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ake sure work is done righ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Text Box 52"/>
          <p:cNvSpPr/>
          <p:nvPr/>
        </p:nvSpPr>
        <p:spPr>
          <a:xfrm>
            <a:off x="76320" y="4572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asic Fea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53"/>
          <p:cNvSpPr/>
          <p:nvPr/>
        </p:nvSpPr>
        <p:spPr>
          <a:xfrm>
            <a:off x="1905120" y="4572000"/>
            <a:ext cx="1523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Being taken advantage of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Text Box 54"/>
          <p:cNvSpPr/>
          <p:nvPr/>
        </p:nvSpPr>
        <p:spPr>
          <a:xfrm>
            <a:off x="3733920" y="457200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ocial disapprova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Text Box 55"/>
          <p:cNvSpPr/>
          <p:nvPr/>
        </p:nvSpPr>
        <p:spPr>
          <a:xfrm>
            <a:off x="5486400" y="457200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oss of securit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Text Box 56"/>
          <p:cNvSpPr/>
          <p:nvPr/>
        </p:nvSpPr>
        <p:spPr>
          <a:xfrm>
            <a:off x="7391520" y="4587840"/>
            <a:ext cx="190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mperfection/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Disorganiza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57"/>
          <p:cNvSpPr/>
          <p:nvPr/>
        </p:nvSpPr>
        <p:spPr>
          <a:xfrm>
            <a:off x="76320" y="35593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hang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58"/>
          <p:cNvSpPr/>
          <p:nvPr/>
        </p:nvSpPr>
        <p:spPr>
          <a:xfrm>
            <a:off x="1981080" y="355932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reates the chang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Text Box 59"/>
          <p:cNvSpPr/>
          <p:nvPr/>
        </p:nvSpPr>
        <p:spPr>
          <a:xfrm>
            <a:off x="3733920" y="3559320"/>
            <a:ext cx="182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ikes to change the chang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Text Box 60"/>
          <p:cNvSpPr/>
          <p:nvPr/>
        </p:nvSpPr>
        <p:spPr>
          <a:xfrm>
            <a:off x="5562720" y="35593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low to chang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61"/>
          <p:cNvSpPr/>
          <p:nvPr/>
        </p:nvSpPr>
        <p:spPr>
          <a:xfrm>
            <a:off x="7391520" y="355932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ust justif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Text Box 52"/>
          <p:cNvSpPr/>
          <p:nvPr/>
        </p:nvSpPr>
        <p:spPr>
          <a:xfrm>
            <a:off x="152280" y="1600200"/>
            <a:ext cx="17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rongly Resist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Text Box 53"/>
          <p:cNvSpPr/>
          <p:nvPr/>
        </p:nvSpPr>
        <p:spPr>
          <a:xfrm>
            <a:off x="1905120" y="1616040"/>
            <a:ext cx="1676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ersonal criticis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Text Box 54"/>
          <p:cNvSpPr/>
          <p:nvPr/>
        </p:nvSpPr>
        <p:spPr>
          <a:xfrm>
            <a:off x="3733920" y="1600200"/>
            <a:ext cx="167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Personal rejecti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55"/>
          <p:cNvSpPr/>
          <p:nvPr/>
        </p:nvSpPr>
        <p:spPr>
          <a:xfrm>
            <a:off x="5562720" y="160020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udden, vague chang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Text Box 56"/>
          <p:cNvSpPr/>
          <p:nvPr/>
        </p:nvSpPr>
        <p:spPr>
          <a:xfrm>
            <a:off x="7391520" y="160020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Criticism of work and idea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6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1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6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1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6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1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6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1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4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Garamond"/>
              </a:rPr>
              <a:t>QUESTIONS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Garamond"/>
              </a:rPr>
              <a:t>OR COMMENTS?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3"/>
          <p:cNvSpPr/>
          <p:nvPr/>
        </p:nvSpPr>
        <p:spPr>
          <a:xfrm>
            <a:off x="0" y="347760"/>
            <a:ext cx="9067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ffff"/>
                </a:solidFill>
                <a:latin typeface="Garamond"/>
              </a:rPr>
              <a:t>Million Leaders Mandate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tebook Fiv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152280" y="2830680"/>
            <a:ext cx="891540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ading Different Personaliti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ow to Connect with the People Who Follow You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(Lesson 3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1920" y="30492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The Foundation for This Lesso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86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spcBef>
                <a:spcPts val="1100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People should b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DIFFERENT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523800" indent="-523800">
              <a:spcBef>
                <a:spcPts val="1100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here is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VALU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in their difference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523800" indent="-523800">
              <a:spcBef>
                <a:spcPts val="1001"/>
              </a:spcBef>
              <a:spcAft>
                <a:spcPts val="1800"/>
              </a:spcAft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heir personalities won’t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HANG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1920" y="274320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When the leader fails to understand and relate to the different personalities within the organization, problems result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297180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Good Leaders recognize the influence, the personalities, and the spiritual gifts of their people. They READ people, and then they LEAD people.</a:t>
            </a:r>
            <a:br>
              <a:rPr sz="4000"/>
            </a:b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991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Four Basic Personality Types and How to Spot Them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 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opular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ANGUIN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want everything to be fun and are energized by peopl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ir work space is a bit messy with clutter and collection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often crave people, activity and conversation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can be self-centered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-50652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ir motto is, “Look at Me!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94104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91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Four Basic Personality Types</a:t>
            </a:r>
            <a:br>
              <a:rPr sz="38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The </a:t>
            </a:r>
            <a:r>
              <a:rPr b="1" i="1" lang="en-US" sz="3300" spc="-1" strike="noStrike">
                <a:solidFill>
                  <a:srgbClr val="ffffff"/>
                </a:solidFill>
                <a:latin typeface="Garamond"/>
              </a:rPr>
              <a:t>perfect</a:t>
            </a: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300" spc="-1" strike="noStrike" u="sng">
                <a:solidFill>
                  <a:srgbClr val="ffffff"/>
                </a:solidFill>
                <a:uFillTx/>
                <a:latin typeface="Garamond"/>
              </a:rPr>
              <a:t>MELANCHOLY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lvl="2" marL="1138320" indent="-379440">
              <a:lnSpc>
                <a:spcPct val="90000"/>
              </a:lnSpc>
              <a:spcBef>
                <a:spcPts val="825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They think anything worth doing is worth doing right.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lvl="2" marL="1138320" indent="-379440">
              <a:spcBef>
                <a:spcPts val="825"/>
              </a:spcBef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Their work space is tidy – everything is in its place.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lvl="2" marL="1138320" indent="-379440">
              <a:spcBef>
                <a:spcPts val="825"/>
              </a:spcBef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They are detailed and are energized by thinking.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lvl="2" marL="1138320" indent="-379440">
              <a:spcBef>
                <a:spcPts val="825"/>
              </a:spcBef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They often are a bit moody.They can be artistic.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lvl="2" marL="1138320" indent="-379440">
              <a:spcBef>
                <a:spcPts val="825"/>
              </a:spcBef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Their motto is, “Please understand me.”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lvl="2" marL="11383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383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89913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Four Basic Personality Typ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320" y="914040"/>
            <a:ext cx="8991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-51192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 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owerful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HOLERIC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-44784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want to be in charge and are strong and are energized by setting goals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-447840"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ir work space reflects more function than form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-4478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want results and want it done their way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-4478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y can be demanding and impatient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-44784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SzPct val="70000"/>
              <a:buFont typeface="Garamond"/>
              <a:buAutoNum type="alphaL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eir motto is, “Do it my way, now!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831960" indent="0">
              <a:spcBef>
                <a:spcPts val="9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89913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Four Basic Personality Typ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-76320" y="990360"/>
            <a:ext cx="9220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-52992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peaceful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HLEGMAT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464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y are easy going, peaceful, happy and relaxe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464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ir work space is informal and simpl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46404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y would rather not be involved if it causes conflic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46404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y may miss deadlines and fail to reach goals because they are in no hurr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46404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SzPct val="70000"/>
              <a:buFont typeface="Garamond"/>
              <a:buAutoNum type="alphaL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ir motto is, “What difference will it make?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8T14:47:07Z</dcterms:created>
  <dc:creator>Todd</dc:creator>
  <dc:description/>
  <dc:language>en-US</dc:language>
  <cp:lastModifiedBy>Monte Cyr</cp:lastModifiedBy>
  <dcterms:modified xsi:type="dcterms:W3CDTF">2017-08-10T20:05:09Z</dcterms:modified>
  <cp:revision>80</cp:revision>
  <dc:subject/>
  <dc:title>Million Leaders Mandate</dc:title>
</cp:coreProperties>
</file>