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78F27-879C-41D5-82DC-33B09DC13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2CE28-5C98-49C6-BE11-F59BB239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A47A3-8A91-41D1-BF6B-9759E5E24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B9B35-CB5D-4ACA-8A57-7140E5484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438B-87C1-419E-B066-BC82DB879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FED6-7007-4938-9FBB-4C4F7249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F04A-3B4B-4195-8ABA-40BB0102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20AF-99BA-479C-AE75-F9388B91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01CC-7033-4FFA-9A8B-8C30A9C6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498E-B994-4174-BAC0-6E959AD6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CF25-CACA-4C29-BA88-EB9AC97D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E6742-15B7-48FE-A96A-D1361429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2478-1E45-4688-AAB7-8EF6C968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6D3A-64C2-4C3D-A00B-3606A7AF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4EBF-B508-4464-84FE-7F446B4D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26A3-8E01-40AC-BDED-992E40A3F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8187-85D1-40FA-8773-9A99E6685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3A29B-B79D-4757-8774-3BD03694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CE4E0-FCD7-4BC5-8F1B-E8D87107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5E970-EEB8-4975-A25D-1D2BA788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42BA0-BEE7-4E8C-AA88-A94BF0F1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79B6A-9C7F-4103-90E3-36535997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001F6-B974-42B8-9FD5-5D242DE0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C8C46-7E68-4810-A9E5-CEF9DB1E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5016-84D2-483B-B447-4596CDCC2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218F-8C49-4C12-88D5-8B70811C6C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0"/>
          <p:cNvSpPr/>
          <p:nvPr/>
        </p:nvSpPr>
        <p:spPr>
          <a:xfrm>
            <a:off x="0" y="2971800"/>
            <a:ext cx="914400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The Power of Partnership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oving from Isolation to Cooperation in Your Ministry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Lesson 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23"/>
          <p:cNvSpPr/>
          <p:nvPr/>
        </p:nvSpPr>
        <p:spPr>
          <a:xfrm>
            <a:off x="152280" y="423720"/>
            <a:ext cx="891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tebook Fi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become secure in their call and their role in marketplace leaders’ liv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initiate relationship and partnership with marketplace lead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create places for marketplace leaders to use their gift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allow marketplace leaders to own the ministry by making decis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D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bout These Partnershi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know and communicate their principles (core values) and visio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challenge marketplace leaders to God’s call on their lives as wel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equip marketplace leaders to become spiritual leaders in their own aren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Do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bout These Partnerships</a:t>
            </a:r>
            <a:br>
              <a:rPr sz="24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0676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377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The Law of Significance – One is too small a number to achieve something great. 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(John Maxwell)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onathan and David</a:t>
            </a:r>
            <a:br>
              <a:rPr sz="4000"/>
            </a:b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(1 Samuel 18 - 20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89913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AVAIL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Do I have any ministry partner for whom I am completely availabl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EPEND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Am I dependable within the partnerships and relationships I am involved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VULNER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How vulnerable am I willing to become for someone els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RESPONSI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Do I act responsibly and in the best interests of others in my leadership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228600"/>
            <a:ext cx="8839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 Truth about Partnershi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are built o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RUS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openness and mutual concer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ting partnerships need a facilitator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ORDINAT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develop in order to accomplish a specific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IS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AS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levant partnerships begin by identifying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NEED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mong the people to be serv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tnerships are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CES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not a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152280"/>
            <a:ext cx="8839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The Truth about Partnershi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reat partnerships are even more challenging to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AINTAI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an to star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ruitful partnerships are made up of ministries who each have a clea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DENT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ELEBRA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e differences between the ministr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ting partnerships sta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OCUS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n the ultimate goals, not immediate proble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mart partnerships expec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BLEM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plan ahead for the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could speak into Saul’s life because he w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CU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in his call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able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FFIR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aul’s complementary role and honor him for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took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ITIATIV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anointed Saul for the ministry role he was to fulfil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instrumental in Saul receiving a new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EAR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serve peo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KE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in helping Saul use his spiritual gif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aul and Samuel</a:t>
            </a: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Every Ministry Leader Can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Lear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0" y="5410080"/>
            <a:ext cx="8839080" cy="12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-48744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not intimidated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VIOU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f Saul’s conques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able to speak words of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RECT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Sau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AY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UR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for Saul when he fail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could confront Saul when he sinned and provide hi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PECTIV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possessed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IRITUA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REDIBIL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call for repentance from Sau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7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aul and Samuel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067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inistry Leader’s role is illustrated b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AMUEL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layman’s role is illustrated b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AUL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issue ministry leaders must settle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ERSONAL SECURITY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issue marketplace leaders must settle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ERSONAL SUBMI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Ministry Leader often envies the layman’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UCCES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layman often envies the Ministry Leader’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IGNIFICANC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95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br>
              <a:rPr sz="28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>
              <a:lnSpc>
                <a:spcPct val="90000"/>
              </a:lnSpc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develop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IS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ig enough to attract successful laym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develop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GENEROUS SPIRI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enable pastors to fulfill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32720" indent="-432720">
              <a:lnSpc>
                <a:spcPct val="80000"/>
              </a:lnSpc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include laymen i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o they can own the minis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include pastors in both their finances and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ALEND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32720" indent="-432720">
              <a:lnSpc>
                <a:spcPct val="80000"/>
              </a:lnSpc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give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HURCH’S MINISTR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laym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give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IRITUAL GIFT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the church’s minis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What Every Leader Should </a:t>
            </a:r>
            <a:r>
              <a:rPr b="1" i="1" lang="en-US" sz="27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endParaRPr b="1" lang="en-US" sz="27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fail in this partnership because they 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IMIDAT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fail in this partnership because they 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DEPEND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can offer one thing that laymen want most –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ULFILLM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can offer one thing that Ministry Leaders need most –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OURCE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27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endParaRPr b="1" lang="en-US" sz="27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1T00:06:01Z</dcterms:modified>
  <cp:revision>69</cp:revision>
  <dc:subject/>
  <dc:title>Million Leaders Mandate</dc:title>
</cp:coreProperties>
</file>