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69B2B-E425-4892-96B1-5C46ED7A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66772-74A3-4AE9-B991-2C77C945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9B6C5-3CF2-451C-BD05-C3E93FA0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9395D-50D7-4925-9D41-BC4CE689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DC3B-8D25-4F01-BC07-A94E103D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631E-8605-4FAE-B706-55829513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0A30-A288-4CCC-8A9F-48F9F0BF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5F15-BEDC-4DF2-95CB-39B49FDC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C6BE-2015-40B9-A66D-9E0991F2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F6E6-0955-4F06-8649-0380E0C5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6748-EA60-4D19-8869-5A1B5018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4A633-0553-4E0A-80C3-A525D8AC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12BE-D21D-4C91-A13C-DC58096C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CD0E-CCB6-4CC2-926B-A4489A8C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15F6-A4EC-459B-B0A6-32A7CFB3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A3E8-CBBB-44AB-9348-36C328B6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0F45-A30D-46DF-8E14-49344D5C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3024E-4412-4044-9981-990C31E9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864BC-4A81-4A3E-AE7A-76B33D08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CEC1E-9ED8-4B88-9CE0-AF8F0427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5BB15-94ED-4FD4-ACF4-9D577B75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24C80-F2FE-4E15-9638-D75BB1FD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3B78D-04E8-4718-9FFF-4BAD7108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6EA6A-49A9-446C-B3F7-D76212F6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E425-BBE2-43E4-9CEB-3A99BC160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18C2-45F5-412B-9AD8-5EC3F7E65E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362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Principles for Getting the Job Don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ing Yourself and Your Organiz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ch Its Potent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152280" y="487440"/>
            <a:ext cx="8839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-305280"/>
            <a:ext cx="9067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726"/>
              </a:spcBef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lways giv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110%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. The Cop Outs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. The Hold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c. The Drop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. The All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on’t just fix things up temporarily, but make things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RIGH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evote yourself to what you do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BES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ccept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PRESSURE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of the moment or the position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CONSISTEN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in your lifestyle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Work as unto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LORD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7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ALKED ABOU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to Help People Remember What We S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ationsh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peti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ev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372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RAINED FO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asons Why People Fail to Perform Effective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A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are supposed to d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H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o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should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are obstacle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BEYOND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ir contro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s For Training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elect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Relate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Give them the tools they need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how them how to use the tool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Let them know your expectation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Watch them and give them specific feedback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tay with them until they experience succes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Check on them systematic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Affirm and encourage them continu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Together select someone for the trainee to train</a:t>
            </a:r>
            <a:r>
              <a:rPr b="1" lang="en-US" sz="3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220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r Goals Should B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ECIFI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LEV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ANSFE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BL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RON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as soon as possib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separate the person from the wrong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only what the person can chan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give the benefit of the doub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2962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.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s I specif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id I avoid sarcas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void words like “always” and “never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tell them how I felt about what they did wro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offer a plan to remedy the proble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ffirm them as a person and a frien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-4082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WARD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08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inters on Praising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genu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ok for opportun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y it fir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rivate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ublic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specifi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 to back up your words with act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t it in wri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lu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XCELLEN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n’t settle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VERAG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y attentio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TAI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velop a dee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IT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xcell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sses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GR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w Genui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ON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i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ver sto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PROVING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57:01Z</dcterms:modified>
  <cp:revision>58</cp:revision>
  <dc:subject/>
  <dc:title>Million Leaders Mandate</dc:title>
</cp:coreProperties>
</file>