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5E6A1-2367-4642-B64D-6A505B20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5F30F-EAEE-4837-9175-FF4817AC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2AA8A-3606-4688-8EB5-BC141FDF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413B5-1FAC-4DB2-86A5-2019CD19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7D6D-B343-4D16-8DC5-1B4B9832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7AB6-753E-46FD-8040-365D3EAB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42A3-8FDB-43B7-A904-DD0F7675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30C4-7EAC-46F8-B9A5-20447D23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3E43-3F29-4CB0-AA33-8654B953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4135-DFB8-43B6-AE1A-63AA07C1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4056-DC34-48A4-A3BD-2691D862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A3D73-499B-4CC8-BC99-6644B96E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A8E7-35A6-442C-80DA-6994AC25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FFF1-D472-4E3B-9C5E-6F7C11B9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3F7D-03E2-412F-A2AF-A63A2166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4F72-13BE-4970-B546-0C0F49C1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45D6-A548-490E-B117-12B9A506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7B78C-A8B5-4645-AB74-5FC84869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2A2CC-0B74-4F4E-8A94-EA3AA2C7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1A2F5-08C8-4443-A5B4-DC43208C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BBFB-7BE4-48F0-A2B1-0F370854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E3F8A-3D02-4C37-87B5-D674FF32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1BB98-1B0D-4F0D-B6F7-FC1AC61B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97997-7959-416B-90D4-883805EA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39FA-7EE0-4C8E-97FE-565CB43E7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25D4-E330-4C26-8965-BC28B4375A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nnecting with These Personality Types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anguin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ive the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TTEN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OV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Melancho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ognize their emotional need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NSITIV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holer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cate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ECIATE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Phlegmat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ar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lead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 and 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follow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 and 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cause the most problem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 and 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yal,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839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naturally gif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ved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nfluences most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some have a mix of personality typ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es. Most people do have a mi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76320" y="-766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96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Know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W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ersonalit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cognize the personality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INISTR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arn the different personalities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ill team positions b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lace the team members closest to you according to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EAKNESS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MOTIVATE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your team members according to their personality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Be careful not to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LABEL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peop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Teach you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bout the different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Form ministry teams with complementary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STRENGTH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nd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ead others from thei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sty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320" y="538200"/>
          <a:ext cx="9067680" cy="593712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9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82"/>
          <p:cNvSpPr/>
          <p:nvPr/>
        </p:nvSpPr>
        <p:spPr>
          <a:xfrm>
            <a:off x="76320" y="1219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19051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mo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37339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see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5562720" y="12193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operative grou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87"/>
          <p:cNvSpPr/>
          <p:nvPr/>
        </p:nvSpPr>
        <p:spPr>
          <a:xfrm>
            <a:off x="7391520" y="12193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erved perfectioni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8"/>
          <p:cNvSpPr/>
          <p:nvPr/>
        </p:nvSpPr>
        <p:spPr>
          <a:xfrm>
            <a:off x="76320" y="3962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der Press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89"/>
          <p:cNvSpPr/>
          <p:nvPr/>
        </p:nvSpPr>
        <p:spPr>
          <a:xfrm>
            <a:off x="19810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s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ati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90"/>
          <p:cNvSpPr/>
          <p:nvPr/>
        </p:nvSpPr>
        <p:spPr>
          <a:xfrm>
            <a:off x="38098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oti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mist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91"/>
          <p:cNvSpPr/>
          <p:nvPr/>
        </p:nvSpPr>
        <p:spPr>
          <a:xfrm>
            <a:off x="55627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s d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l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92"/>
          <p:cNvSpPr/>
          <p:nvPr/>
        </p:nvSpPr>
        <p:spPr>
          <a:xfrm>
            <a:off x="7391520" y="38862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ly criti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i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93"/>
          <p:cNvSpPr/>
          <p:nvPr/>
        </p:nvSpPr>
        <p:spPr>
          <a:xfrm>
            <a:off x="228600" y="3083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Sty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94"/>
          <p:cNvSpPr/>
          <p:nvPr/>
        </p:nvSpPr>
        <p:spPr>
          <a:xfrm>
            <a:off x="2082960" y="31082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re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95"/>
          <p:cNvSpPr/>
          <p:nvPr/>
        </p:nvSpPr>
        <p:spPr>
          <a:xfrm>
            <a:off x="3848040" y="3121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a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96"/>
          <p:cNvSpPr/>
          <p:nvPr/>
        </p:nvSpPr>
        <p:spPr>
          <a:xfrm>
            <a:off x="5715000" y="3121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biliz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97"/>
          <p:cNvSpPr/>
          <p:nvPr/>
        </p:nvSpPr>
        <p:spPr>
          <a:xfrm>
            <a:off x="7404120" y="3124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utio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98"/>
          <p:cNvSpPr/>
          <p:nvPr/>
        </p:nvSpPr>
        <p:spPr>
          <a:xfrm>
            <a:off x="76320" y="2171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 Tra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99"/>
          <p:cNvSpPr/>
          <p:nvPr/>
        </p:nvSpPr>
        <p:spPr>
          <a:xfrm>
            <a:off x="1905120" y="20178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al oriented Acts quick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00"/>
          <p:cNvSpPr/>
          <p:nvPr/>
        </p:nvSpPr>
        <p:spPr>
          <a:xfrm>
            <a:off x="369576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ergetic; inspi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01"/>
          <p:cNvSpPr/>
          <p:nvPr/>
        </p:nvSpPr>
        <p:spPr>
          <a:xfrm>
            <a:off x="5486400" y="200196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am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ady wor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02"/>
          <p:cNvSpPr/>
          <p:nvPr/>
        </p:nvSpPr>
        <p:spPr>
          <a:xfrm>
            <a:off x="731520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s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lans, organiz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1522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flict Respon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1981080" y="4724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733920" y="4724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ies to sell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n backs of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56386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nds to autho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7315200" y="47242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draws to prep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152280" y="56386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vorite Biblical Wo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1905120" y="5670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uitfu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38098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o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56386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74674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u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009800"/>
          <a:ext cx="9067680" cy="502416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5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6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42"/>
          <p:cNvSpPr/>
          <p:nvPr/>
        </p:nvSpPr>
        <p:spPr>
          <a:xfrm>
            <a:off x="114480" y="2492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1905120" y="2432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nerates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3809880" y="24321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lks about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5"/>
          <p:cNvSpPr/>
          <p:nvPr/>
        </p:nvSpPr>
        <p:spPr>
          <a:xfrm>
            <a:off x="5638680" y="2416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es the 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46"/>
          <p:cNvSpPr/>
          <p:nvPr/>
        </p:nvSpPr>
        <p:spPr>
          <a:xfrm>
            <a:off x="7391520" y="249228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 sure work is done r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76320" y="4572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F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1905120" y="457200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ing taken advantage o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3733920" y="45720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cial disapprov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55"/>
          <p:cNvSpPr/>
          <p:nvPr/>
        </p:nvSpPr>
        <p:spPr>
          <a:xfrm>
            <a:off x="5486400" y="4572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ss of 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7391520" y="45878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erfection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sorganiz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57"/>
          <p:cNvSpPr/>
          <p:nvPr/>
        </p:nvSpPr>
        <p:spPr>
          <a:xfrm>
            <a:off x="76320" y="355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1981080" y="3559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59"/>
          <p:cNvSpPr/>
          <p:nvPr/>
        </p:nvSpPr>
        <p:spPr>
          <a:xfrm>
            <a:off x="3733920" y="35593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kes to change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5562720" y="3559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to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7391520" y="3559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st justif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152280" y="16002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Resi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1905120" y="161604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criticis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3733920" y="16002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rej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55627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dden, vague chan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73915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iticism of work and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3"/>
          <p:cNvSpPr/>
          <p:nvPr/>
        </p:nvSpPr>
        <p:spPr>
          <a:xfrm>
            <a:off x="0" y="347760"/>
            <a:ext cx="906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2280" y="2830680"/>
            <a:ext cx="8915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ading Different Personali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Connect with the People Who Follow You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Lesson 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e Foundation for This Less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ople should b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IFFEREN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re is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VALU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in their differenc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0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ir personalities won’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HANG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hen the leader fails to understand and relate to the different personalities within the organization, problems result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9718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Good Leaders recognize the influence, the personalities, and the spiritual gifts of their people. They READ people, and then they LEAD people.</a:t>
            </a: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 and How to Spot Th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pul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ANGU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everything to be fun and are energized by peopl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is a bit messy with clutter and collectio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often crave people, activity and conversat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self-centere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Look at Me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br>
              <a:rPr sz="38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300" spc="-1" strike="noStrike">
                <a:solidFill>
                  <a:srgbClr val="ffffff"/>
                </a:solidFill>
                <a:latin typeface="Garamond"/>
              </a:rPr>
              <a:t>perfect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Garamond"/>
              </a:rPr>
              <a:t>MELANCHOLY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think anything worth doing is worth doing right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work space is tidy – everything is in its place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are detailed and are energized by thinking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often are a bit moody.They can be artistic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motto is, “Please understand me.”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99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werfu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HOLERI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to be in charge and are strong and are energized by setting goals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reflects more function than for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results and want it done their wa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demanding and impati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Do it my way, now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76320" y="990360"/>
            <a:ext cx="922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eacefu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are easy going, peaceful, happy and relax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work space is informal and sim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would rather not be involved if it causes confli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may miss deadlines and fail to reach goals because they are in no hur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motto is, “What difference will it make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05:09Z</dcterms:modified>
  <cp:revision>80</cp:revision>
  <dc:subject/>
  <dc:title>Million Leaders Mandate</dc:title>
</cp:coreProperties>
</file>