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BDCFE-10D5-4A93-A827-D94F3B2B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1499A-BC1F-42E3-904B-7F11E12B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0F9F3-29D0-4766-9346-5998133C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D6111-776D-4902-89E2-F610DFD03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F44B-77B6-424E-B127-6861D7C6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D490-C896-42BC-B979-09CA0D1F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2E43-BCF8-4D12-B824-590FD264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8A5D-8813-45D2-BB28-841069AC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24E7-AB50-4067-ADC2-204F5B80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69F8-5433-40B5-9931-901DAAF9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B7FC-F556-45DA-9685-CE848C40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5B1E2-D93B-4C3C-A8A4-4F54E61F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5751-1030-490E-A378-5AF55321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7207-1CF0-4C0A-AE15-38B62870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79EF-6A9E-4B30-AB75-54FCA958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7A84-E79A-48CB-A7B6-95CBC715A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D17D-B06B-4FF5-9444-C99364F9F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02996-5086-43CE-BE6C-6B20C7ED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88EAD-2E5A-494D-B508-BB79A5AA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E248E-3675-4B50-868C-5F5DCA82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17D6C-AC79-4BA5-B3AF-ECCF8FE8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92826-3F08-4E04-B9D2-076B72FC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45DA4-50D0-4040-9B8E-0674BF39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00B2D-AD3A-402D-9C38-1355F2EB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8270-27FE-4C37-8191-78BB14F55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B67A-5467-4E98-870D-704A210749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0"/>
          <p:cNvSpPr/>
          <p:nvPr/>
        </p:nvSpPr>
        <p:spPr>
          <a:xfrm>
            <a:off x="0" y="2362320"/>
            <a:ext cx="9144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Principles for Getting the Job Done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lping Yourself and Your Organization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ach Its Potenti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Lesson 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152280" y="487440"/>
            <a:ext cx="88394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tebook 5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-305280"/>
            <a:ext cx="90676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s to Excellence in Your Organizatio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lnSpc>
                <a:spcPct val="90000"/>
              </a:lnSpc>
              <a:spcBef>
                <a:spcPts val="726"/>
              </a:spcBef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lways giv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110%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. The Cop Outs 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b. The Hold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c. The Drop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. The All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on’t just fix things up temporarily, but make things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RIGH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evote yourself to what you do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BES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ccept th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PRESSURE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of the moment or the position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B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CONSISTEN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in your lifestyle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Work as unto th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LORD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7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2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7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2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7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523880"/>
            <a:ext cx="8991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ALKED ABOUT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ow to Help People Remember What We Sa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lationship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peti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levan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372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RAINED FO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asons Why People Fail to Perform Effectively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HAT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y are supposed to d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HOW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o do i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H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y should do i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re are obstacle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BEYOND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ir contro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ps For Training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elect well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Relate well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Give them the tools they need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how them how to use the tool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Let them know your expectation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Watch them and give them specific feedback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tay with them until they experience succes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Check on them systematically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Affirm and encourage them continually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Together select someone for the trainee to train</a:t>
            </a:r>
            <a:r>
              <a:rPr b="1" lang="en-US" sz="30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-7668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2203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56840" indent="-4568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ASUR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ur Goals Should B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ECIFIC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ASUR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CHIEV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LEV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RANSFER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BIBLIC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90676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RONT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 Checklist for Confronta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confront as soon as possibl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separate the person from the wrong ac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confront only what the person can chang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give the benefit of the doub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2962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Checklist for Confrontation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.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as I specific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f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id I avoid sarcas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avoid words like “always” and “never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tell them how I felt about what they did wrong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offer a plan to remedy the proble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affirm them as a person and a frien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228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408240" indent="-4082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WARD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08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inters on Praising Peo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e genu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ook for opportunit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y it firs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it privatel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it public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e specific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member to back up your words with action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ut it in writ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Keys to Excellence in Your Organization</a:t>
            </a:r>
            <a:endParaRPr b="1" lang="en-US" sz="31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alu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XCELLEN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n’t settle f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VERAG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y attention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TAI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velop a deep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MITM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excell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sses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GR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how Genuin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PEC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for oth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o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CON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i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ever stop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PROVING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0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5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0T20:57:01Z</dcterms:modified>
  <cp:revision>58</cp:revision>
  <dc:subject/>
  <dc:title>Million Leaders Mandate</dc:title>
</cp:coreProperties>
</file>