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A9CF-B5F2-4256-903C-8201E563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1339F-DD6B-45B7-9777-0D9BB8FB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3504E-03C3-469A-ADE7-A6739FB5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0A98E-B41D-4B59-B734-6AD6DBE0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0A3E-A76C-4CBF-96DC-E558125C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41FC-7BD3-4C0D-82CB-F6415D36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7397-709F-48DD-9D3B-1966C4E6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7148-370F-4D2C-A316-D63FF46F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66DD-F4BD-4DB5-9AA8-7873A0DF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5CAB-D49C-4A8E-9D8D-77FA9E59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8C21-1B21-492D-8907-2C0D9E3C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F6A41-99EE-4DC2-84CF-ED820069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9848-7232-4937-93FF-CE264B55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6F7F-6FAA-4AB8-8749-94ECCBDB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19C5-51D3-4823-8785-165BBB92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367B-02AC-42BC-B5FB-234671D9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0277-B208-448C-B920-60D9B854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D0607-145E-4CBE-8BDD-F80BE555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7D3E1-A627-4788-9659-7CDB38F8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B1EBE-0A78-49AD-B14D-7DD38EDB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1D046-8435-4F6B-8DDA-3FF563B8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DA396-4BAF-4B7E-BB44-2B010739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4BA26-292A-43CC-BB40-1F00FF38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110A9-D90F-41CD-B3BB-2D8A6CBA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24BA-EA0F-41E9-9591-4EF0AB89E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C802-961B-4AA7-9A39-14B7D301D3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971800"/>
            <a:ext cx="91440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The Power of Partnership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ving from Isolation to Cooperation in Your Ministry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52280" y="4237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become secure in their call and their role in marketplace leaders’ l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itiate relationship and partnership with marketplace lea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create places for marketplace leaders to use their gif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allow marketplace leaders to own the ministry by making deci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know and communicate their principles (core values) and vis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challenge marketplace leaders to God’s call on their lives as wel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equip marketplace leaders to become spiritual leaders in their own aren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br>
              <a:rPr sz="24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067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77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he Law of Significance – One is too small a number to achieve something great. 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(John Maxwell)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onathan and David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1 Samuel 18 - 20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VAIL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have any ministry partner for whom I am completely availa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PEND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Am I dependable within the partnerships and relationships I am involv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VULNER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How vulnerable am I willing to become for someone el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ESPONSI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act responsibly and in the best interests of others in my leadership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are built 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US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openness and mutual conce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need a facilitator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ORDINAT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develop in order to accomplish a specific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AS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levant partnerships begin by identify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EED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mong the people to be ser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tnerships are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CES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not 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reat partnerships are even more challenging to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AINTAI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an to st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uitful partnerships are made up of ministries who each have a cle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DENT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ELEBRA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 differences between the minist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sta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OCUS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n the ultimate goals, not immediate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mart partnerships expec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BLEM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plan ahead for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speak into Saul’s life because he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U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is call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FFIR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aul’s complementary role and honor him for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took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ITIA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anointed Saul for the ministry role he was to fulfi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instrumental in Saul receiving a new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A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erve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KE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elping Saul use his spiritual gif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Every Ministry Leader Can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r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5410080"/>
            <a:ext cx="883908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not intimidated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VIOU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f Saul’s conque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speak words of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AY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U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Saul when he fail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confront Saul when he sinned and provide hi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PEC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possess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REDIBIL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call for repentance from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inistry Leader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MUE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U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inistry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ECURIT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arketplace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UBMI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Ministry Leader often envies the layman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CCES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 often envies the Ministry Leader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IFICANC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br>
              <a:rPr sz="2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ig enough to attract successful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OUS SPIRI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nable pastors to fulfill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clude laymen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 they can own the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include pastors in both their finances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LEND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giv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HURCH’S MINIST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give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 GIF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the church’s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IMIDA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DEPEND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can offer one thing that laymen want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ULFILL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can offer one thing that Ministry Leaders need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OURC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1T00:06:01Z</dcterms:modified>
  <cp:revision>69</cp:revision>
  <dc:subject/>
  <dc:title>Million Leaders Mandate</dc:title>
</cp:coreProperties>
</file>