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4D33-4654-4404-8198-38C5051D5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620D-AC49-439F-9C91-74A1347F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F97C-983F-4486-9AE1-A2CA93565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DB50-979B-4231-925B-E1F31D1CF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4965-3BB9-45C6-98DF-A33DD284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3461-7656-450C-9DF6-68BA7C91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5699-227B-4FB2-82F7-39181AC0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A295-6824-4801-A63D-4EE403FD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E9FD-DA1F-4B2D-B325-0E21C493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069C-226C-4610-9258-35F38636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FDD7-7617-46CE-A59B-9E0378A5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0BB0-1215-41EA-8E65-B931BA33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8541-BE1E-423D-8EBB-A8697CC85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520" y="1981080"/>
            <a:ext cx="8450280" cy="4707000"/>
            <a:chOff x="533520" y="1981080"/>
            <a:chExt cx="8450280" cy="4707000"/>
          </a:xfrm>
        </p:grpSpPr>
        <p:sp>
          <p:nvSpPr>
            <p:cNvPr id="42" name=""/>
            <p:cNvSpPr/>
            <p:nvPr/>
          </p:nvSpPr>
          <p:spPr>
            <a:xfrm>
              <a:off x="533520" y="1981080"/>
              <a:ext cx="808812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99"/>
                  </a:solidFill>
                  <a:latin typeface="Arial"/>
                </a:rPr>
                <a:t>Using the EvangeCube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™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4800" spc="-1" strike="noStrike">
                  <a:solidFill>
                    <a:srgbClr val="000099"/>
                  </a:solidFill>
                  <a:latin typeface="Arial"/>
                </a:rPr>
                <a:t> to Lead a person to Jesus Christ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05520" y="6400800"/>
              <a:ext cx="3878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rinted by JESUS Film Harvest Partners Ministry of the Church of the Nazarene.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vangecube and graphics used by permission of Evangecube International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840" y="0"/>
            <a:ext cx="8947080" cy="6888600"/>
            <a:chOff x="-15840" y="0"/>
            <a:chExt cx="8947080" cy="68886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581280" y="0"/>
              <a:ext cx="5349960" cy="68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BELIEVE in Jesus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as your Savior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Romans 10: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penalty of sin is death, but eternal life through Jesus is a free gift from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6:2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alvation is a gift from God for the person who has faith in Jes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Ephesians 2:8-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at choice will you make? Will you trust in Jesus Christ to be forgiven and have eternal life? Or will you reject Jesus Christ and suffer eternal punishment?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90720"/>
            <a:ext cx="8077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sk “Would like to trust Jesus right now to be your Savior”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answer is “yes,” continue with this process, otherwise review appropriate concepts listed above to answer questions the person might h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0"/>
            <a:ext cx="838188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nner’s Pr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, thank you for loving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nfess that I have sinned against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believe that your Son, Jesus, died on the cross to pay for my sins and that you raised him from the d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now trust only in Jesus for forgiveness from my s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nfess that Jesus is my S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your gift of eternal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ray in Jesus’ name.  A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05320" y="76320"/>
              <a:ext cx="518148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became a CHILD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of God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1:12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en you trusted Jesus as your Savior, you became part of the family of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8: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will help strengthen our relationships with Jesus Christ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Corinthians 1: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aily live in God’s light to enjoy God’s blessing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1:7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8991720" cy="6858000"/>
            <a:chOff x="0" y="0"/>
            <a:chExt cx="8991720" cy="6858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581280" y="152280"/>
              <a:ext cx="5410440" cy="50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CROSSED fro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death to life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5:24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en you trusted Jesus as your Savior, you crossed from death to life.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(Romans 8:1-2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resurrected Jesus gives us life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Galatians 2:2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life Jesus gives is abundant and eternal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43080" y="502200"/>
            <a:ext cx="8724600" cy="5441400"/>
            <a:chOff x="343080" y="502200"/>
            <a:chExt cx="8724600" cy="5441400"/>
          </a:xfrm>
        </p:grpSpPr>
        <p:sp>
          <p:nvSpPr>
            <p:cNvPr id="81" name=""/>
            <p:cNvSpPr/>
            <p:nvPr/>
          </p:nvSpPr>
          <p:spPr>
            <a:xfrm>
              <a:off x="345960" y="502200"/>
              <a:ext cx="7645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80"/>
                  </a:solidFill>
                  <a:latin typeface="Arial"/>
                  <a:ea typeface="Times New Roman"/>
                </a:rPr>
                <a:t>Steps for New Followers of Christ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evancube7" descr=""/>
            <p:cNvPicPr/>
            <p:nvPr/>
          </p:nvPicPr>
          <p:blipFill>
            <a:blip r:embed="rId1"/>
            <a:stretch/>
          </p:blipFill>
          <p:spPr>
            <a:xfrm>
              <a:off x="4495680" y="13716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43080" y="1557360"/>
              <a:ext cx="4296960" cy="24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en the EvangeCub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s in the starting position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n the back side is this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age.  Use it to help th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w believer grow in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rist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457200"/>
            <a:ext cx="8763120" cy="5867280"/>
            <a:chOff x="228600" y="457200"/>
            <a:chExt cx="8763120" cy="586728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228600" y="1752480"/>
              <a:ext cx="440532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981080" y="457200"/>
              <a:ext cx="10573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951440" y="457200"/>
              <a:ext cx="404028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LOVE God and all people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Matthew 22:37-3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e respond to God’s love for us by loving God and each other.  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533520"/>
            <a:ext cx="8778960" cy="5867280"/>
            <a:chOff x="228600" y="533520"/>
            <a:chExt cx="8778960" cy="586728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876920" y="609480"/>
              <a:ext cx="413064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STUDY the Bible daily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Romans 15:4</a:t>
              </a: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Bible tells us how God wants us to live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2 Timothy 3:16-1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533520"/>
            <a:ext cx="8688240" cy="5867280"/>
            <a:chOff x="228600" y="533520"/>
            <a:chExt cx="8688240" cy="58672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876920" y="609480"/>
              <a:ext cx="4039920" cy="46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PRAY to God continually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Philippians 4:6</a:t>
              </a: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wants to have constant conversation with 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Thessalonians 5:17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alk to God about both your joys and concern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Ephesians 6:18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7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28600" y="533520"/>
            <a:ext cx="8686800" cy="5868720"/>
            <a:chOff x="228600" y="533520"/>
            <a:chExt cx="8686800" cy="5868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76920" y="685800"/>
              <a:ext cx="403848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MEET regularly with other Christians.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Hebrews 10:25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’ presence is especially evident when believers are together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18:20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04920" y="609480"/>
            <a:ext cx="8839080" cy="5639040"/>
            <a:chOff x="304920" y="609480"/>
            <a:chExt cx="8839080" cy="5639040"/>
          </a:xfrm>
        </p:grpSpPr>
        <p:sp>
          <p:nvSpPr>
            <p:cNvPr id="45" name=""/>
            <p:cNvSpPr/>
            <p:nvPr/>
          </p:nvSpPr>
          <p:spPr>
            <a:xfrm>
              <a:off x="4572000" y="609480"/>
              <a:ext cx="4572000" cy="56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GOD loves you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3:1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light represents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1: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is perfect and without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Psalm 18:3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loves us!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9,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doesn’t want us to perish, but to have everlasting life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2 Peter 3:9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304920" y="1295280"/>
              <a:ext cx="4176720" cy="438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8600" y="533520"/>
            <a:ext cx="8915400" cy="5867280"/>
            <a:chOff x="228600" y="533520"/>
            <a:chExt cx="8915400" cy="58672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800600" y="685800"/>
              <a:ext cx="4343400" cy="49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TELL others the good news about Jesu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1 Peter 3:15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lways be ready to tell others the good news about Jes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Acts 1: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elp spread the message of Jesus around the worl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19-20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304920" y="609480"/>
            <a:ext cx="8610480" cy="5171760"/>
            <a:chOff x="304920" y="609480"/>
            <a:chExt cx="8610480" cy="517176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304920" y="1219320"/>
              <a:ext cx="417672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572000" y="609480"/>
              <a:ext cx="4343400" cy="51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are a sinner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Romans 3:23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figure represents every perso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Isaiah 53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darkness represents our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3:1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in is a willful violation of God’s law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8: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ur sin separates us from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Isaiah 59:2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304920"/>
            <a:ext cx="8686800" cy="6248160"/>
            <a:chOff x="228600" y="304920"/>
            <a:chExt cx="8686800" cy="6248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31939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57600" y="304920"/>
              <a:ext cx="5257800" cy="39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died for your sin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Romans 5: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loved us so much that God sent Jesus to earth as a ma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loved us so much that He paid the price for our sin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3:16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379920"/>
            <a:chOff x="0" y="0"/>
            <a:chExt cx="9144000" cy="637992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80880" y="4915080"/>
              <a:ext cx="8229600" cy="14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was BURIED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1 Corinthians 15:3-4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en buried Jesus in a tomb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5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380280"/>
            <a:chOff x="0" y="0"/>
            <a:chExt cx="9144000" cy="638028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915080"/>
              <a:ext cx="8229600" cy="14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y rolled a huge stone in front of it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6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ldiers guarded the tomb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65-66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52280" y="228600"/>
            <a:ext cx="8763120" cy="6279840"/>
            <a:chOff x="152280" y="228600"/>
            <a:chExt cx="8763120" cy="627984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152280" y="1447920"/>
              <a:ext cx="457200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04920" y="304920"/>
              <a:ext cx="44956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God RAISED Jesu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1 Corinthians 15:3-4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95680" y="228600"/>
              <a:ext cx="4419720" cy="62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sent an angel to roll away the big stone and the soldiers ran away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2,1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raised Jesus from the dead!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on afterward God took Jesus back to heave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Luke 24:50-5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paid the price for our sin and Jesus conquered death.</a:t>
              </a: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Corinthians 15:3-4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067680" cy="6858000"/>
            <a:chOff x="0" y="0"/>
            <a:chExt cx="9067680" cy="6858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9880" y="114480"/>
              <a:ext cx="5257800" cy="43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is the onl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WAY to God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14:6</a:t>
              </a: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is the only way we can come to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Acts 4:1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rough Jesus we can be forgiven of all our sins and be with God forever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6:4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067320" cy="6858000"/>
            <a:chOff x="0" y="0"/>
            <a:chExt cx="9067320" cy="68580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4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09880" y="114120"/>
              <a:ext cx="5257440" cy="34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is the onl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WAY to God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ust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knowing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about these things is not enough! We must choose to put ou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faith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n Jesus, to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trust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Jesus to save us from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5:1-2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9:33:55Z</dcterms:created>
  <dc:creator>Gloria Wittmer</dc:creator>
  <dc:description/>
  <dc:language>en-US</dc:language>
  <cp:lastModifiedBy>Alissa Monterroso</cp:lastModifiedBy>
  <dcterms:modified xsi:type="dcterms:W3CDTF">2003-11-24T21:26:34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40063013</vt:r8>
  </property>
  <property fmtid="{D5CDD505-2E9C-101B-9397-08002B2CF9AE}" pid="3" name="_AuthorEmail">
    <vt:lpwstr>amonterroso@jfhp.org</vt:lpwstr>
  </property>
  <property fmtid="{D5CDD505-2E9C-101B-9397-08002B2CF9AE}" pid="4" name="_AuthorEmailDisplayName">
    <vt:lpwstr>Alissa Monterroso</vt:lpwstr>
  </property>
  <property fmtid="{D5CDD505-2E9C-101B-9397-08002B2CF9AE}" pid="5" name="_EmailSubject">
    <vt:lpwstr>English E-cube PPT</vt:lpwstr>
  </property>
</Properties>
</file>